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84D3-286D-49EF-AEDB-1F3B534C1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AD8F-F9F0-44D8-8DC7-641C06175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A140-5675-4B92-872B-DC086A69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B560-97CE-42BD-ADC3-C869F055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AB06-32C5-492C-B685-98E3CD47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6F2F-6F37-4221-A888-706492E8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09EB-45E6-42A9-A3A2-E6375351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1D94-2A79-4211-98CD-DDE1D08D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ADC4-CF50-40D6-A03F-0578EBE6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1C9-1FB9-4D07-8CE2-A4D48DC0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542D-318B-40FB-9ABA-E798C612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2E70-971B-4A03-A934-511E5D80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8BBA-7B8C-48FD-9B83-7C8B4E87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72A9-F022-42AA-AF55-39DFDFFD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EF6A-5798-4E55-AFE7-3ADABA0B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A3C3-5FFC-4AF2-87EC-BE8DF8CB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B8C4-F3F6-4414-8D43-CDB73B92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007B-BEEC-4967-8022-D07A7A05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4077-9356-4EFA-A615-2DC77FD6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ECEA-47E5-41BB-9666-9AFABA78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F169-B062-4784-BE0E-9A861F7E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6188-44EC-4E01-855B-74F05938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9B4A-E70F-4FDB-8D1A-8CB00C8C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BD6A-1947-4E5B-AD26-A3A5C533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DFD7-A6D9-42A9-867B-B9ED849C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973E-18A4-432B-9108-A5398E78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4757-E4E0-41E7-A61A-4B5FB06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A41D-7227-4CBB-8CB7-30ECDA5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9F2D2-5921-453E-8DC3-678E8BF2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DC52-86AE-4CCF-AE93-DA5A9C7C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91DB-7F05-4E23-9A52-9F3BA6E6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E23EC-28BE-4719-8D94-0D51FDE1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30EEC-3286-49F4-94CE-A4867D3BD0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6BC66-2425-4990-AA49-D470AECE87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44955-375B-47C7-9102-3FD82AF4C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8492-A2E1-4BEA-BE6F-821DCFC2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30D9F-D31C-49A2-BC12-2855F2192A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51534-BEA8-4833-A545-4477BB4523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3008F-38C4-47F6-AA3A-F6E42BBB09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F650B-15EC-4487-8D54-17C6E7B850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9045A-08DE-40A0-B330-49508F5FFA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8A629-DFC3-4D71-83F5-453B152E9D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C4B90-F6F1-4904-93C3-B159FD777F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4F895-A280-4529-B60E-C5F2B5EE93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00786-9AA9-4874-9459-BE79AC50D2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0645E-9273-42F3-9EF6-1DAB487C5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1968-C8E7-40C3-B2C0-0D5B26A5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B58D2-9694-481C-8F09-8AD28CD7F73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879E7-BF95-4A1F-AEFD-209BB73BCBF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A8119-B887-4E2C-9764-DC4B822558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3B1FA-87BC-4C46-BAD6-4326074561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AF365-917F-478D-8431-FD86ACD3EC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051D5-8A7F-4FA7-A6CF-E63EB05086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9038E-202A-4E58-BEED-CADBAB14BB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A9FFA-0D0F-4FF0-8D79-DE4560089D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024B6-A89F-468C-B00B-0E8C615964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EF09E-D846-49CD-B4C1-152880373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7740-7E6C-49B4-B5D0-26A7D51A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627DB-1BEA-4637-B872-03B85B78CFE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0E29B-7246-455A-9743-459BA80D982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212A9-1011-45C6-9E1D-A3636178AD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7671-F766-4519-A68B-686DF9BC58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274A0-6FE2-4FD7-8550-6E37712DB2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8D645-F1DC-4FE4-AC82-4FAA671387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5401-1A21-44A3-8B19-D626533BBC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BD8C-DC75-4FE9-996F-00B0618EDE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0CCE-6801-4FD0-9035-145E153301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A08D-1AE5-4D53-B832-795FDBD2A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4049-1D56-41BA-BAFB-F2AC460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7A11-8C23-4383-99A5-118870AB721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1771-7AEA-4837-B39A-760D56270E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45985-6F5C-4BA4-92C1-8A1351A480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4536-A735-4C47-96A1-A5CFB22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ACE4-0689-4A6B-BD8F-9A3B11BF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6EEE-ECF8-40E3-A774-8BEC640F4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A3E3-A4AE-4A66-9E68-2A60E069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2B6D-41A1-4C0D-8F88-0BDB42539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1931-E477-4B93-8D0B-BB51AE85F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DF94-AA2D-4C4B-B4B1-6D5F4E3FA730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ldNum" idx="11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EFBD-4974-4585-895E-15D506DBCA5B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ldNum" idx="12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9169-5048-40CE-AB0D-705B7A94F58C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D62-20E6-4499-8626-451CEA3BB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August 13,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D8B2-672A-42B3-B401-115EE04D0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457200" y="1201680"/>
            <a:ext cx="822960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date on BUS IDRRQ &amp; LRG Profile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5 AV (RES &amp; BUS)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favorable TDSP validatio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ve percent Profile change criteria test resul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 Decision Tree con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-level document arran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Q Rem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381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2025 AV RES and BUS Status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2E8F-3F07-42C2-8659-FEB29CCBBE99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99960" y="1676520"/>
          <a:ext cx="8286840" cy="2361960"/>
        </p:xfrm>
        <a:graphic>
          <a:graphicData uri="http://schemas.openxmlformats.org/drawingml/2006/table">
            <a:tbl>
              <a:tblPr/>
              <a:tblGrid>
                <a:gridCol w="1086120"/>
                <a:gridCol w="396720"/>
                <a:gridCol w="398520"/>
                <a:gridCol w="503280"/>
                <a:gridCol w="396720"/>
                <a:gridCol w="397080"/>
                <a:gridCol w="502920"/>
                <a:gridCol w="503280"/>
                <a:gridCol w="503280"/>
                <a:gridCol w="501840"/>
                <a:gridCol w="582480"/>
                <a:gridCol w="503280"/>
                <a:gridCol w="503280"/>
                <a:gridCol w="503280"/>
                <a:gridCol w="501480"/>
                <a:gridCol w="503280"/>
              </a:tblGrid>
              <a:tr h="1825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Validation Status as of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Jun-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C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5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7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6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9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 Subject to 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5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7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6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8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dated, as of  Jun-17-2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9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2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5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5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i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7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mpletion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er Load Profiling Guide, sec 11.2.1 (2) (a) vi, 99% is considered comple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381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Impact of Tweaking Profile Change Criteria for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3E0F-2305-42EE-A685-01B58CA4A2F3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324160" y="1143000"/>
          <a:ext cx="4495680" cy="1006560"/>
        </p:xfrm>
        <a:graphic>
          <a:graphicData uri="http://schemas.openxmlformats.org/drawingml/2006/table">
            <a:tbl>
              <a:tblPr/>
              <a:tblGrid>
                <a:gridCol w="2090520"/>
                <a:gridCol w="1202040"/>
                <a:gridCol w="1203120"/>
              </a:tblGrid>
              <a:tr h="25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 Met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 to 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 to 2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324160" y="2666880"/>
          <a:ext cx="4610160" cy="1257480"/>
        </p:xfrm>
        <a:graphic>
          <a:graphicData uri="http://schemas.openxmlformats.org/drawingml/2006/table">
            <a:tbl>
              <a:tblPr/>
              <a:tblGrid>
                <a:gridCol w="1692360"/>
                <a:gridCol w="1415880"/>
                <a:gridCol w="1501920"/>
              </a:tblGrid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e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 to 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 to 2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if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ignif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TextBox 2"/>
          <p:cNvSpPr/>
          <p:nvPr/>
        </p:nvSpPr>
        <p:spPr>
          <a:xfrm>
            <a:off x="304920" y="4800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percent method results in 10k fewer ESIID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es flip-flops and weather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nsus around load factor remaining unchanged if value is within 38%-42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6205-4FAA-4068-A701-C2A0055C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76320" y="1066680"/>
            <a:ext cx="8915400" cy="38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171"/>
                </a:solidFill>
                <a:latin typeface="Arial"/>
              </a:rPr>
              <a:t>PWG’s detailed review of LPGRR PDT Conversion to Word from Excel format contin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2941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Format conversion increases document searc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2941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Definitions section converting to tabl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2941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Self-evident FAQs removed, remaining instructive FAQs distribu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2941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DG template, Valid Profile IDs, and Zip-to-Zone tabs moved to Appen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Profile Decision Tree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40EC-2CF3-40BB-9ACD-7A0A7D167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76320" y="1066680"/>
            <a:ext cx="8915400" cy="49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[In-Person &amp; Webex]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Wednesday, August 13, 2025 @ 1:00 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lanned Agenda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MP BUSLRG conversion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5 BUS/RES AV update and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 Enhancements for BUS bandwidth LO/MED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going Profile Decision Tre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1"/>
          <p:cNvSpPr/>
          <p:nvPr/>
        </p:nvSpPr>
        <p:spPr>
          <a:xfrm>
            <a:off x="533520" y="2743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Upcoming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liler, Steven</cp:lastModifiedBy>
  <dcterms:modified xsi:type="dcterms:W3CDTF">2025-08-01T19:42:07Z</dcterms:modified>
  <cp:revision>1537</cp:revision>
  <dc:subject/>
  <dc:title>Instructions</dc:title>
</cp:coreProperties>
</file>