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6612-B1C3-4100-9776-BE23791B2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9A6-3832-4ADC-9367-0D9055E87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4F87-54D4-452B-B337-CB421EE4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534A-2C2E-47FE-94AD-96D942CD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B77B-8B34-4311-8865-C3644A55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36E5-C310-497E-921A-8A4F0823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7AE7-FBA4-4109-A992-5CE654D2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EC83-C837-4913-BDB6-8F460532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CE2E-99F0-4A43-BC80-F94BCABD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09C8-A309-4A0D-93D4-4C3F0A91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1719-2154-4FA9-A967-844C611F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416F-7EDA-4AC4-9CD4-B832E204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CB4C-059A-4950-AF4A-34FEFD41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571C-85B8-4424-A41A-D8F160C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89A6-E07C-40CF-AB01-4663086A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ABE6-5460-44CD-AFA2-96DEEA87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C742-2763-4D34-A8C4-1B1B886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1AF7-D315-4721-8579-58C10BC6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E13C-665A-46C1-B10E-7A260063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C197-9211-4D57-9A9B-CD3BB6C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06E-3B6E-4F5A-809B-3475BB8A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42EF-E17A-40AE-A3AB-EF8E44ED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F27A-22A5-4757-9461-1AB529CA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D4D2-8A93-40E9-BFE9-DF7DB4D4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8AA8-C394-468D-9064-77A54D7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E203-6A1B-45B8-9D50-9BF57C24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AE25-D884-491F-BE0C-51C9E7BE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8D63-0A43-4A39-84DC-19FBA6A2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E1BA-77CD-41D2-889D-9350C777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7550-BFC1-4FC7-920A-072757E9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4B9D-7FEA-4629-B046-528EFE6D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FEA8-B629-46DE-BE77-E7418BE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A69CE-3D88-4C00-A2C4-641CA46C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B9F3-DFC1-452B-B11D-12D9DE4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96E9-74B6-41CB-8D51-1EC2BDDF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8FEF-627D-4902-BEA9-18D91150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D42E4-D550-4A8A-99B6-D98E8B3F91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7B8D9-7F8A-477D-9C1B-6BEE15DB17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55EA8-A6BC-4673-B55A-9C61A6280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1E49-28D0-410F-8323-062B8787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13341-F990-4F37-A989-6F78DE1D3B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31C59-5245-43AC-90BE-F89EC9A5D1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F402C-FA48-498B-B69A-F9D8C5799A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E737E-AA33-4E9B-AB8E-E228F22FAC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52444-13F9-42F4-8D20-AB9E726518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641BB-CC8E-48E0-9E16-F3DFE5FB5D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09EEB-EE97-4086-AED1-AED9AC86E9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D2207-9112-4B87-8571-04ABEFC7AA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DC4EB-9554-44B1-BEEB-A6D6680B73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3BD13-D4CA-494C-A0C1-083943EC7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540E-4B52-49AF-81E5-EBC81141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673D3-B70C-4AFD-8069-3096C49AF2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B1405-7EF0-4B6B-95AE-9CBBED0764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06C51-F70D-4776-987B-19D57BB66D5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C3779-7FA1-442D-B00D-B455790FCB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CB482-D40F-451C-887A-C970C5F055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009FC-6384-4A3F-B291-B5E481AF60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2549D-16ED-4633-A352-907A832D099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F43D6-77EA-4E2E-816B-12352AF96E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1353C-94A3-4C12-B11F-59C78428CAD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E194C-5361-4ACB-BA33-E25748DBC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0E03-E97E-4102-ADED-31771B7F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6A009-B53A-484E-A605-89865491EE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E8B8-788E-4FB7-BF64-E9F1DAEF812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E206-8603-4A9C-80BA-B259F3870F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AD92-4D5E-4FC0-95D0-ED76D0234AC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10E5-4AA1-4D86-865B-DDB8A2AD66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77B1B-8761-4740-9C9F-71BC1F67387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555A-BC57-40F0-A600-4286DAD6551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05B4-5F6F-4855-913B-A5F7966785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38F7-6E16-45C1-80C4-E45D3D1131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E628-0DD6-43E4-A65D-4A0F54A88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BDA7-8B57-41B9-BD21-6DF7D245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690C-ADCF-466E-B72E-D2DFB85D62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E8B5-46AF-4F60-9B0A-B5B877371E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1686-3E19-4C04-9547-20BDCB7B86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ACB2-99A7-4F5C-BBC1-EB75325E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A060-F189-4ADD-A2B4-7A8A946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E6E4-7519-4346-98F5-B08DB9802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983-595A-4A80-8D46-2EA677FE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93B8-1D44-4EF6-9E41-3F61CFC32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C820-F044-49C5-AD37-5D0B875DA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5C95-17E3-4FEB-8C49-D6477777C997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ldNum" idx="11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721A-1F3F-43C6-9305-415F66EA3E94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ldNum" idx="12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CF3F-C9A7-4870-931C-462198DCA776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BB71-F233-4F5E-ABFC-ABDAB161C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June 12,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02A4-0DDE-438A-A63B-7B46D1E68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457200" y="1201680"/>
            <a:ext cx="82296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date on BUS IDRRQ &amp; LRG Profile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5 AV (RES &amp; BUS)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ture AV Discu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 Load Factor Frequenc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raft LPGR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an review of the conversion from Excel to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25 AV RES and BUS Status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068A-9688-46C1-BDC6-61BEBFA64F7B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1447920" y="47242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s are in the annual validation process.  The deadline for completion is September 30, 2025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1295280"/>
          <a:ext cx="8381880" cy="2895840"/>
        </p:xfrm>
        <a:graphic>
          <a:graphicData uri="http://schemas.openxmlformats.org/drawingml/2006/table">
            <a:tbl>
              <a:tblPr/>
              <a:tblGrid>
                <a:gridCol w="1098720"/>
                <a:gridCol w="401400"/>
                <a:gridCol w="401760"/>
                <a:gridCol w="509400"/>
                <a:gridCol w="401760"/>
                <a:gridCol w="403200"/>
                <a:gridCol w="507960"/>
                <a:gridCol w="507960"/>
                <a:gridCol w="509760"/>
                <a:gridCol w="507960"/>
                <a:gridCol w="588960"/>
                <a:gridCol w="509400"/>
                <a:gridCol w="508320"/>
                <a:gridCol w="507960"/>
                <a:gridCol w="509400"/>
                <a:gridCol w="507960"/>
              </a:tblGrid>
              <a:tr h="21276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idation Status as of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May-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C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5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7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6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9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 Subject to 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5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7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6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9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dated, as of  May-19-2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7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0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7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7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i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9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9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mpletion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er Load Profiling Guide, sec 11.2.1 (2) (a) vi, 99% is considered comple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25 AV:  BUS Load Factor Frequenc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6B35-47A5-49A3-9379-FCD0A48C0829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Chart 2" descr=""/>
          <p:cNvPicPr/>
          <p:nvPr/>
        </p:nvPicPr>
        <p:blipFill>
          <a:blip r:embed="rId1"/>
          <a:stretch/>
        </p:blipFill>
        <p:spPr>
          <a:xfrm>
            <a:off x="298440" y="987480"/>
            <a:ext cx="4584600" cy="28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3048120" y="3962520"/>
          <a:ext cx="5867280" cy="2011320"/>
        </p:xfrm>
        <a:graphic>
          <a:graphicData uri="http://schemas.openxmlformats.org/drawingml/2006/table">
            <a:tbl>
              <a:tblPr/>
              <a:tblGrid>
                <a:gridCol w="774720"/>
                <a:gridCol w="635040"/>
                <a:gridCol w="609480"/>
                <a:gridCol w="635040"/>
                <a:gridCol w="660240"/>
                <a:gridCol w="660600"/>
                <a:gridCol w="635040"/>
                <a:gridCol w="647640"/>
                <a:gridCol w="609480"/>
              </a:tblGrid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ptos Narrow"/>
                        </a:rPr>
                        <a:t>Load Fa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1560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ptos Narrow"/>
                        </a:rPr>
                        <a:t>CO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1560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ptos Narrow"/>
                        </a:rPr>
                        <a:t>E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1560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ptos Narrow"/>
                        </a:rPr>
                        <a:t>F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1560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ptos Narrow"/>
                        </a:rPr>
                        <a:t>NC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1560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ptos Narrow"/>
                        </a:rPr>
                        <a:t>NOR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1560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ptos Narrow"/>
                        </a:rPr>
                        <a:t>SC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1560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ptos Narrow"/>
                        </a:rPr>
                        <a:t>SOU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1560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ptos Narrow"/>
                        </a:rPr>
                        <a:t>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156082"/>
                    </a:solidFill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8,7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5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7,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7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6,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,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2,9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,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8,5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,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,1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4,8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,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8,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,7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6,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7,1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,5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,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8,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,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7,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,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5,4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9,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,5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3,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,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,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,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2,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5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3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0,4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,3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3,8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1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4,8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9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9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7,1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4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8,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7,9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6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,1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9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,4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7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,6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,5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6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,2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2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5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solidFill>
                      <a:srgbClr val="c0e6f5"/>
                    </a:solidFill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&gt;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44b3e1"/>
                      </a:solidFill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7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1,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ptos Narrow"/>
                        </a:rPr>
                        <a:t>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44b3e1"/>
                      </a:solidFill>
                    </a:lnR>
                    <a:lnT w="2880">
                      <a:solidFill>
                        <a:srgbClr val="44b3e1"/>
                      </a:solidFill>
                    </a:lnT>
                    <a:lnB w="2880">
                      <a:solidFill>
                        <a:srgbClr val="44b3e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TextBox 4"/>
          <p:cNvSpPr/>
          <p:nvPr/>
        </p:nvSpPr>
        <p:spPr>
          <a:xfrm>
            <a:off x="152280" y="597384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2024 loa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952880" y="1397160"/>
          <a:ext cx="4114800" cy="1928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age of ESI 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ad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– 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 – 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DF85-D346-4147-929D-72D6F513A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76320" y="1066680"/>
            <a:ext cx="8915400" cy="461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In Person and via Web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Wednesday, June 18, 2025 @ 9:30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lanned Agenda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raft LPGRR, Profile Decision Tree Conversion Excel to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Annual Validation Process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5 Annual Validation Update/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61"/>
          <p:cNvSpPr/>
          <p:nvPr/>
        </p:nvSpPr>
        <p:spPr>
          <a:xfrm>
            <a:off x="533520" y="2743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04840" y="29196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Gonzales, Nathan</cp:lastModifiedBy>
  <dcterms:modified xsi:type="dcterms:W3CDTF">2025-06-12T15:55:37Z</dcterms:modified>
  <cp:revision>1542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5c34e43d-0b77-4b2c-b224-1b46981ccfdb_Enabled">
    <vt:lpwstr>true</vt:lpwstr>
  </property>
  <property fmtid="{D5CDD505-2E9C-101B-9397-08002B2CF9AE}" pid="3" name="MSIP_Label_5c34e43d-0b77-4b2c-b224-1b46981ccfdb_Name">
    <vt:lpwstr>AEP Public</vt:lpwstr>
  </property>
  <property fmtid="{D5CDD505-2E9C-101B-9397-08002B2CF9AE}" pid="4" name="MSIP_Label_5c34e43d-0b77-4b2c-b224-1b46981ccfdb_SiteId">
    <vt:lpwstr>15f3c881-6b03-4ff6-8559-77bf5177818f</vt:lpwstr>
  </property>
  <property fmtid="{D5CDD505-2E9C-101B-9397-08002B2CF9AE}" pid="5" name="bjClsUserRVM">
    <vt:lpwstr>[]</vt:lpwstr>
  </property>
  <property fmtid="{D5CDD505-2E9C-101B-9397-08002B2CF9AE}" pid="6" name="bjDocumentLabelXML">
    <vt:lpwstr>&lt;?xml version="1.0" encoding="us-ascii"?&gt;&lt;sisl xmlns:xsd="http://www.w3.org/2001/XMLSchema" xmlns:xsi="http://www.w3.org/2001/XMLSchema-instance" sislVersion="0" policy="e9c0b8d7-bdb4-4fd3-b62a-f50327aaefce" origin="userSelected" xmlns="http://www.boldonj</vt:lpwstr>
  </property>
  <property fmtid="{D5CDD505-2E9C-101B-9397-08002B2CF9AE}" pid="7" name="bjDocumentLabelXML-0">
    <vt:lpwstr>ames.com/2008/01/sie/internal/label"&gt;&lt;element uid="c5f8eb12-5b27-439d-aaa6-3402af626fa3" value="" /&gt;&lt;element uid="d14f5c36-f44a-4315-b438-005cfe8f069f" value="" /&gt;&lt;/sisl&gt;</vt:lpwstr>
  </property>
  <property fmtid="{D5CDD505-2E9C-101B-9397-08002B2CF9AE}" pid="8" name="bjDocumentSecurityLabel">
    <vt:lpwstr>AEP Public</vt:lpwstr>
  </property>
  <property fmtid="{D5CDD505-2E9C-101B-9397-08002B2CF9AE}" pid="9" name="bjLabelHistoryID">
    <vt:lpwstr>{36147688-6063-41C3-9A18-BF99E05198DC}</vt:lpwstr>
  </property>
  <property fmtid="{D5CDD505-2E9C-101B-9397-08002B2CF9AE}" pid="10" name="bjSaver">
    <vt:lpwstr>visHhHtKVGysQCGivR1/6nq9MycZU63t</vt:lpwstr>
  </property>
  <property fmtid="{D5CDD505-2E9C-101B-9397-08002B2CF9AE}" pid="11" name="docIndexRef">
    <vt:lpwstr>701e6f9a-a75c-4221-b8f6-500baa21f99d</vt:lpwstr>
  </property>
</Properties>
</file>