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B94F-60AC-47AB-BE14-72A08D1CF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F9BD-2D2B-478B-B965-16BE1951F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BDF9-BFC8-4FA4-B12E-64AD1916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EC98-DF11-47EE-96A1-A85BAAD2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C207-15F7-4B09-9C40-7EC1B882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8F42-C238-4E8F-8BFC-EF40072C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065C-0AB5-4B81-A647-44B09608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F88D-8E22-4821-852C-49F5B464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97D5-A87C-4860-A19D-8FBB4A3F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7F12-313C-4C79-BD3B-F08138C5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6396-EC1B-48BA-81D9-D86CD76A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5891-C63F-45B3-83E2-28FB86B8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F757-A64D-4015-A759-4BEF0EE0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4271-A1F7-41CC-B4E1-F46CC733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57F0-D953-491C-A347-0178D78C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CACD-0E64-424C-83E0-8F9A2FE2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0A53-29C9-4235-83A5-EF3E7E8C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4C7B-8166-48E8-8289-DAABCA15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50C9-49D4-4548-A5C4-0BAFCF10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B5630-3D39-403B-A523-C2EE36AF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541B9-E2CB-447C-81C8-56B81998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3CDE6-7E79-4665-8155-BA389A12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D0E3-3943-47AF-875B-B347D9FB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85C9-E55A-411D-8FA6-B4A35CFB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FAAA-F898-479C-BD06-10E59CEE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35A29-87DF-44BF-B01A-0BBBB534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26A1-3E5B-4A5C-8F35-45956E26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5BBD5-323E-4843-91BB-727F1288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FCD6-1F88-4A0E-8F88-5A4F9406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F702D-3967-4C5F-BF75-6B72625A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FD61-A8C5-4147-BA00-87349110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7D360-3753-4911-A8C3-9D4C8906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A9989-11CD-48C6-8915-358E335107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5DB101-AA4E-46CE-845E-3D65F196DC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9DD300-83B1-44A7-A22A-64A2F42D9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B23D-052A-435A-8A6B-44DDA11F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E9191F-9B68-4FC6-AAA9-19D1759D23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C4AE6-4A4A-40C2-A699-FA4CA8F123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F2E9C4-7CC1-494A-A0D5-82CFE636DB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2A934F-6045-4DC3-A1E8-6DECFC9232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C05C98-0CAC-4741-B3CC-1DE9C77594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C7DB49-9995-4060-B902-77ECEF865C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5A0BD0-22F9-4954-A9A8-63BEB92A07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20E22-8314-48B5-BFAB-DC0392BD73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1EFDA4-9E1A-410B-8181-807644FB6DD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ACCA66-8648-40DC-AD66-898889A3C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9268-D39A-4CD9-BC41-1A979A8D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297576-9309-43D1-A764-1D33134A243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E33EEE-8940-4BD6-87E6-B0E2EDFB985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78050-34EB-4FEB-84C3-199BADC4DB5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F948A-01CC-4395-A7EA-0655E94563B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52D5E1-0550-4405-A3AB-E5422F5B1CD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31789-A807-462D-9EF5-035118DA9EE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9B5611-9B09-4EEA-A606-046146BE4B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630285-D733-44BC-B594-43AD34893C1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1C2A1A-4813-4CC4-9BCF-13A19D8D9F0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018032-C12B-4922-A87F-A9CF22FE8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BF2B-E2E3-4D44-B791-69D2F36A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A2DE67-E043-47AD-9AA9-6401F4F21EF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A57E4-88A8-4782-AB66-E49F09E3E56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FF587-DA97-470B-AF10-20F14454B91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11625-098F-433B-8CD2-63408A6EDA0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1E191-259A-4669-8258-2F14D602741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219DA-BA40-45E8-86E7-75917761701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4120B-00D8-4173-9A48-8BEC929DF2F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17AAF-67E4-40F9-872B-0FBFB2FB8AC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6ACC8-2B6C-4359-9430-02FD6B2E0AD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AE451-1BAD-46F6-80BF-AC7DC2851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0609-15FD-4863-B5C0-1EE29DEB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414A7-579E-4B2C-BA5B-1B179459C01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7936E-81E4-42B2-919D-EDEF5EBEE18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169C5-D8E7-4131-8E8E-3A07BF76DD6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FCBE-7DA3-4761-A21A-E77FD743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8C95-21F3-40F4-98A5-3E8DE1E0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9BA1-CD85-4444-A7D1-666D27D43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5F46-B6B5-4292-A2FC-317EFD332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8364-B419-420C-8D58-DA8F4A5D2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187B-6972-4F0D-9B8B-3FED0224F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76D7-53F8-4423-AA29-3EB6EA0EFDA7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sldNum" idx="11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0F55-FE2A-4AE4-900B-D2500A98AAE0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ldNum" idx="12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81A7-A084-4A10-9F1C-E061101ED8AF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59A4-C583-4300-AEF8-4BDB83C69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Profiling Working Group (PW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May 13, 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teve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Bill Snyder (A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9B05-91F7-4F7F-B619-01BF065D6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457200" y="1201680"/>
            <a:ext cx="82296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date on BUS IDRRQ &amp; LRG Profile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25 AV (RES &amp; BUS)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itial numbers have been comp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ture AV Discu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p-flops among LO-MED and MED-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2025 AV RES Change Comparison by TD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4343400" y="65689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B3D1-A3F4-4078-A398-90EA389A0886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61800" y="1725480"/>
          <a:ext cx="8248680" cy="2084400"/>
        </p:xfrm>
        <a:graphic>
          <a:graphicData uri="http://schemas.openxmlformats.org/drawingml/2006/table">
            <a:tbl>
              <a:tblPr/>
              <a:tblGrid>
                <a:gridCol w="1101960"/>
                <a:gridCol w="576000"/>
                <a:gridCol w="574920"/>
                <a:gridCol w="574560"/>
                <a:gridCol w="574560"/>
                <a:gridCol w="665280"/>
                <a:gridCol w="574560"/>
                <a:gridCol w="157320"/>
                <a:gridCol w="574560"/>
                <a:gridCol w="574920"/>
                <a:gridCol w="574560"/>
                <a:gridCol w="576360"/>
                <a:gridCol w="574560"/>
                <a:gridCol w="574560"/>
              </a:tblGrid>
              <a:tr h="265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LOWR to RESHIW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HIWR to RESLOW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-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-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DS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46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9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09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5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c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6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4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05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68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8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0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NM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6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6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7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2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2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P TX Cent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5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8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46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P TX Nor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9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7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2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56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47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,2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7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6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,5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TextBox 2"/>
          <p:cNvSpPr/>
          <p:nvPr/>
        </p:nvSpPr>
        <p:spPr>
          <a:xfrm>
            <a:off x="1447920" y="434340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consistency in the residential TDSP change percentages.  The residential AV pause during the previous AV cycle contributed to the count increas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2025 AV RES Change Comparison by Weather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4343400" y="65689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A8CA-847A-4208-85F8-B5A50CC823A4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19040" y="1600200"/>
          <a:ext cx="8267760" cy="2743200"/>
        </p:xfrm>
        <a:graphic>
          <a:graphicData uri="http://schemas.openxmlformats.org/drawingml/2006/table">
            <a:tbl>
              <a:tblPr/>
              <a:tblGrid>
                <a:gridCol w="944640"/>
                <a:gridCol w="588960"/>
                <a:gridCol w="587520"/>
                <a:gridCol w="588960"/>
                <a:gridCol w="588960"/>
                <a:gridCol w="671400"/>
                <a:gridCol w="569880"/>
                <a:gridCol w="195120"/>
                <a:gridCol w="588960"/>
                <a:gridCol w="588960"/>
                <a:gridCol w="588960"/>
                <a:gridCol w="587520"/>
                <a:gridCol w="588960"/>
                <a:gridCol w="588960"/>
              </a:tblGrid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LOWR to RESHIW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HIWR to RESLOW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-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-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-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-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z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11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1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6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8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7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8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W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7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56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8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9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99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98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7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2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4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0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6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56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47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,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7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6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TextBox 2"/>
          <p:cNvSpPr/>
          <p:nvPr/>
        </p:nvSpPr>
        <p:spPr>
          <a:xfrm>
            <a:off x="1447920" y="47242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fault profile is RESLOWR for the Coast and Fwest weather zones, affecting the number of LO to HI change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244440"/>
            <a:ext cx="83818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2025 AV BUS Change History by Profil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4343400" y="65689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F9D2-0E8C-45A9-A288-BAE920CC26BF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447920" y="914400"/>
          <a:ext cx="5333760" cy="4724280"/>
        </p:xfrm>
        <a:graphic>
          <a:graphicData uri="http://schemas.openxmlformats.org/drawingml/2006/table">
            <a:tbl>
              <a:tblPr/>
              <a:tblGrid>
                <a:gridCol w="766800"/>
                <a:gridCol w="955440"/>
                <a:gridCol w="722520"/>
                <a:gridCol w="722160"/>
                <a:gridCol w="722160"/>
                <a:gridCol w="722520"/>
                <a:gridCol w="722160"/>
              </a:tblGrid>
              <a:tr h="37296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AL VALIDATION  BUSINESS CHAN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t Profi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rofi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HID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MEDD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HIL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LOL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3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HIL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MEDL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3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1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4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6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1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HIP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LOP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HIP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MEDP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HIW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MEDW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LOD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MEDD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HIW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LOW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68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LOL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HIL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9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5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7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5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6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LOL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MEDL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8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9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02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11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35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LOP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MEDP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LOP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HIP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LOW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MEDW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MEDD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HID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68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MEDD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LOD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MEDL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HIL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2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8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9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4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5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MEDL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LOL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72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2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7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7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44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MEDP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HIP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MEDP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LOP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MEDW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LOW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68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MEDW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HIW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Change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49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73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66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35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80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 ESIIDs in Populatio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3,38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8,82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8,44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4,40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0,52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Chang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TextBox 4"/>
          <p:cNvSpPr/>
          <p:nvPr/>
        </p:nvSpPr>
        <p:spPr>
          <a:xfrm>
            <a:off x="802440" y="594360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business AV changes is distributed as exp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244440"/>
            <a:ext cx="83818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2025 AV BUS Change History by TD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4343400" y="65689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E1C5-84A7-460A-81CA-65D8B890FC97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447920" y="1371600"/>
          <a:ext cx="5790960" cy="4572000"/>
        </p:xfrm>
        <a:graphic>
          <a:graphicData uri="http://schemas.openxmlformats.org/drawingml/2006/table">
            <a:tbl>
              <a:tblPr/>
              <a:tblGrid>
                <a:gridCol w="1319040"/>
                <a:gridCol w="98640"/>
                <a:gridCol w="637920"/>
                <a:gridCol w="704880"/>
                <a:gridCol w="98640"/>
                <a:gridCol w="637920"/>
                <a:gridCol w="704880"/>
                <a:gridCol w="114480"/>
                <a:gridCol w="769680"/>
                <a:gridCol w="704880"/>
              </a:tblGrid>
              <a:tr h="34452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al Validation-Business Breakdown by TD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D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1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9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0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c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0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9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N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P Cent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4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P 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Chan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4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7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5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D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4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2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c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9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9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N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P Cent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6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P 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Chan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3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8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244440"/>
            <a:ext cx="83818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The Circular Nature of Profil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4343400" y="65689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CBB0-422F-4327-8A23-8A3AE73FD6D3}" type="slidenum">
              <a:rPr b="0" lang="en-US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Chart 5"/>
          <p:cNvGraphicFramePr/>
          <p:nvPr/>
        </p:nvGraphicFramePr>
        <p:xfrm>
          <a:off x="101520" y="871560"/>
          <a:ext cx="4673520" cy="284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871560"/>
                    <a:ext cx="467352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Chart 7"/>
          <p:cNvGraphicFramePr/>
          <p:nvPr/>
        </p:nvGraphicFramePr>
        <p:xfrm>
          <a:off x="4368960" y="3301920"/>
          <a:ext cx="4673520" cy="2844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2" name="Char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8960" y="3301920"/>
                    <a:ext cx="467352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3534-FF04-4EE9-BE72-AA37EA0DE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76320" y="1066680"/>
            <a:ext cx="8915400" cy="461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Next PWG meeting [In-Person]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Wednesday, May 21, 2025 @ 9:30 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Planned Agenda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Draft LPGRR, Profile Decision Tree Conversion Excel to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Annual Validation Process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5 Annual Validation Update/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61"/>
          <p:cNvSpPr/>
          <p:nvPr/>
        </p:nvSpPr>
        <p:spPr>
          <a:xfrm>
            <a:off x="533520" y="2743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liler, Steven</cp:lastModifiedBy>
  <dcterms:modified xsi:type="dcterms:W3CDTF">2025-05-06T20:36:22Z</dcterms:modified>
  <cp:revision>1524</cp:revision>
  <dc:subject/>
  <dc:title>Instructions</dc:title>
</cp:coreProperties>
</file>