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B558-6B84-43C2-8A96-ACF6727A4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0D57-270B-462C-86F6-59DB35A92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C059-010D-4F98-97C6-C9686F5E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07B9-E71B-453B-9A8B-52443D02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E648-79CB-4007-B8B9-059B053D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063A-89B5-4059-94C4-56BFC8EA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7030-B876-4616-B712-E2C10550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6177-3435-4F06-910E-8BA9DB33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EDC4-1560-4E4E-8D9B-44226A4B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88B6-745C-43A7-BAAE-D26B988F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EA8A-E4DE-4A04-A990-EFCDA2A0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1E11-9CB5-40EF-A78C-5CA7B060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BDB5-F40A-4DA6-BD2F-36DBE66B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5417-4D7C-42CC-A363-8C2E9A7C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88FD-AA50-4072-8E5C-C04BA01C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FF72-481B-45C8-B427-C39BB95C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C7B6-4602-4E23-9C04-B973B23B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AABC-4F37-4F24-9EFC-08A6484E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1200-59C6-4B7C-A753-850B4A45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0B800-7E4D-4C20-AD3D-8E891EF6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7CA2F-9731-4C37-886C-CDFD0462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80D79-B391-4B19-8481-6F17C272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36721-228F-48BF-8901-3E022801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B5AB-2A28-4332-8B5C-2CE9E2B0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53E3-A20C-4B25-B313-BB137BD4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888AC-D8CD-4257-8E3F-E69FC83F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D9756-3DD3-46C1-8A30-FE5DFB99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80F5-9141-4ACA-B87B-D4AA0FE5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67CC0-3027-42C1-8727-B7047987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6020-58FC-45AD-AF21-AECA9021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B704E-5BA6-40A6-B1CD-BC406A88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5A975-7E2D-4BE0-9AD2-9E138D5E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05B76-A717-4CF9-B5A8-570D8C84A4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5AE1F1-A910-43A4-B0F1-ABE8A40DB1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32A4F4-B950-4637-898F-4415C8702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AD72-C570-40B6-BF49-1F8ACDF7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49A28-988F-4FEF-852E-98A09905BA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64EC8C-82F4-43F8-B3D8-49A8329507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8A4DDF-8262-434B-9CE0-480072F4D8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629932-C157-4F23-B424-C2D32D8C96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864C9-9264-47AD-A71B-8E799D4AD3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F4C072-8A3C-4974-9B3D-0DC9192F24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298BC7-BE47-4B78-BC50-ADA059F516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1DE65D-3792-4D44-BF01-42ED0104D5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72A9D9-3A47-41BC-B057-F8E90483CC5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72C8-191D-44AF-A7D5-7A85F077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3619-FFC4-434D-BA25-081736FC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C852-1E41-4D38-94DC-B28443B4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56A7-45DF-4149-99A3-77D7B939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EB65-DCD0-4E5D-8EA0-E66D826B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3F77-F65E-43AF-8F18-FE0C34214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5F1A-6A95-41BC-BAE4-F3B5BBDB2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3A04-7A15-47A5-A53A-1988E3EF8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A0BA-9DD6-4A75-8701-411C5158C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313E-786F-4655-A593-FB72A9695970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88D6-A827-4739-A5AF-48DD7CA81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April 1, 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E6B2-2674-4867-AB1B-242B27B13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457200" y="1201680"/>
            <a:ext cx="82296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date on BUS IDRRQ &amp; LRG Profile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25 AV (RES &amp; BUS) Kick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notified TDSPs in early March with MT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ture AV Discu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dential HI/LO WR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 CDDs/HDDs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LO/MED/HI Load Factor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40% Avg LF for LO a reasonable thresho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AAA9-4745-4396-8491-F3D7AC3CA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76320" y="1066680"/>
            <a:ext cx="891540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Monday, Apr 28, 2025 @ 1:00 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WebEx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Planned Agenda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5 Annual Validation Update/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Annual Validation Process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Draft LPGRR, Profile Decision Tree Conversion Excel to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1"/>
          <p:cNvSpPr/>
          <p:nvPr/>
        </p:nvSpPr>
        <p:spPr>
          <a:xfrm>
            <a:off x="533520" y="245124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5-03-27T17:50:39Z</dcterms:modified>
  <cp:revision>1513</cp:revision>
  <dc:subject/>
  <dc:title>Instructions</dc:title>
</cp:coreProperties>
</file>