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6B4-7EDF-42E1-BCE0-7793177BB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C52-9C88-4C1C-AE17-32C7D9A2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C310-7960-4391-A8EE-F6D49F4D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81E2-D94E-4196-8AC4-919E8BFE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DA5C-C95C-4E5D-9652-207B3F2B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D35A-CD74-487D-B721-F5F36F0A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8F71-6760-4FF6-A5F1-2BC24EB8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D9B1-E20D-4745-8002-24344B1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F45D-5928-48EC-AA5A-3AA8E505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4022-469F-4EB4-B0F2-DD83018C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E7FE-A3F7-420F-9AD9-2C54F2A1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B50D-C36D-4FE6-BD4F-56257F92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0F1-7560-4331-9F02-28297AB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81C2-4A72-4908-84DE-C9D50192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BA5B-9367-4769-BEC9-31E5B38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062-EF56-42A5-AAC3-C37C938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DF1B-541C-45F8-B63C-878B3484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BF8B-FFB7-4ACE-8C74-7DAE3D97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4D6A-1B9C-4490-9EC8-35ED4806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5F19-D473-4072-B0B9-7D5838E6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C1E4-8669-4FA5-85D8-8D11D11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9519-C365-47F0-82B5-3757DE4B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BB2D-E29F-446F-B6AC-5077723B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D997-F22B-4686-A04E-D36DA0E5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867B-F017-4531-9076-46204825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94D4-084E-4F07-BAB4-9D20735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89FD-5F9A-4491-BE45-7DCFD5B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B99C-56DE-47EF-A344-7D33F76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53D2-C24B-43C0-B4B8-D9D739F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4E81-4793-4DDD-8E8C-87B0286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8126-BD4E-4D0D-88EB-E6B1CB48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F71B-4D26-4124-B64A-9E2AE4C4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A0D3D-9CC9-4281-9339-74B8F97ACA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80EF6-F4CF-4D3D-9155-49326B7DFD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EBEB2-C8E2-432A-B6BF-A49A404BF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9090-2982-4F70-BAA0-C8D74E29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82355-B733-4D7A-B931-EEE7655877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FA954-70A3-4CF0-A54C-1EFA49F666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FCA21-9781-4C0F-B648-F0CFEE38B6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F3DD1-EF82-45DF-BBB8-7285D7D056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1F34F-48D7-46A2-9043-C0FC901E68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A2B4F-8ABD-4FA6-858F-0DC98A9ADF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2CFDF-C430-46A7-B15A-9DC8ED41F8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B6703-5376-4A09-B55D-A618409B98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B8729-581D-44F4-A948-DEA0B51EEB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BB83-3132-4167-BC29-A3F11E5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6B99-C5AB-493A-B3AB-4A55159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AACF-367C-409F-B732-1BD3DA8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EBEB-F313-4137-9CE9-4B543FB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9A0A-BB92-4D53-90B4-A3D4F244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D579-DC3A-4A6A-AA0B-329364A84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F19D-8896-4B0F-8BE3-B918C87B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CE9-1511-4D27-BE41-1E878D694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8A5-F87D-4646-892C-CF3DB317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5E8E-CCBA-4FD0-AE2E-E9C669E942CA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229B-B9B6-41D6-A1DA-6DCA0C7B7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February 11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5 PWG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6DF6-7B23-4F59-96C3-B2A9CFEB7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201680"/>
            <a:ext cx="89154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on BUS IDRRQ &amp; LRG Profile 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NMP to begin conversions in 2025 and should finish in Q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370 to move to BUSLRG with ~92 to remain as BUSIDR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A screenshot of a computer&#10;&#10;Description automatically generated"/>
          <p:cNvPicPr/>
          <p:nvPr/>
        </p:nvPicPr>
        <p:blipFill>
          <a:blip r:embed="rId1"/>
          <a:stretch/>
        </p:blipFill>
        <p:spPr>
          <a:xfrm>
            <a:off x="685800" y="2743200"/>
            <a:ext cx="7467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EF35-494F-4B12-9BF8-46888443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114480" y="1219320"/>
            <a:ext cx="891540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ification on Current Annual Validation Proces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nfi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clusion of De-energized/Inactive/Retired ESI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SII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de-energ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between 12/31/24 and 2/28/25 would be ex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clusion of BUSNODEM, BUSIDRRQ, BUSLRG, BUSOGFLT, NMLIGHT, NMFLT, and PV (WD/DG) loa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xclusion of No Usage Months for BUS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Confirmation of monthly BUS Max Meter Demand Factor is based on calendar period not billing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663-CC26-4B99-887A-6C342314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114480" y="1219320"/>
            <a:ext cx="89154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nnual Validation Processing Kickoff Prepa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ERCOT to evaluate both RES &amp; BUS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AV processing to kickoff toward end of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DSPs to be notified via MarkeTrak by mid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ture Annual Validation Enhanc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ebruar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PWG meeting will be dedicated on this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n-person meeting for Februar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to help facilitate a whiteboard work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Goal is to help minimize TDSP AV processing and provide market with most accurate loa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135C-76F3-4BC6-8959-6C895A8F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380880" y="1011240"/>
            <a:ext cx="830592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4 PWG Accomplish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ecommended suspension of 2024 Annual Valida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orked with ERCOT Forecasting Team to compare the beginning of AV against the current AV/Load Profile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ssessing and evaluating existing process of Profile Decision Tree methodology for BUS &amp; RES profiles and as it relates to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eviewed draft LPGRR on conversion of Excel to Word format: LPG Appendix D, Profile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Memorialized and posted Purpose and Needs for Load Profiles and Annual Validation to PWG main page (to be reviewed annu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PWG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xplore enhancements to future AV process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Engage in market efforts related to load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upport and update continuing efforts for IDR/AMS transi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Review enhancements to Load Profiling Guide where ap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3C8-E1E3-4037-9FBA-531BB34C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28600" y="1066680"/>
            <a:ext cx="8763120" cy="38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[In-Person]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Wednesday, Feb 13, 2025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rimary Discuss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Load Profil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1"/>
          <p:cNvSpPr/>
          <p:nvPr/>
        </p:nvSpPr>
        <p:spPr>
          <a:xfrm>
            <a:off x="533520" y="256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5-02-04T22:33:59Z</dcterms:modified>
  <cp:revision>1501</cp:revision>
  <dc:subject/>
  <dc:title>Instructions</dc:title>
</cp:coreProperties>
</file>