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CAC5-E581-4913-9153-EA21DCE07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Header Placeholder 3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E488-B3A1-4998-B607-A5F4EE490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Header Placeholder 3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B753-CC4A-4343-B27C-328826B189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der Placeholder 3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B815-B421-4720-8488-33D5A1BC8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0ABE-C84E-456B-9B0D-E19ECB47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7F74-B5C5-4C5C-B39C-F1140E45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B77B-2180-4609-9C72-C83B2D7A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19CA-18BB-4AF9-B237-955A16AA2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C25D-0218-4239-B6CB-AD1FA3D4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6017-7C45-409C-B723-8D1C8C5A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8A7D-F450-4575-978E-90638E5F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C706-26E0-41E9-82C8-92288BCD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E3D8-49FD-4352-9E15-A1ABFBE3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52BF-DEEA-47E5-8C6C-5A02CE06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15EE-2DA7-41B7-8341-DF2D750B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E291-BBCD-40A7-835C-D722D88E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2144-4790-456A-96BD-931900ACF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282600" y="1320840"/>
            <a:ext cx="8458200" cy="277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Users\wtso904\AppData\Local\Microsoft\Windows\Temporary Internet Files\Content.IE5\0ACU8OHD\TEXAS_Tag_RGB_RG.jpg"/>
          <p:cNvPicPr/>
          <p:nvPr/>
        </p:nvPicPr>
        <p:blipFill>
          <a:blip r:embed="rId2"/>
          <a:stretch/>
        </p:blipFill>
        <p:spPr>
          <a:xfrm>
            <a:off x="228600" y="514440"/>
            <a:ext cx="973080" cy="628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EP TEXAS Competitive Retailer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ill Sny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siness Standards Consulta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EP Tex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282600" y="1320840"/>
            <a:ext cx="8458200" cy="277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:\Users\wtso904\AppData\Local\Microsoft\Windows\Temporary Internet Files\Content.IE5\0ACU8OHD\TEXAS_Tag_RGB_RG.jpg"/>
          <p:cNvPicPr/>
          <p:nvPr/>
        </p:nvPicPr>
        <p:blipFill>
          <a:blip r:embed="rId2"/>
          <a:stretch/>
        </p:blipFill>
        <p:spPr>
          <a:xfrm>
            <a:off x="228600" y="514440"/>
            <a:ext cx="973080" cy="628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EP Texas Competitive Retailer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ites to the Workshop were sent out by your Account Manager on, or about, July 2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ocial will be held at The Annex on August 2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the Workshop will be at AEP Texas’ home office in downtown Corpus Christi on August 2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 Please register by August 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f you plan on attending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sent out our CR Survey recently.  We encourage you to take a few minutes to provide us some valued feedback.  Let us know what we’re doing right, what we should keep on doing and where we can impro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282600" y="1320840"/>
            <a:ext cx="8458200" cy="277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:\Users\wtso904\AppData\Local\Microsoft\Windows\Temporary Internet Files\Content.IE5\0ACU8OHD\TEXAS_Tag_RGB_RG.jpg"/>
          <p:cNvPicPr/>
          <p:nvPr/>
        </p:nvPicPr>
        <p:blipFill>
          <a:blip r:embed="rId2"/>
          <a:stretch/>
        </p:blipFill>
        <p:spPr>
          <a:xfrm>
            <a:off x="228600" y="514440"/>
            <a:ext cx="973080" cy="6285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EP Texas Competitive Retailer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look forward to seeing you at the Workshop for some fun, networking and learning what’s happening at AEP Texas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13:54:04Z</dcterms:created>
  <dc:creator>wtso904</dc:creator>
  <dc:description/>
  <dc:language>en-US</dc:language>
  <cp:lastModifiedBy>Hanson, Pamela</cp:lastModifiedBy>
  <dcterms:modified xsi:type="dcterms:W3CDTF">2024-07-31T22:24:17Z</dcterms:modified>
  <cp:revision>72</cp:revision>
  <dc:subject/>
  <dc:title>2018 CRR Worksho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IP_Label_69f43042-6bda-44b2-91eb-eca3d3d484f4_Enabled">
    <vt:lpwstr>true</vt:lpwstr>
  </property>
  <property fmtid="{D5CDD505-2E9C-101B-9397-08002B2CF9AE}" pid="3" name="MSIP_Label_69f43042-6bda-44b2-91eb-eca3d3d484f4_Name">
    <vt:lpwstr>AEP Internal</vt:lpwstr>
  </property>
  <property fmtid="{D5CDD505-2E9C-101B-9397-08002B2CF9AE}" pid="4" name="MSIP_Label_69f43042-6bda-44b2-91eb-eca3d3d484f4_SiteId">
    <vt:lpwstr>15f3c881-6b03-4ff6-8559-77bf5177818f</vt:lpwstr>
  </property>
  <property fmtid="{D5CDD505-2E9C-101B-9397-08002B2CF9AE}" pid="5" name="MSIP_Label_7084cbda-52b8-46fb-a7b7-cb5bd465ed85_ActionId">
    <vt:lpwstr>bcfcbdf4-c1be-40c7-97ec-7d4fbcb0a517</vt:lpwstr>
  </property>
  <property fmtid="{D5CDD505-2E9C-101B-9397-08002B2CF9AE}" pid="6" name="MSIP_Label_7084cbda-52b8-46fb-a7b7-cb5bd465ed85_ContentBits">
    <vt:lpwstr>0</vt:lpwstr>
  </property>
  <property fmtid="{D5CDD505-2E9C-101B-9397-08002B2CF9AE}" pid="7" name="MSIP_Label_7084cbda-52b8-46fb-a7b7-cb5bd465ed85_Enabled">
    <vt:lpwstr>true</vt:lpwstr>
  </property>
  <property fmtid="{D5CDD505-2E9C-101B-9397-08002B2CF9AE}" pid="8" name="MSIP_Label_7084cbda-52b8-46fb-a7b7-cb5bd465ed85_Method">
    <vt:lpwstr>Standard</vt:lpwstr>
  </property>
  <property fmtid="{D5CDD505-2E9C-101B-9397-08002B2CF9AE}" pid="9" name="MSIP_Label_7084cbda-52b8-46fb-a7b7-cb5bd465ed85_Name">
    <vt:lpwstr>Internal</vt:lpwstr>
  </property>
  <property fmtid="{D5CDD505-2E9C-101B-9397-08002B2CF9AE}" pid="10" name="MSIP_Label_7084cbda-52b8-46fb-a7b7-cb5bd465ed85_SetDate">
    <vt:lpwstr>2024-07-31T22:23:56Z</vt:lpwstr>
  </property>
  <property fmtid="{D5CDD505-2E9C-101B-9397-08002B2CF9AE}" pid="11" name="MSIP_Label_7084cbda-52b8-46fb-a7b7-cb5bd465ed85_SiteId">
    <vt:lpwstr>0afb747d-bff7-4596-a9fc-950ef9e0ec45</vt:lpwstr>
  </property>
  <property fmtid="{D5CDD505-2E9C-101B-9397-08002B2CF9AE}" pid="12" name="bjClsUserRVM">
    <vt:lpwstr>[]</vt:lpwstr>
  </property>
  <property fmtid="{D5CDD505-2E9C-101B-9397-08002B2CF9AE}" pid="13" name="bjDocumentLabelXML">
    <vt:lpwstr>&lt;?xml version="1.0" encoding="us-ascii"?&gt;&lt;sisl xmlns:xsd="http://www.w3.org/2001/XMLSchema" xmlns:xsi="http://www.w3.org/2001/XMLSchema-instance" sislVersion="0" policy="e9c0b8d7-bdb4-4fd3-b62a-f50327aaefce" origin="userSelected" xmlns="http://www.boldonj</vt:lpwstr>
  </property>
  <property fmtid="{D5CDD505-2E9C-101B-9397-08002B2CF9AE}" pid="14" name="bjDocumentLabelXML-0">
    <vt:lpwstr>ames.com/2008/01/sie/internal/label"&gt;&lt;element uid="50c31824-0780-4910-87d1-eaaffd182d42" value="" /&gt;&lt;/sisl&gt;</vt:lpwstr>
  </property>
  <property fmtid="{D5CDD505-2E9C-101B-9397-08002B2CF9AE}" pid="15" name="bjDocumentSecurityLabel">
    <vt:lpwstr>AEP Internal</vt:lpwstr>
  </property>
  <property fmtid="{D5CDD505-2E9C-101B-9397-08002B2CF9AE}" pid="16" name="bjLabelHistoryID">
    <vt:lpwstr>{76BF6641-8170-4272-B5E0-EA4AF229385E}</vt:lpwstr>
  </property>
  <property fmtid="{D5CDD505-2E9C-101B-9397-08002B2CF9AE}" pid="17" name="bjSaver">
    <vt:lpwstr>g9MBNFIm1AnXQ6kD5Gf85Ru3/IJon+J6</vt:lpwstr>
  </property>
  <property fmtid="{D5CDD505-2E9C-101B-9397-08002B2CF9AE}" pid="18" name="docIndexRef">
    <vt:lpwstr>ac8b2317-5406-4eea-9eca-51d3483b72ad</vt:lpwstr>
  </property>
</Properties>
</file>