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5F86-CE06-47CF-84B3-7D11EA25E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5B62-7887-4498-AEC2-D6A4BEFF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5ADE-2680-47BF-8701-2B8E4EAC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E913-E905-4D11-AD15-B1098B73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D73D-239A-443D-AF9F-72AB5217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589C-902F-4949-80A3-FD53F407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9C55-4F4F-4D72-BBEC-5A3E31B1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549A-C084-4378-9854-0ECC085E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20E4-D3C8-4861-BA81-294ED5D1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5050-764F-41A1-B39C-9471C113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BEAD-39EC-470C-B7F5-4A03C5BE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BD5D-924E-4591-BEFD-3F95E60B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8113-2BF1-4C4E-8BDE-EEFA6F45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3E42-602F-40EA-B59C-91C553AA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8D8D-F2FB-4317-9EEC-A06A785F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69BA-2545-45F3-8AF3-E1EE86DD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9110-25A4-4AAB-B72B-212DA481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2257-E3AC-4494-B44E-899035C4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FD1F-F53B-46C6-B39C-BE9D0BF8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4FBA-CC63-48B8-83A4-0C453A42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5EF9-958A-4828-8970-0D86ADA0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84B2-153F-4277-8761-7342765A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9C9F-6B85-4296-9302-43E1B9C3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19C6-C3DC-4B14-92FA-72D38B11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82EC-140B-4863-9480-8A145F95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9222-E259-4E58-99F5-C0BD6140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DD10-DF25-4CC5-AC1C-DAAA23D8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8927-3072-40AF-83E5-E59AFF42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ED06-5D04-4D9A-AA7F-9D8DECD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6DB8-B7DB-449E-9437-C36C3648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4C6B-2918-4C71-B62F-7AEDF3A3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03EB-662E-4345-A970-EE799E82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40D1A-841F-4EF0-B64B-4794F2258E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EAFD9-477C-4A60-83DE-C5133B4B55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9AB11-EA3A-4774-A2A8-1AEF3E5D9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DDD8-D02D-4C04-A57F-AA1676D4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EC8FA-5382-46B1-BCB3-E0FA497F20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CADB8-D1A6-4097-94D8-BE47EFCCE4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12BB82-C28A-4142-8D76-0548977115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97258-70BF-405A-9C19-8BA2579F69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05B1C-A8E4-4C88-90F5-D067A48F0C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9450F-0A3B-47ED-895F-D9EADBD997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1FFBE-D542-46D1-941F-0D50DFD64C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62133-BB13-4323-8BBB-59F524C782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A25C7-8D14-47CE-A4C1-9C1DE2F268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F75A-413F-48B1-894A-9DE840C5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B305-8433-43E9-86C5-155F986D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8076-B3FE-4F65-8604-2BC0F17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377D-B9C9-4C31-A6E0-7D34AE77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7236-69A7-4B42-BA77-F1EC00AE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50C3-3FD7-4828-BAAF-60C762FAB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D34D-8F91-4689-9559-8F85CDF6F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5B12-2B32-4FE2-A87C-629A03300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DDA-DB72-4CE2-9CE9-AB8DAFB17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D046-2C96-47D5-8D77-83772EAADA4D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1654-D890-4525-95C9-5C50C5FB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June 4, 2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4 PWG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850-55B6-4B74-AC56-9BB172524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14480" y="1600200"/>
            <a:ext cx="89154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on BUS IDRRQ &amp; LRG Profile C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Proces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 discussions among TDSPs &amp; ERCOT on possible enhancements to overall ERCOT Annual Valida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hanges or enhancements will be brought to PWG for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838080" y="2400480"/>
            <a:ext cx="7467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9FCC-1C50-4D61-9067-C959B1392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28600" y="1066680"/>
            <a:ext cx="87631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July 30, 2024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Discussion items &amp;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/AMS BUSLRG updates from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Validation Process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conversion of the Profile Decision Tree from Excel to Wo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1"/>
          <p:cNvSpPr/>
          <p:nvPr/>
        </p:nvSpPr>
        <p:spPr>
          <a:xfrm>
            <a:off x="533520" y="2568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4-05-31T20:43:19Z</dcterms:modified>
  <cp:revision>1471</cp:revision>
  <dc:subject/>
  <dc:title>Instructions</dc:title>
</cp:coreProperties>
</file>