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8F90-32C3-470D-A3A4-00BFF28B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789C-5163-48AD-BF68-58279F0BF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AD49-26E0-4F5E-B3A8-5E751EE9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0084-E287-4E2E-B6D7-31DC10A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FB8A-3A5C-45C7-B266-2B99F00F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8170-879C-4887-B746-D103C522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C11-BC1B-4D69-8AC4-FDBDFC1D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894F-318B-494E-91EC-8B6DA6AD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201-9CB7-4D46-9777-EC9B25F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E81-7FC2-4FAF-8B63-53DCBFFE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54E6-57AD-4C6C-80E8-7E8F9CA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CB82-B78F-47AD-9682-093BC1A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FF8-DF92-4B84-A55E-1CE82CE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98D9-7408-465D-949C-953021F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ABE-BC17-4F60-A367-2720D28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3972-10C6-4B62-B816-23B6E3D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28F4-78BF-45E6-B5BB-8043556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25CB-7512-4419-9C0B-215285AA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BA7-D7E7-42D1-84BA-8CB8A4E6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CEB5-5BC2-45B9-9E20-C202EB35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DF80-CDB7-4AD5-AD69-EF402EF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CDE7-364A-4B7E-B888-82B51CB5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CA1D-107A-473B-95D8-B6D84DD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8CA8-3625-4296-9059-8CACFA7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8A8A-E086-4F39-B3A5-E776479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F46E-BBB9-459C-8158-3596756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1FCE-B522-4DBD-82A7-BF1EC4B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71AA-5CE4-4BB7-ABBC-BA50DDD7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1F00-49C1-47D2-B5E7-4284160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0B88-5A0C-4D39-8068-D94CE9B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9096-0296-4DF3-8155-AB1DAE14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44B9-47C5-4F39-AB19-9A85C4B7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2E252-B662-4745-8422-0F44FEB322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BB60E-2371-4291-B41B-E6F2D0CF93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F0D9D-9B57-481C-A44A-0EA0E5308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B208-848C-4676-AC89-18A73D8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E1535-ADF3-421D-B922-697E353672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E5F7E-AF45-4392-B92F-D5C091052A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5050E-E734-4B11-8D9C-ACEEF3BDC8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5CA5E-5C73-42C7-9C1E-51F1E77A19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9CDE9-FA37-48D9-909B-C781AC8D09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D09D0-765F-4CFC-8B75-4C036EAFE8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3D0F3-5B46-4A03-84BE-D774701A27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90F42-65D4-4784-9B06-716E6D4A60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B9941-827F-4D59-AE99-B85D058361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CDED-F538-4D5F-A13C-807C317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D7E3-53C2-432D-BF5D-CFAF890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CC69-C3B4-4AD1-B5AD-5344927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9187-E82D-402E-B856-64E62A8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7ACF-38B8-429C-B7AE-1E5ABBE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9D3D-9355-4869-81BF-5C29571E7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C546-4925-4FB5-BF8A-2B2598BE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428A-65B2-4CC4-A2E4-ADE19291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34F4-5592-4DF6-B905-1B8D94D2D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55E-D3C0-42F3-9F81-9E0ACAEE40C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0136-9B9C-4B1F-9B0C-6D2D31A4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March 5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A8F3-717C-464E-9554-C7B68937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50920" y="1066680"/>
            <a:ext cx="89154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leadership, K. Scott, and ERCOT Load Forecasting agreed to use the 2024 AV pause to pursue process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and ERCOT met to discuss possible enhancements to overall ERCOT AV processing and other valid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activities by TDSPs are part of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5815-851C-4AC8-B12A-8348A3BB0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8600" y="1066680"/>
            <a:ext cx="876312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arch 28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Discussion items &amp;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conversion of the Profile Decision Tree from Excel to Wor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533520" y="256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liler, Steven</cp:lastModifiedBy>
  <dcterms:modified xsi:type="dcterms:W3CDTF">2024-03-02T16:53:56Z</dcterms:modified>
  <cp:revision>1476</cp:revision>
  <dc:subject/>
  <dc:title>Instructions</dc:title>
</cp:coreProperties>
</file>