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04BE-98FC-4DF9-99A6-91E10BE60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4FFA-F88D-4818-A085-9FD4C4AFE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37A20-21F6-4C26-87B2-98590AF5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D9B6-74FF-4171-BC48-CD17C99E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4F68-350C-431F-8A96-D94813AA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C39E-8132-476A-813A-76FE33E0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E868-F9BE-4158-8777-1BD17E64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A902-2912-42E3-A1E1-DE608207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3E3D-7B47-4D9E-9741-DB63033E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0746-9564-4175-AB05-DFE8CACE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651E-7120-4FAA-8EE5-B5D9246A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7275-F625-44F0-9FEC-DDF19F27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9D93-38D3-428B-AA9E-EEC70ED0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06D1-B4EC-4F65-B6A0-70BCB685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7E57-31A0-4664-9768-FEB376BD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50B0-EE63-4546-8886-AFFD1D9D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5F9F-4862-4D5F-A72C-E685F77A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FF0C-933C-46D3-AB5A-6B09DB0F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C6C8-3F9E-4CE1-9D75-E16D93B9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E243D-5EAD-4A0E-8E18-7423E4CC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A6634-7E9C-4322-9925-462309FE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45982-5ED9-4DEE-97D7-E6929063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74EA0-ADAA-4C0B-B2F4-17456CEA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73990-9578-4C07-857C-EEF550D6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7A77-1BA3-4CE4-AC03-5D2FD7F9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2521C-9C8B-4081-AC96-C0B78CB8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1E23C-452C-4887-BF82-F87516FB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B0513-E70F-4984-8922-DA52BB95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5D257-DDDB-49CE-8171-D6A22357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3189D-463A-48A1-8A77-149C7BAE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DA52A-E558-45E3-B17A-84F32CBF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95931-516E-402A-B501-44C143D4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650E1E-6D70-4C4D-9943-DEF95667998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35093C-F92D-4915-92AF-89FD72F3A9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CED8BF-EC32-4651-B77C-C9E17A155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3840-8D2B-44DE-AE01-E8C4712A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CD1BA5-F06C-4EA4-967B-8A321AF6F2D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E604C8-A431-4C75-8A41-C06233EB6BA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A47D86-95F5-4477-AB70-8FA8998E634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E77B47-1EC2-46BD-98B7-EB8AD981A3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79E8E4-F4E6-429E-AD08-FC4468EE3C0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540672-D2CA-44E7-820A-CD74BFCEC5D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850938-501E-4273-872B-9657EF6655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C43E90-891A-4676-B40F-7AA94A196EE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6AAEC8-7B61-490E-98C0-C46A08C370E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1CF82-4CF5-4051-B2B0-9CB88B2B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25B6B-D9FD-4130-824C-151FAC03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B0C3-B4B9-46FB-AD10-42DBCFC8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C2262-377A-45F7-9E5F-36EFED84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9324-3F31-48E0-8CC5-EAE9ED97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29BC-23B8-4546-B4CE-169D79165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E072-5BA3-4D3B-8346-7A6A864F0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8955-E760-4FE0-A98E-39B83BB2B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F43A-A810-49E0-9F9D-9B3C23C16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D0C7-96CF-4A62-9D46-1F0096409897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1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95F8-0EA7-4E38-8CFB-F5B207445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Profiling Working Group (PW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February 6, 20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2024 Elected Leadership (pending RMS vot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teve Pliler (Vist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Bill Snyder (A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7F8B-D488-4C07-B92B-C4B7DF0B9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114480" y="1600200"/>
            <a:ext cx="8915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ved Documentation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nual Validation &amp; Load Profiles Purpose and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version as of January 23, 2024 has been posted to the PWG main page Key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WG will annually (Nov/Dec) review for any additional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Validation Process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ed possible enhancements to overall ERCOT Annual Validation processing and other validation activities requested of TD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TDSPs and ERCOT agreed to discuss further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D9F6-6E24-490D-A97F-D02D85461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2023 PWG Goals &amp;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complis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"/>
          <p:cNvSpPr/>
          <p:nvPr/>
        </p:nvSpPr>
        <p:spPr>
          <a:xfrm>
            <a:off x="457200" y="1295280"/>
            <a:ext cx="8153280" cy="51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0206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Support market efforts for IDR/AMS transition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7000"/>
              </a:lnSpc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Provided a market forum for TDSPs transition plans and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206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Completion of 2023 Annual Validation Process and review future AV processing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7000"/>
              </a:lnSpc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2023 Annual Validation Successfully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7000"/>
              </a:lnSpc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Per PWG recommendation to 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7000"/>
              </a:lnSpc>
              <a:buClr>
                <a:srgbClr val="ff0000"/>
              </a:buClr>
              <a:buFont typeface="Calibri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2024 Annual Validation Sus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7000"/>
              </a:lnSpc>
              <a:buClr>
                <a:srgbClr val="ff0000"/>
              </a:buClr>
              <a:buFont typeface="Calibri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2025 Annual Validation will include both RES &amp;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206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Completion of 2023 Weather Sensitivity Changes and review future Needs of WS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7000"/>
              </a:lnSpc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2023 Weather Sensitivity (WS) Changes Successfully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7000"/>
              </a:lnSpc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Recommended discontinuing WS proces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7000"/>
              </a:lnSpc>
              <a:buClr>
                <a:srgbClr val="ff0000"/>
              </a:buClr>
              <a:buFont typeface="Calibri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LPGRR070, Discontinuation of Interval Data Recorder (IDR) Meter Weather Sensitivity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7000"/>
              </a:lnSpc>
              <a:buClr>
                <a:srgbClr val="ff0000"/>
              </a:buClr>
              <a:buFont typeface="Calibri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NPRR1163, Related to LPGRR070, Discontinuation of Interval Data Recorder (IDR) Meter Weather Sensitivity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alibri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D3F1-142A-4D40-B2A8-D01FF886B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ed: </a:t>
            </a: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2023 PWG Goals &amp;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complis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"/>
          <p:cNvSpPr/>
          <p:nvPr/>
        </p:nvSpPr>
        <p:spPr>
          <a:xfrm>
            <a:off x="457200" y="1295280"/>
            <a:ext cx="815328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0206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Review enhancements to Load Profiling Guide where appli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7000"/>
              </a:lnSpc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Participated and supported the Lubbock Retail Integration Taskforce (LRITF) to ensure that any Load Profile impacts were re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7000"/>
              </a:lnSpc>
              <a:buClr>
                <a:srgbClr val="ff0000"/>
              </a:buClr>
              <a:buFont typeface="Calibri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LPGRR074, Align Definitions of IDRRQ, LRG, and LRGD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206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Support market efforts related to load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Drafted Summary Documentation to Memorializ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Purpose and Needs for Load Profiles and Annual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alibri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8721-1398-4B46-9519-367D60935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2024 PWG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"/>
          <p:cNvSpPr/>
          <p:nvPr/>
        </p:nvSpPr>
        <p:spPr>
          <a:xfrm>
            <a:off x="457200" y="1295280"/>
            <a:ext cx="815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294171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171"/>
                </a:solidFill>
                <a:latin typeface="Calibri"/>
                <a:ea typeface="Calibri"/>
              </a:rPr>
              <a:t>Support market efforts related to load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294171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171"/>
                </a:solidFill>
                <a:latin typeface="Calibri"/>
                <a:ea typeface="Calibri"/>
              </a:rPr>
              <a:t>Support market efforts for IDR/AMS transition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294171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171"/>
                </a:solidFill>
                <a:latin typeface="Calibri"/>
                <a:ea typeface="Calibri"/>
              </a:rPr>
              <a:t>Explore enhancements to future AV process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294171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171"/>
                </a:solidFill>
                <a:latin typeface="Calibri"/>
                <a:ea typeface="Calibri"/>
              </a:rPr>
              <a:t>Review enhancements to Load Profiling Guide where appli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94171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171"/>
                </a:solidFill>
                <a:latin typeface="Calibri"/>
                <a:ea typeface="Calibri"/>
              </a:rPr>
              <a:t>Expand leadership opportunities to PWG Co-Vice Ch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94171"/>
              </a:buClr>
              <a:buFont typeface="Calibri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1348-B26D-487F-BD91-640773B38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228600" y="1066680"/>
            <a:ext cx="8763120" cy="447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4171"/>
                </a:solidFill>
                <a:latin typeface="Arial"/>
              </a:rPr>
              <a:t>Next PWG meeting via WebEx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March 28, 2024 @ 9:30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</a:rPr>
              <a:t>Discussion items &amp; top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R/AMS BUSLRG updates from TD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Validation Process Enhanc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on conversion of the Profile Decision Tree from Excel to Wor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61"/>
          <p:cNvSpPr/>
          <p:nvPr/>
        </p:nvSpPr>
        <p:spPr>
          <a:xfrm>
            <a:off x="533520" y="25686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Pak, Sam</cp:lastModifiedBy>
  <dcterms:modified xsi:type="dcterms:W3CDTF">2024-01-30T20:31:59Z</dcterms:modified>
  <cp:revision>1469</cp:revision>
  <dc:subject/>
  <dc:title>Instructions</dc:title>
</cp:coreProperties>
</file>