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0797-F563-4562-97D5-AE212228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E19-8F49-4674-9400-7D67969A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E303-5EE5-417B-8655-08DE2E70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1F1E-F6B1-4329-A273-41C50023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D379-9A37-4CA8-883D-61D6132E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9CB6-A6BD-417F-935B-75C4D8CE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9FE-1EC8-4C60-87D3-1D39CCFD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8730-7880-424F-8EBB-B0C1D40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50B-4B13-40C3-B750-DA0CBAF0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270-9A5F-4770-9B04-C0D84026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0734-A4B6-4472-B6A9-DDA9301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DA4A-B0AD-4483-ACEC-F699A0B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45D-086D-4ADC-A703-A577A11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A0AB-0873-4345-8278-147F46D6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2FF-E1FF-439D-89A3-DFE1C87F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5694-DA77-48D6-A9E2-DF2510F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EF6-70E1-4595-9489-C9357CB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8634-9982-498F-9938-6154EE7C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770F-9173-48BE-A1FA-0FC31AB4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2762-D56D-46F5-A9C6-23118B98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6A42-877B-488F-896C-85F6539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3574-8974-4E9C-94C7-2E3A1E8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F2E8-02A3-49D6-942A-3CCBB67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7596-C3D7-479C-956F-F61039F0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5A34-ACD6-42A5-929D-DB72D5F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35E3-9B9B-4E9F-85BA-E1FE954C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1159-6FB7-45C9-BBF8-738CAA1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FC11-0244-4CFD-8BBE-13FB1BE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1DCC-B8AC-4209-A6F0-863ECEC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8C34-28E2-4F6E-AAC7-0BA705B8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CA9A-93D6-4CA5-BCD0-C6763C08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689B-CFB8-4C29-8A50-1FB597EF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8881C-C48F-4D3A-901A-452A4F193D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CBF45-E0AF-4C70-A660-459E77FE0B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E21A5-B9E5-43C9-A742-07C2D4D98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AFCC-6D5F-49BB-AD6C-5E79C66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A9812-E77D-4475-B56D-DC39A19B57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F52D9-599F-413C-A99C-491B722F0F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EEF3A-2430-4D63-9C82-E8E4AE5539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5F431-F585-4BD0-A503-35A7C1943C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7229D-33EC-47DE-9366-8A1822A731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7C4E7-6B1A-4345-9E91-DDA6134093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67205-C84F-46B2-9494-B1F443A113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8BDEE-3669-4DE9-86A1-0CE63D8618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7D6F7-86F3-4CC0-8C11-F2E3F146EC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F4ED-0A43-47BB-921F-546B7328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C707-7E35-42D5-8BC4-2900511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E44-58B4-4091-AD82-C0DA347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E4C-3862-47F6-9A08-B7DDB5B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C44D-EB79-4B64-899F-77A1359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C38-8ACA-4F3E-BB82-43B519734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022-67D8-4D50-B7D8-47C842C61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58C-C5A8-4926-B026-1D24C2C9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F85-1B4A-433B-AFEA-188ABFBB4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B31-1825-4D83-9422-9B86C5B834B7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ercot.com/files/docs/2021/10/21/Profile%20Type%20Counts.zi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A984-5ABC-4121-9343-A21C2B43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anuary 9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3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Vice Chair: Steven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200-7859-41C3-A94D-A87CD9D0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52280" y="1222200"/>
            <a:ext cx="89154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nual Validation &amp; Load Profiles Purpose and Needs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 with redlined version provided via PWG Listserv fo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feedback anticipated at PWG’s January 2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d version to be posted to PWG main page for future reference and annual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rafted LPGRR074, Align Definitions of IDRRQ, LRG, and LR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9480" y="3429000"/>
          <a:ext cx="7696440" cy="2492280"/>
        </p:xfrm>
        <a:graphic>
          <a:graphicData uri="http://schemas.openxmlformats.org/drawingml/2006/table">
            <a:tbl>
              <a:tblPr/>
              <a:tblGrid>
                <a:gridCol w="995400"/>
                <a:gridCol w="6701040"/>
              </a:tblGrid>
              <a:tr h="10033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RR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tes Premises billed on a 4-CP tariff where the TDSP can support a 4-CP billing rate with an AMS profile (aka IDR Metered Premise)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r if 4-CP is not applicable to utility tariffs, a peak Demand greater than 700 kW or k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tes Premises billed on a 4-CP tariff where the TDSP can support a 4-CP billing rate with an AMS profile and does not have Distributed Generation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, or if 4-CP is not applicable to utility tariffs, a peak Demand greater than 700 kW or kVA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G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tes Premises billed on a 4-CP tariff where the TDSP can support a 4-CP billing rate with an AMS profile and has Distributed Generation</a:t>
                      </a:r>
                      <a:r>
                        <a:rPr b="0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, or if 4-CP is not applicable to utility tariffs, a peak Demand greater than 700 kW or kVA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3765-87E1-4ADE-BC32-A7E79E126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IDR/AMS BUSLR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57200" y="1295280"/>
            <a:ext cx="81532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R/AMS BUSLRG Updates from TDS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cipate Lubbocks profile counts within the next couple of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3520" y="2127240"/>
            <a:ext cx="8076960" cy="19209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457200" y="5238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ERCOT monthly “Profile Type Cou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ercot.com/files/docs/2021/10/21/Profile%20Type%20Counts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3"/>
          <a:stretch/>
        </p:blipFill>
        <p:spPr>
          <a:xfrm>
            <a:off x="533520" y="4367160"/>
            <a:ext cx="34527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6978-70CC-4D79-A3A3-8CE45AFC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" y="1066680"/>
            <a:ext cx="8763120" cy="50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January 23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otential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4 Leadership 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ing 2024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23 Achievements and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summary document highlighting needs and purpose of Load Profiles and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1"/>
          <p:cNvSpPr/>
          <p:nvPr/>
        </p:nvSpPr>
        <p:spPr>
          <a:xfrm>
            <a:off x="228600" y="2570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4-01-04T22:09:57Z</dcterms:modified>
  <cp:revision>1459</cp:revision>
  <dc:subject/>
  <dc:title>Instructions</dc:title>
</cp:coreProperties>
</file>