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8F0D-25DE-4927-BEE7-3AECDDAC6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0643-56C5-430C-A246-4A76CAEB5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53C16-C445-4F68-8D8D-79906E675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99B1C-EE05-4A6A-AAE6-8B86DEAE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7D274-BD74-4EBC-B9EA-4925E07F7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54996-5EFA-4257-A40B-0F2B7B848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10F1-92CA-4DDA-A413-386A83F65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0685-9A27-4CF0-8CB1-13CD1CE8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1C5C-4E59-409C-BB37-2222A68E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05E9-6881-46DA-B585-A7096240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68B4-52E5-4F4D-934A-066B0363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6BD7-F9EF-42AC-836E-BB6FF59D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D1CD-3AF2-4EBE-9FF7-DC75E6C2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D1309-7E0D-48E5-8AED-A61A3A29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F824-F9E8-4E67-B415-8505A213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9A9D-F2E8-45F9-91B2-61E0673F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DA29-1C08-4636-87C7-32BC0E39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B9ED-CE27-43E8-BEF5-6E428A075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1117-7C69-4201-A65E-E9A140B9C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85487-753C-4A63-8DFA-76C5A9A9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B2A3A-79E6-4037-A2B7-564594CD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216BF-E285-4AAD-AE68-5295E41D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4B8B3-9D8D-42A6-936D-FC5F4015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91BEC-ED78-4274-8007-52706F2C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9FB23-573F-49B1-B26F-F927A036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245F1-2CE9-4343-861C-3680B856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72CEF-8328-4A44-A0BE-3E353582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28355-2CDF-471C-9D65-3D750D9A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E818A-E9D4-42D6-A153-F88728E9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45433-C982-48DD-A342-B61A57AF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BC0A9-21DD-4ED8-B346-28596082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0DA28-CBB6-4507-8E46-C4A48736C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AEA553-0E79-4284-9D44-8F969273C18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19E9FF-F13D-4410-98E3-9B0C89DC9E5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D81EA1-8DF9-482C-B072-500EC2234E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E3EC1-FDAF-4125-BFAA-FC686E6A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8C1A6E-AFBC-472F-ABDD-C02B88F9386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4B3D84-87E9-4615-8BB2-594A92AEF88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B5D1E7-D4C6-43FC-8251-0D244702D05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5B23FC-279A-487C-A6EE-8D4A6AB7D1C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BF2534-0B79-4515-B691-20DA55B8349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4B00C1-AF76-4271-AE23-506D111E8F7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895800-2DAB-45C4-BEB7-C6A2BF550B3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9FD324-FA2C-4BDF-8FDA-7BB0C5B9CE8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143305-49DD-4BE7-8732-6C7BE0F6B5F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5132E-C737-454E-88FB-9B681429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441CA-DACB-412D-AE48-C6859BED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681DC-5720-4636-8149-FE9CC0F6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C81DF-56E9-4E34-AD2F-04492E59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F630E-72C5-4F21-BDC3-2544D794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CDE0-CAA8-4D5C-AE22-23F7E38AD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78B4-2AB5-4FF2-BF0F-EAC9F1BE3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8D31-C1BB-48FE-8798-909359229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8C98-52EE-4C65-BA9B-3A33F40B0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sldNum" idx="10"/>
          </p:nvPr>
        </p:nvSpPr>
        <p:spPr>
          <a:xfrm>
            <a:off x="4343400" y="656856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858E-1BC5-40B9-8DFF-678D9CAFD5EB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54000" y="65278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1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2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/pwg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8138-0A2C-4255-AE89-245653C61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  <a:ea typeface="Times New Roman"/>
              </a:rPr>
              <a:t>Profiling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Update to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November 7, 20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2023 Leader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hair: Sam Pak (Onc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Vice Chair: Steven Pliler (Vist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CD23-E146-48F2-9C38-510023013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2023 Annual Validation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228600" y="12222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3 Annual Validation is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424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DA6F-6114-4E75-9ED2-34299C957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Annual Validation and Load Profiles Purpose and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9"/>
          <p:cNvSpPr/>
          <p:nvPr/>
        </p:nvSpPr>
        <p:spPr>
          <a:xfrm>
            <a:off x="228600" y="1222200"/>
            <a:ext cx="8381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rket participant submitted a draft LPGRR proposing to discontinue the legacy Load Profiles and Annual Validation processing due to wide utilization of advanced meters and availability of interv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ensus acknowledged interval data from advanced meters was the best and preferred option; however ease of accessibility of interval data for non REP of Record at Smart Meter Texas is challenging given PUC customer protection rules on the customer own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these challenges, REPs have relied on Load Profiles &amp; Annual Validation to help provide accurate pricing plans to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ensus supported future efforts possibly revising LOA processes or SMT changes to allow easier access to interv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WG will draft a summary document on the Purpose and Needs for Annual Validation &amp; Load Profiles to be posted on the PWG main meeting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15CE-7291-43C2-89C8-221494A6B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IDR/AMS BUSLRG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"/>
          <p:cNvSpPr/>
          <p:nvPr/>
        </p:nvSpPr>
        <p:spPr>
          <a:xfrm>
            <a:off x="457200" y="1295280"/>
            <a:ext cx="815328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R/AMS BUSLRG Updates from TDS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EP and Oncor remaining BUSIDRRQ counts are largely EPS meters and unique customer equipment related issues delaying BUSLRG con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P recent BUSLRG conversion is reflective in counts below.  Approx 800 will remain on BUSIDRR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NMP status quo.  Timing for BUSLRG conversion to be determined, but approx 100 will remaining as BUSIDRR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176040" y="3782880"/>
            <a:ext cx="879192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3757-29E4-4EA5-8C26-C3AF7D674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228600" y="1066680"/>
            <a:ext cx="8763120" cy="47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4171"/>
                </a:solidFill>
                <a:latin typeface="Arial"/>
              </a:rPr>
              <a:t>Next PWG meeting via WebEx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</a:rPr>
              <a:t>December 8, 2023 @ 9:30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</a:rPr>
              <a:t>Potential discussion i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3 Goals: Achievements and Accomp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draft summary document highlighting needs and purpose of Load Profiles and Annual 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R/AMS BUSLRG updates from TD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on Excel to Word conversion of the LPG section Profile Decision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61"/>
          <p:cNvSpPr/>
          <p:nvPr/>
        </p:nvSpPr>
        <p:spPr>
          <a:xfrm>
            <a:off x="228600" y="257004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/p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Next PW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Pak, Sam</cp:lastModifiedBy>
  <dcterms:modified xsi:type="dcterms:W3CDTF">2023-10-31T18:26:02Z</dcterms:modified>
  <cp:revision>1453</cp:revision>
  <dc:subject/>
  <dc:title>Instructions</dc:title>
</cp:coreProperties>
</file>