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F19F-96B4-4C83-9463-C299378C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839-5557-47DB-9228-B69003F9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6A13-A0C3-4D64-956A-CA66A0D6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9946-8B5A-4160-ACBC-EEE99719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D933-886F-4334-BB03-C7BF8D5C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7FD0-9B29-4B09-8E81-D0F36489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48D3-D3ED-4CDC-AF5D-7128E229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02F-0851-403D-B4D0-980A9823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B7CB-8351-4184-9B35-75F0C386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7F48-BAF3-4059-BBF2-D178248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B109-2B40-4CBB-A863-C726D54B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73A-EF87-4E14-9525-32C721D5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D0F-5DDA-4B4C-8A67-3982644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4760-9B74-4EEE-BCD6-989D5F9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BEF1-6598-4B37-9E00-1481ADC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EED8-3D45-4B88-AABE-61CDE63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CF2E-B263-4849-BC53-0ADD49A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FAD8-AE5D-4344-85B6-69FB335E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BCB4-44A0-4507-AE61-523228AF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2598-6097-419C-A08C-64596E59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D421-BB8C-41D1-A9A2-ADDFBAB1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72C0-C92E-4A09-847D-7686B6F6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510E-ED4C-4A9B-AEA5-2D9276F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7C13-D29A-475C-82AB-131F180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C725-1FFD-436C-AB63-B41DADFE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9F3F-E887-4000-B788-69CBC55F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CDE4-A18A-4C57-AB3A-F75F4A7D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B296-C6F2-4E4A-B8CC-B1C128F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F8A3-574A-4D1E-BB99-10559D7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46B5-124E-4F44-A768-91A18B0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64CC-8A55-42DE-BA4D-127EF15F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7F28-2CA7-4E75-88DF-41F4B3AF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A5421-77EA-4624-A6E1-03E255B0E3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9EE0C-B3C6-4A61-812C-35C531960F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99E66-7EFA-4D61-BFCB-B2691814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99F4-D29E-41BB-9F1F-AB6DCC4E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83903-A4C9-4EDB-A8F5-C532638B5B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AFF99-8034-4958-BEA1-CAAEA4D7AF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AD9B7-2167-4D59-A687-9721AC44ED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0DA25-523C-4F31-AD8F-D0E6FAF125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0EBD5-6BC3-4E67-9C8C-8D90926FB2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DDB5D-4BBB-4B79-83EC-91AC62453D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EEE67-5966-444D-AB57-2EB4BA01D2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0D179-6C36-4FFF-AB07-CFCFBB6227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178AB-9E1C-482C-9168-D2BD033AD7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7268-48DD-4ECB-A447-65E8629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55EA-677D-4076-8CC9-77D67FE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09FE-39FC-43E1-8733-5E70938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7F31-7D7E-4421-969F-6041C4C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B754-90AE-44E4-88BD-BBA6E1C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449-D683-49CF-AEFD-69B4EB822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630-CF3D-4B75-B5F4-7B03BE8D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9D91-4E37-4339-A4F6-C01DFC878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0AA3-C4D1-406E-B600-3C024EB1E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49E4-2B51-492E-B94B-55C33F27B146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FF55-7331-460A-B99E-55B2827BF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April 4,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3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Vice Chair: Steven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041-08E0-4142-9028-378DA7C1C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457200" y="1295280"/>
            <a:ext cx="815328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23 Business Annual Validation Ki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2/23/23, ERCOT notified TDSPs via MarkeTrak of their respective ESIs counts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will begin their reviews for changes and submit changes to ERCOT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GRR 070 – Discontinuation of IDR Meter Weather Sensitivit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language and provided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potentially up for vote at April 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s are noticeably lower for Oncor and AEP due to  transitioned BUSIDDRQ to BUSLRG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supports NPRR &amp; LPGRR to discontinue annual W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3080" y="2365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IDR to AMS (BUSLRG)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935-D4C4-41C3-84B9-44E9EDBE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58840" y="4284720"/>
            <a:ext cx="86104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DSP updates on BUSLRG pro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E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Transition to BUSLRG is continu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N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is targeting June/July to begin their transitions to BUSL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c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Transitions to BUSLRG are continu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NM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status quo due to 3G remedi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353880" y="12114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March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2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477720" y="1592280"/>
            <a:ext cx="84362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85A-937A-4865-956C-08E9DE8D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37620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Future Annual Valida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TextBox 1" descr=""/>
          <p:cNvPicPr/>
          <p:nvPr/>
        </p:nvPicPr>
        <p:blipFill>
          <a:blip r:embed="rId1"/>
          <a:stretch/>
        </p:blipFill>
        <p:spPr>
          <a:xfrm>
            <a:off x="433440" y="1504800"/>
            <a:ext cx="7875360" cy="5108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371600" y="2400480"/>
            <a:ext cx="365760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B653-8B2D-48DA-8602-8E6AFA47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80880" y="1066680"/>
            <a:ext cx="8610840" cy="535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May 10, 2023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Draft 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3 Annual Valid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/AMS BUSLRG Updates from TD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timeline for future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removal of the IDR Protocol Compliance Report and the IDR Protocol Compliance Report for Disp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of the Profile Decision Tree from Excel to Word format (LPG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1"/>
          <p:cNvSpPr/>
          <p:nvPr/>
        </p:nvSpPr>
        <p:spPr>
          <a:xfrm>
            <a:off x="228600" y="2570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3-03-31T20:17:28Z</dcterms:modified>
  <cp:revision>1423</cp:revision>
  <dc:subject/>
  <dc:title>Instructions</dc:title>
</cp:coreProperties>
</file>