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CE0C-AE22-450E-9C26-747B81233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B220-6C83-4B85-9A92-B60D4AEE0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2EB99-F22B-448C-AFBC-0FF4E236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A88D0-568F-461B-AAB6-B0E27947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2EFE0-449F-4CCE-B54B-47D97141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60046-090B-4018-8D8F-44008AFA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579E-743C-4185-AB78-F35AA14C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0F57-8C5D-4BD2-BCC9-0EED5E9F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7431-AFAB-4D50-902D-6F13447F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2504-7A3A-4A4B-ADF6-048A704E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684E-A84D-406E-BACF-C6F8DC89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9430-FD64-4356-81C2-ED50F306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9660-C1FE-4875-A317-356D828A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6E53B-4295-4EE1-9133-10808F4B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DA84-7FB5-4F04-BCF0-51110C55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6E0C-958B-4573-8DB7-2FC6DE17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4628-449E-4E70-BB97-C9844992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0814-7487-4B18-85A2-31AA899F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5BB2-9B02-45ED-BBAD-F158EFA1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9C466-2C75-4134-B31D-094CF05C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DC77A-3AA8-4811-BBB2-0E4C86C8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90DD7-1709-4BBF-9650-52D9F265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011D5-338A-4C3D-BB8A-9E379523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D1244-FA0B-4137-827F-A0128A4C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D987-E7AA-4DB1-9308-68C1D8E6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30D25-ACF2-4AF5-A34A-A16759AE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D6CA3-0914-4E64-9518-5A1620D3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13F58-C6DC-4B05-91E6-AE77DAE2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1A653-5B6D-44D2-B583-302919ED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02F5D-9A21-457E-89F4-4AE1A1FF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AC250-70AE-4F08-8B9B-6523FB38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2755D-029E-4A62-B024-D6FED41A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F1B2FD-4BCE-4A1D-910B-C027DAFD29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40F824-F9AB-492B-97B8-60BD470239A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76094F-C363-48AE-9265-7C7D0AF7E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BB23-275A-47F5-B363-D01122E3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95597C-C3E3-47BD-BB20-6BCB52B2BB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C60E0D-D708-4B73-AA2B-DB2EF286A76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2AB612-8587-4DA8-8C2C-E5AB306A51C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235036-7613-4C5A-B944-6C35FA5FB0B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665128-5853-4482-AB5E-F8A87E8553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93E774-B5A8-4E0B-948F-731ACAF4234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2C2B4E-69AC-4834-86EA-532A7AA6575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9A779E-69EE-4F4E-A064-B319DEE73F4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97B5E8-442F-40B8-BDC8-2BDB0DF006B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0CED6-D820-48FB-93E3-CFD8ED48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E7C8-6E48-4525-ABBE-5823C6C8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D62A0-54ED-4B0F-8281-95492212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0A070-9EAD-4310-A2DE-6273D8C2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0C73-0766-4F6E-853E-B9517A27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24AC-2EBF-4636-9EBE-D02E0F4E1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3B9D-B3A7-4967-925E-A93749DB3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EB8F-04D7-46F6-A314-AC853FBD1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F338-A387-4BCC-AC46-ADCC81B75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4386-992F-43DC-824E-969880DDFC45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1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3DCC-7999-4C8A-933E-B438162D2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December 6, 20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Leadership:</a:t>
            </a:r>
            <a:br>
              <a:rPr sz="2400"/>
            </a:b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Sheri Wiegand (TX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693F-2950-4A8C-AFE2-3D4785219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2022 Weather Sensitivity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"/>
          <p:cNvSpPr/>
          <p:nvPr/>
        </p:nvSpPr>
        <p:spPr>
          <a:xfrm>
            <a:off x="446040" y="4932360"/>
            <a:ext cx="815328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s are noticeably lower for Oncor and AEP due to  transitioned BUSIDDRQ to BUSLRG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NPRR/LPGRR will be introduced early next yr to eliminate WS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1"/>
          <a:stretch/>
        </p:blipFill>
        <p:spPr>
          <a:xfrm>
            <a:off x="162000" y="1042920"/>
            <a:ext cx="8229600" cy="3962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277920" y="1353960"/>
            <a:ext cx="7894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4139-4BF3-4729-815A-09E04B024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1920" y="376200"/>
            <a:ext cx="7086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2022 Business Annual Validation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647640" y="4241880"/>
            <a:ext cx="7848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 AV is considered complete.  TNMP had only 3 ESI revisions remaining which are already being addressed for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sited prior discussion on need for BUS AV.  ~46,600 ESIs were changed out of ~1,035,000 Business ESIs, representing ~ 4.5% of the population.  For REPs, accurately assigned profiles is extremely valuable in offering standardization in the market particularly in terms of bidding/pricing this level of custom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" descr="Chart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299880" y="1074600"/>
            <a:ext cx="823464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3080" y="23652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IDR to AMS (BUSLRG)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B877-DEDC-4568-B6B0-AAD1DCDB8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264960" y="3886200"/>
            <a:ext cx="8610840" cy="20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ansition Plans/Data Accessibility for BUSLRG pro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Onco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has 270 ESIs remaining on BUSIDRRQ.  Interval data is now currently available in CR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AEP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has changed out all applicable ESIs.  AEP is still identifying applicable BUSLRGDG ESIs to transition.  Thought is ~60 ESIs will transition to BUSLRGD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NP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is targeting  Q1 of 2023 (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wk of April 2023) for a Go Live.  Will transition to BUSLRG on cycle basis.  Interval data will also be available at that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TNMP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status quo due to 3G remediation.  Likely conversions to begin in 202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"/>
          <p:cNvSpPr/>
          <p:nvPr/>
        </p:nvSpPr>
        <p:spPr>
          <a:xfrm>
            <a:off x="353880" y="121140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Nov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2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/>
          <a:stretch/>
        </p:blipFill>
        <p:spPr>
          <a:xfrm>
            <a:off x="588960" y="1738440"/>
            <a:ext cx="796284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FA25-AF76-4EF7-9990-B8AC98A1E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533520" y="1066680"/>
            <a:ext cx="8305560" cy="345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23 Meeting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eeting dates will be published on ERCOT PWG meeting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ypically around the 2 week of the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23 Leadership Nom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courage all that are interested or would like to submit a nomination to please reach out to Jordan Trouble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22 Accomplishments &amp; 2023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o be presented at the January 2023 PWG meeting for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Other 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06AA-8576-4B43-B1F3-FF5ADDCB7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380880" y="1066680"/>
            <a:ext cx="8610840" cy="544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4171"/>
                </a:solidFill>
                <a:latin typeface="Arial"/>
              </a:rPr>
              <a:t>Next PWG meeting via </a:t>
            </a:r>
            <a:r>
              <a:rPr b="1" lang="en-US" sz="3600" spc="-1" strike="noStrike" u="sng">
                <a:solidFill>
                  <a:srgbClr val="294171"/>
                </a:solidFill>
                <a:uFillTx/>
                <a:latin typeface="Arial"/>
              </a:rPr>
              <a:t>In-Person</a:t>
            </a: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 &amp; </a:t>
            </a:r>
            <a:r>
              <a:rPr b="1" lang="en-US" sz="3600" spc="-1" strike="noStrike" u="sng">
                <a:solidFill>
                  <a:srgbClr val="294171"/>
                </a:solidFill>
                <a:uFillTx/>
                <a:latin typeface="Arial"/>
              </a:rPr>
              <a:t>WebEx</a:t>
            </a:r>
            <a:r>
              <a:rPr b="0" lang="en-US" sz="3600" spc="-1" strike="noStrike">
                <a:solidFill>
                  <a:srgbClr val="294171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January 11th @ 1:30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</a:rPr>
              <a:t>Agen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23 Leadership El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ther Sensitivity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NPRR/LPGRR to eliminate Weather Sensitivity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R/AMS BUSLRG Updates from TD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22 Accomplishments &amp; 2023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1"/>
          <p:cNvSpPr/>
          <p:nvPr/>
        </p:nvSpPr>
        <p:spPr>
          <a:xfrm>
            <a:off x="380880" y="3071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Pak, Sam</cp:lastModifiedBy>
  <dcterms:modified xsi:type="dcterms:W3CDTF">2022-12-05T20:05:17Z</dcterms:modified>
  <cp:revision>1406</cp:revision>
  <dc:subject/>
  <dc:title>Instructions</dc:title>
</cp:coreProperties>
</file>