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25A5-C6BC-4EEC-9941-269230317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0E80-6400-4254-B075-D291620AF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60DC-E3C7-4440-85B8-6365E932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EE5C-B1E9-4A1C-AED3-6DB52174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4480-DA38-4B1A-ACEA-A4977C74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7D48-3906-4BFF-B152-F4F68CD7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D9D0-65B9-4C9C-83F6-EF8D0B8B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2202-1977-4EBC-81BE-0CF274AB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D0C0-CE06-4318-B283-63CE5769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398D-32A5-4B43-85D1-B2A42901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BC03-A62A-443E-9D7B-11D703D0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D08A-2F46-46A5-9E0C-EA687736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6E23-E257-4C0A-9547-C75B3E24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087D-D69D-4455-9EC0-FB676FED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29FA-EC7B-48AB-AB57-CC0CC67D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EF0B-F200-42D2-9278-6F1DCBA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5B2C-27D4-44CE-9662-741EC980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FCC2-9405-4AEE-B183-483A3545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60A3-E40C-4F14-93BB-01BDE51E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046C-DD0F-4058-AE1E-601C62BD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DA6E-863C-479B-BDD6-E18FADD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8847-47F1-4B06-8C45-33EEA4F4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633FF-CDD0-4234-B54B-EF332725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BF23-264C-40D8-9088-B949C688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C3DA-4C22-472B-BC4C-A330B80C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6DF3-DA61-4F59-B764-C917B845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9031-E64C-4C20-BCD6-5BA1884B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418F-2CE7-4E66-A1A2-C97764B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202CE-D5E1-44B4-B180-6583449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503C-CAE2-435B-AC0A-93869B2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E66D-70FF-45FD-819E-F45117D1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4A013-082B-434A-8660-CE5E84CF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E2A0D-F0E4-4CDD-B9B0-5619F688FE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7F8FC-EE65-41DB-B6AF-F849F6904C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B1985-1A13-4DF6-8FBD-4E2D96BDB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35B0-36C1-4652-8D91-6F774B2B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DA8CF-D275-4201-9E11-CFE96FB16B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DB1D2-3719-4C98-85F2-D40D1710B2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09C28-D786-42A0-89F6-BF10C9B861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72202-6235-47BA-8CFD-8749E5AB3F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82341-3CC0-4FDB-B128-67626861AA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40F44-AAD9-4D55-B383-0012777BCE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AFFCE-A73C-4972-BFC2-636ACCEC24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429C8-C0C5-4AD5-BC77-043F4E239B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4DE30-6AB4-4D10-A865-5A4E57316D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DAD9-2AB6-472D-8350-1E9AA8E7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0043-0C31-4680-8082-C91073A9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33AC-F993-4FBF-827D-F7A068A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30DB-3C5F-4C69-B038-92D384DC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F551-6134-423B-863A-21BB953A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F9DB-6604-446C-A446-E8A0EC519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95D9-EE85-41DA-902D-8EEA8916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EF66-339C-4D29-B853-4827785E5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AC46-FFFE-4D62-AF50-1AE1CB1C7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4F00-6D13-424A-9BF7-EE52D19BE618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0F5F-79DD-4C91-A0FF-1251D83E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September 13, 2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36BA-34E5-41A9-B59B-E1DD63DB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1 Weather Sensitivit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971640" y="562608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MP is still working on the outstanding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266760" y="1206360"/>
            <a:ext cx="86104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030C-65E6-4B2C-B5B3-77C319D80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37620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2 Business Annual Valid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289080" y="3343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SPs are proceeding toward completing Annual Validation due by 9/30/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44360" y="1044720"/>
            <a:ext cx="8686800" cy="2322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304920" y="4365720"/>
            <a:ext cx="8686800" cy="23907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3048120" y="4135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Business AV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3080" y="2365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IDR to AMS (BUSLRG)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3F17-ACA9-41E9-8416-783F4DF9E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52280" y="1258920"/>
            <a:ext cx="861084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 Plans/Data Accessibility for BUSLRG profi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nc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has 412 ESIs remaining on BUSIDRRQ.  Interval data availability in CRIP in late Q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E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has approx ~150-175 remaining on BUSIDRR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N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is targeting  Q1 of 2023 (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wk of April 2023) for a Go Live.  Will transition to BUSLRG on cycle basis.  Interval data will also be available at tha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NM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status quo due to 3G remediation.  Likely conversions to begin in 202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A picture containing calendar&#10;&#10;Description automatically generated"/>
          <p:cNvPicPr/>
          <p:nvPr/>
        </p:nvPicPr>
        <p:blipFill>
          <a:blip r:embed="rId1"/>
          <a:stretch/>
        </p:blipFill>
        <p:spPr>
          <a:xfrm>
            <a:off x="420840" y="3684600"/>
            <a:ext cx="8229600" cy="2130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343080" y="33526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August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05E2-2CC4-4536-BD12-839905561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33520" y="1066680"/>
            <a:ext cx="8305560" cy="32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ding Lubbock Power &amp; Light Zip Codes to Load Profiling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 to add applicable Lubbock zip codes to be presented at September RMS for re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ppy path for LPRGR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ber RMS = Impac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ber TAC = Language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mber PUCT =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 effective date 1/1/2023 for Load Profiling Guide upd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Other 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F023-87B4-4572-B4D0-4B404D3C7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80880" y="1066680"/>
            <a:ext cx="8610840" cy="43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October 14th @ 9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ptember 14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meeting [Cancelle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Sensitivity wrap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Annual Validation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R/AMS BUSLRG Updates from T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1"/>
          <p:cNvSpPr/>
          <p:nvPr/>
        </p:nvSpPr>
        <p:spPr>
          <a:xfrm>
            <a:off x="457200" y="55627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2-09-09T19:59:05Z</dcterms:modified>
  <cp:revision>1399</cp:revision>
  <dc:subject/>
  <dc:title>Instructions</dc:title>
</cp:coreProperties>
</file>