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5B5F-CB5A-4C63-986C-82EEC79F7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6555-C886-4581-8460-4A52D04D7A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8BDB502-025E-4DE3-823B-F748051C2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C770F0-5C15-4B0C-9664-1CB12E27F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8399279-1F25-4305-93D3-D86A315E72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952CC9-45A9-4E04-B76A-75ADFDE80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81930-E6B5-445C-90ED-4DFA288FB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2DB68-FD38-4ED3-BB67-984428D1F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30633-FD52-4326-B198-F02853BFD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7C96B-DB81-4019-A4FD-605BB256E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21E9C-9C55-4936-B7BE-ECA4BA3C1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54872-F0C3-43AE-8440-721650128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79178-BE99-4C99-8510-EAA93D1C1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54B5B7-1283-443F-8DEE-6B0A21EF5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31FE7-CC84-4BBD-A53B-A14CE77C9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4CA01-8E42-4FFB-A3F1-4DD81AF4A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2B200-15A9-4F09-8AA1-6AC74C6EE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A1BAC-2FD6-4BDD-8FD3-FAC45719E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4FF81-A975-4213-956A-ECF740110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88F712-9EA4-479B-A2FB-E384FB74B6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0FC44-8029-4D65-AF61-C9FE93247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C58B7-2655-48D2-AFFB-81F271AB5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B8A42-1D21-4616-82A9-4E459EA55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684DE-8F8B-4644-863C-4130AEBF3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8F6158-2851-456F-BB5A-31F73D176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63C81-6376-4B87-9BE8-502F6DB988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AC6D1-3759-44EB-BFE9-918961C3A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832DA-7A54-4BBC-BD01-E066EF636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67926-77F7-4BEC-B957-26220B298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8AD80-83B9-4185-8B17-B723013F9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702E2B-DD57-488D-AC3D-91E769A99B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BE2AF-F271-45AE-8D39-4A1300171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08B557F-6DE4-4D5D-A347-2782FAA845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D325D12-154E-4F4C-BD87-80C51F17EDD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BA5E3DD-30D5-4AC7-A73F-9A41294698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5807EB-7EDC-49C7-BFE9-7A1DA3FEC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2CAABE2-BAF8-4D4F-B9DA-9A917639B71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1BB861B0-C418-42D9-A5DA-7E568E0804D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75A0AE3-6228-4754-9D3F-5A122F8F27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5846890-10BB-4E7A-BAA0-8BD41DA696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78B315C-D021-4101-955A-FA8C5FDA165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2E8CE00-B8B7-44BB-9AFA-0F3C8E2D723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691EED2-C6CE-4666-B369-317333A03C5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BC46B6A-AA25-45B9-AF2F-8D88007624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89B5DA4-F757-496D-A7F1-DF99ADA561E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55DA2B-5471-4A4D-8E58-76789D336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AFF523-E47C-49D7-8CA3-D931AAFE9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413810-DE4A-41EB-B1F6-B54E0A2A7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F04AC3-9A28-47DA-AC3D-9C139D76C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506EB97-07B6-4C56-9BFF-C775467483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D826-140C-436F-BE57-3D9D9AB26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9766-C736-4733-9F1D-FEB0F3C22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81A0-E396-4606-839F-B3B4EB228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1"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BC8F-1956-4D52-8E9A-9E63C62B3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4"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2"/>
          <a:stretch/>
        </p:blipFill>
        <p:spPr>
          <a:xfrm>
            <a:off x="0" y="0"/>
            <a:ext cx="9144000" cy="6858000"/>
          </a:xfrm>
          <a:prstGeom prst="rect">
            <a:avLst/>
          </a:prstGeom>
          <a:ln w="0">
            <a:noFill/>
          </a:ln>
        </p:spPr>
      </p:pic>
      <p:sp>
        <p:nvSpPr>
          <p:cNvPr id="132" name="PlaceHolder 1"/>
          <p:cNvSpPr>
            <a:spLocks noGrp="1"/>
          </p:cNvSpPr>
          <p:nvPr>
            <p:ph type="sldNum" idx="10"/>
          </p:nvPr>
        </p:nvSpPr>
        <p:spPr>
          <a:xfrm>
            <a:off x="4343400" y="6568560"/>
            <a:ext cx="457200" cy="2127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FAE6-2074-4AF8-B030-8715E6F84506}"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
        <p:nvSpPr>
          <p:cNvPr id="133" name="TextBox 6"/>
          <p:cNvSpPr/>
          <p:nvPr/>
        </p:nvSpPr>
        <p:spPr>
          <a:xfrm>
            <a:off x="54000" y="6527880"/>
            <a:ext cx="70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b6770"/>
                </a:solidFill>
                <a:latin typeface="Arial"/>
              </a:rPr>
              <a:t>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3" name="PlaceHolder 3"/>
          <p:cNvSpPr>
            <a:spLocks noGrp="1"/>
          </p:cNvSpPr>
          <p:nvPr>
            <p:ph type="dt" idx="11"/>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4" name="PlaceHolder 4"/>
          <p:cNvSpPr>
            <a:spLocks noGrp="1"/>
          </p:cNvSpPr>
          <p:nvPr>
            <p:ph type="ftr" idx="12"/>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ercot.com/committee/pwg"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6184-DF02-4E9D-AFD1-0C797D163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p:nvPr>
        </p:nvSpPr>
        <p:spPr>
          <a:xfrm>
            <a:off x="761760" y="1600200"/>
            <a:ext cx="7543800" cy="449568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4171"/>
                </a:solidFill>
                <a:latin typeface="Arial"/>
                <a:ea typeface="Times New Roman"/>
              </a:rPr>
              <a:t>Profiling Working Group</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4171"/>
                </a:solidFill>
                <a:latin typeface="Arial"/>
                <a:ea typeface="Times New Roman"/>
              </a:rPr>
              <a:t>Update to RMS</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4171"/>
                </a:solidFill>
                <a:latin typeface="Arial"/>
                <a:ea typeface="Times New Roman"/>
              </a:rPr>
              <a:t>August 2, 2022</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4171"/>
                </a:solidFill>
                <a:uFillTx/>
                <a:latin typeface="Arial"/>
                <a:ea typeface="Times New Roman"/>
              </a:rPr>
              <a:t>Leadership:</a:t>
            </a:r>
            <a:br>
              <a:rPr sz="2400"/>
            </a:br>
            <a:r>
              <a:rPr b="1" lang="en-US" sz="2400" spc="-1" strike="noStrike">
                <a:solidFill>
                  <a:srgbClr val="294171"/>
                </a:solidFill>
                <a:latin typeface="Arial"/>
                <a:ea typeface="Times New Roman"/>
              </a:rPr>
              <a:t>Sam Pak (Oncor)</a:t>
            </a:r>
            <a:endParaRPr b="0" lang="en-US" sz="24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4171"/>
                </a:solidFill>
                <a:latin typeface="Arial"/>
                <a:ea typeface="Times New Roman"/>
              </a:rPr>
              <a:t>Sheri Wiegand (TX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9D7E-E4A3-476D-B1A7-246F314AC9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266760" y="274320"/>
            <a:ext cx="8724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Analysis of Residential Rooftop PV in Competitive ERCOT Area</a:t>
            </a:r>
            <a:endParaRPr b="0" lang="en-US" sz="2800" spc="-1" strike="noStrike">
              <a:solidFill>
                <a:srgbClr val="000000"/>
              </a:solidFill>
              <a:latin typeface="Arial"/>
            </a:endParaRPr>
          </a:p>
        </p:txBody>
      </p:sp>
      <p:sp>
        <p:nvSpPr>
          <p:cNvPr id="222" name="TextBox 1"/>
          <p:cNvSpPr/>
          <p:nvPr/>
        </p:nvSpPr>
        <p:spPr>
          <a:xfrm>
            <a:off x="552600" y="1562040"/>
            <a:ext cx="8153280" cy="39906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l Raish presented follow-up data from his last residential PV analysis where he provided aggregated interval data for 2021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e type (RESLO/RESH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ther Zone – COAST, EAST, NORTH, etc</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ored in Excel spreadsheet includes multiple tab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Export, PV Output, Baseline, and Summary</a:t>
            </a:r>
            <a:endParaRPr b="0" lang="en-US" sz="2000" spc="-1" strike="noStrike">
              <a:solidFill>
                <a:srgbClr val="000000"/>
              </a:solidFill>
              <a:latin typeface="Arial"/>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d to the main PWG meeting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9A0B-7851-40D9-B2A4-614664F2E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6858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2021 Weather Sensitivity Update</a:t>
            </a:r>
            <a:endParaRPr b="0" lang="en-US" sz="2800" spc="-1" strike="noStrike">
              <a:solidFill>
                <a:srgbClr val="000000"/>
              </a:solidFill>
              <a:latin typeface="Arial"/>
            </a:endParaRPr>
          </a:p>
        </p:txBody>
      </p:sp>
      <p:sp>
        <p:nvSpPr>
          <p:cNvPr id="226" name="TextBox 1"/>
          <p:cNvSpPr/>
          <p:nvPr/>
        </p:nvSpPr>
        <p:spPr>
          <a:xfrm>
            <a:off x="971640" y="5626080"/>
            <a:ext cx="72007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MP is still working on the outstanding issue</a:t>
            </a:r>
            <a:endParaRPr b="0" lang="en-US" sz="2000" spc="-1" strike="noStrike">
              <a:solidFill>
                <a:srgbClr val="000000"/>
              </a:solidFill>
              <a:latin typeface="Arial"/>
            </a:endParaRPr>
          </a:p>
        </p:txBody>
      </p:sp>
      <p:pic>
        <p:nvPicPr>
          <p:cNvPr id="227" name="Picture 1" descr=""/>
          <p:cNvPicPr/>
          <p:nvPr/>
        </p:nvPicPr>
        <p:blipFill>
          <a:blip r:embed="rId1"/>
          <a:stretch/>
        </p:blipFill>
        <p:spPr>
          <a:xfrm>
            <a:off x="266760" y="1206360"/>
            <a:ext cx="8610480" cy="40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7741-0020-424D-95DC-A0425A848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151920" y="376200"/>
            <a:ext cx="7086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2022 Business Annual Validation Update</a:t>
            </a:r>
            <a:endParaRPr b="0" lang="en-US" sz="2800" spc="-1" strike="noStrike">
              <a:solidFill>
                <a:srgbClr val="000000"/>
              </a:solidFill>
              <a:latin typeface="Arial"/>
            </a:endParaRPr>
          </a:p>
        </p:txBody>
      </p:sp>
      <p:sp>
        <p:nvSpPr>
          <p:cNvPr id="231" name="TextBox 1"/>
          <p:cNvSpPr/>
          <p:nvPr/>
        </p:nvSpPr>
        <p:spPr>
          <a:xfrm>
            <a:off x="647640" y="4680000"/>
            <a:ext cx="784872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SPs are proceeding toward completing Annual Validation due by 9/30/22</a:t>
            </a:r>
            <a:endParaRPr b="0" lang="en-US" sz="1800" spc="-1" strike="noStrike">
              <a:solidFill>
                <a:srgbClr val="000000"/>
              </a:solidFill>
              <a:latin typeface="Arial"/>
            </a:endParaRPr>
          </a:p>
        </p:txBody>
      </p:sp>
      <p:pic>
        <p:nvPicPr>
          <p:cNvPr id="232" name="Picture 6" descr=""/>
          <p:cNvPicPr/>
          <p:nvPr/>
        </p:nvPicPr>
        <p:blipFill>
          <a:blip r:embed="rId1"/>
          <a:stretch/>
        </p:blipFill>
        <p:spPr>
          <a:xfrm>
            <a:off x="623880" y="1447920"/>
            <a:ext cx="7961400" cy="29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43080" y="23652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IDR to AMS (BUSLRG) Update</a:t>
            </a:r>
            <a:endParaRPr b="0" lang="en-US" sz="2800" spc="-1" strike="noStrike">
              <a:solidFill>
                <a:srgbClr val="000000"/>
              </a:solidFill>
              <a:latin typeface="Arial"/>
            </a:endParaRPr>
          </a:p>
        </p:txBody>
      </p:sp>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E599-B386-428F-9B6D-CB50F98B6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2" descr=""/>
          <p:cNvPicPr/>
          <p:nvPr/>
        </p:nvPicPr>
        <p:blipFill>
          <a:blip r:embed="rId1"/>
          <a:stretch/>
        </p:blipFill>
        <p:spPr>
          <a:xfrm>
            <a:off x="152280" y="4038480"/>
            <a:ext cx="8845560" cy="2102040"/>
          </a:xfrm>
          <a:prstGeom prst="rect">
            <a:avLst/>
          </a:prstGeom>
          <a:ln w="0">
            <a:noFill/>
          </a:ln>
        </p:spPr>
      </p:pic>
      <p:sp>
        <p:nvSpPr>
          <p:cNvPr id="236" name="Rectangle 3"/>
          <p:cNvSpPr/>
          <p:nvPr/>
        </p:nvSpPr>
        <p:spPr>
          <a:xfrm>
            <a:off x="152280" y="1047600"/>
            <a:ext cx="8610840" cy="2544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ransition Plans/Data Accessibility for BUSLRG profiles:</a:t>
            </a:r>
            <a:endParaRPr b="0" lang="en-US" sz="14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ea typeface="Calibri"/>
              </a:rPr>
              <a:t>Oncor</a:t>
            </a:r>
            <a:r>
              <a:rPr b="0" lang="en-US" sz="1600" spc="-1" strike="noStrike">
                <a:solidFill>
                  <a:srgbClr val="000000"/>
                </a:solidFill>
                <a:latin typeface="Calibri"/>
                <a:ea typeface="Calibri"/>
              </a:rPr>
              <a:t> has completed apprx 6555 conversions to BUSLRG as of 6/7/22 per ERCOT counts.  Approx 200 ESIs have been transitioned since last month.  462 are remaining on BUSIDRRQ with conversions continuing.  Q3 is still timeline for interval data availability in CRIP.</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ea typeface="Calibri"/>
              </a:rPr>
              <a:t>AEP</a:t>
            </a:r>
            <a:r>
              <a:rPr b="0" lang="en-US" sz="1600" spc="-1" strike="noStrike">
                <a:solidFill>
                  <a:srgbClr val="000000"/>
                </a:solidFill>
                <a:latin typeface="Calibri"/>
                <a:ea typeface="Calibri"/>
              </a:rPr>
              <a:t> has completed apprx 837 conversions to BUSLRG as of 6/7/22 per ERCOT counts.  259 remaining on BUSIRRQ with conversions to continue.</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ea typeface="Calibri"/>
              </a:rPr>
              <a:t>CNP</a:t>
            </a:r>
            <a:r>
              <a:rPr b="0" lang="en-US" sz="1600" spc="-1" strike="noStrike">
                <a:solidFill>
                  <a:srgbClr val="000000"/>
                </a:solidFill>
                <a:latin typeface="Calibri"/>
                <a:ea typeface="Calibri"/>
              </a:rPr>
              <a:t> is targeting  Q1 of 2023 (1</a:t>
            </a:r>
            <a:r>
              <a:rPr b="0" lang="en-US" sz="1600" spc="-1" strike="noStrike" baseline="30000">
                <a:solidFill>
                  <a:srgbClr val="000000"/>
                </a:solidFill>
                <a:latin typeface="Calibri"/>
                <a:ea typeface="Calibri"/>
              </a:rPr>
              <a:t>st</a:t>
            </a:r>
            <a:r>
              <a:rPr b="0" lang="en-US" sz="1600" spc="-1" strike="noStrike">
                <a:solidFill>
                  <a:srgbClr val="000000"/>
                </a:solidFill>
                <a:latin typeface="Calibri"/>
                <a:ea typeface="Calibri"/>
              </a:rPr>
              <a:t> wk of April 2023) for a Go Live.  Will transition to BUSLRG on cycle basis.  Interval data will also be available at that time.</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ea typeface="Calibri"/>
              </a:rPr>
              <a:t>TNMP</a:t>
            </a:r>
            <a:r>
              <a:rPr b="0" lang="en-US" sz="1600" spc="-1" strike="noStrike">
                <a:solidFill>
                  <a:srgbClr val="000000"/>
                </a:solidFill>
                <a:latin typeface="Calibri"/>
                <a:ea typeface="Calibri"/>
              </a:rPr>
              <a:t> status quo due to 3G remedi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A985-099E-4C80-8D19-E228C366F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Text Box 6"/>
          <p:cNvSpPr/>
          <p:nvPr/>
        </p:nvSpPr>
        <p:spPr>
          <a:xfrm>
            <a:off x="533520" y="1066680"/>
            <a:ext cx="8305560" cy="5321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marL="2858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G Flat profiles to BUSLRG per Load Profiling Guide (Appendix_D_Profile Decision Tree [Segment Assignment tab])</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or was seeking clarity on the Profile Decision Tree for those existing BUSOGFLT load profiles who reach 700 kW or above.  Oncor explained they have ~13,000 O&amp;G profiles of which ~60 ESIs fall into this catego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agreed the Decision Tree would remain the same and any ESIs would transition from OGFLT profile to BUSLRG if the threshold of 700 kW was reache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concern about the availability of interval data, Oncor has agreed to hold off making the conversion to BUSLRG until data could be available via CRIP portal (Q3 2022).</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ing Lubbock Power &amp; Light Zip Codes to Load Profiling Guide</a:t>
            </a:r>
            <a:endParaRPr b="0" lang="en-US" sz="2000" spc="-1" strike="noStrike">
              <a:solidFill>
                <a:srgbClr val="000000"/>
              </a:solidFill>
              <a:latin typeface="Arial"/>
            </a:endParaRPr>
          </a:p>
          <a:p>
            <a:pPr lvl="1" marL="743040" indent="-285840">
              <a:lnSpc>
                <a:spcPct val="115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vin has agreed to sponsor an ERCOT LPGRR to add applicable Lubbock zip codes.</a:t>
            </a:r>
            <a:endParaRPr b="0" lang="en-US" sz="1600" spc="-1" strike="noStrike">
              <a:solidFill>
                <a:srgbClr val="000000"/>
              </a:solidFill>
              <a:latin typeface="Arial"/>
            </a:endParaRPr>
          </a:p>
          <a:p>
            <a:pPr lvl="1" marL="743040" indent="-285840">
              <a:lnSpc>
                <a:spcPct val="115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vin indicated Lubbock has already been assigned to the North Weather Zone</a:t>
            </a:r>
            <a:endParaRPr b="0" lang="en-US" sz="1600" spc="-1" strike="noStrike">
              <a:solidFill>
                <a:srgbClr val="000000"/>
              </a:solidFill>
              <a:latin typeface="Arial"/>
            </a:endParaRPr>
          </a:p>
          <a:p>
            <a:pPr lvl="1" marL="743040" indent="-285840">
              <a:lnSpc>
                <a:spcPct val="115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PGRR would be submitted to RMS and would not have to be remanded to PWG</a:t>
            </a:r>
            <a:endParaRPr b="0" lang="en-US" sz="1600" spc="-1" strike="noStrike">
              <a:solidFill>
                <a:srgbClr val="000000"/>
              </a:solidFill>
              <a:latin typeface="Arial"/>
            </a:endParaRPr>
          </a:p>
        </p:txBody>
      </p:sp>
      <p:sp>
        <p:nvSpPr>
          <p:cNvPr id="239" name="PlaceHolder 1"/>
          <p:cNvSpPr>
            <a:spLocks noGrp="1"/>
          </p:cNvSpPr>
          <p:nvPr>
            <p:ph type="title"/>
          </p:nvPr>
        </p:nvSpPr>
        <p:spPr>
          <a:xfrm>
            <a:off x="457200" y="274320"/>
            <a:ext cx="6858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Other Discussion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1BB8-755D-412E-A90C-AE1A1FDC9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151920" y="37620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PWG Response for TAC Structural Review </a:t>
            </a:r>
            <a:endParaRPr b="0" lang="en-US" sz="2800" spc="-1" strike="noStrike">
              <a:solidFill>
                <a:srgbClr val="000000"/>
              </a:solidFill>
              <a:latin typeface="Arial"/>
            </a:endParaRPr>
          </a:p>
        </p:txBody>
      </p:sp>
      <p:sp>
        <p:nvSpPr>
          <p:cNvPr id="243" name="Rectangle 1"/>
          <p:cNvSpPr/>
          <p:nvPr/>
        </p:nvSpPr>
        <p:spPr>
          <a:xfrm>
            <a:off x="195120" y="1211400"/>
            <a:ext cx="8688600" cy="478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Review of Scope – Is the Scope still valid and is the subcommittee/working group/task force still performing these functions; Does the scope need to be revised?</a:t>
            </a:r>
            <a:endParaRPr b="0" lang="en-US" sz="14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The scope of PWG does not need to be revised.  The working group is still performing the functions as outlined.</a:t>
            </a:r>
            <a:endParaRPr b="0" lang="en-US" sz="1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Review Open Action Items list – Is the subcommittee/working group/task force discussing open issues, ongoing issues, etc. </a:t>
            </a:r>
            <a:endParaRPr b="0" lang="en-US" sz="14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YES, PWG continues to facilitate changes, develops and maintains the Load Profiling Guide (LPG).  In addition to the Annual Weather Sensitivity and Annual Validation changes, PWG is currently monitoring the market transition to the newly developed BUSLRG/DG profiles and Lubbock Power &amp; Light zip code additions to the LPG.</a:t>
            </a:r>
            <a:endParaRPr b="0" lang="en-US" sz="1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ow often does the subcommittee/working group/task force meet and how long are their meetings?  Are meetings well attended?  </a:t>
            </a:r>
            <a:endParaRPr b="0" lang="en-US" sz="14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PWG typically meets each month with meeting lasting approx 3-3.5 hours long.   Attendance ranges between 20-25 market participants. </a:t>
            </a:r>
            <a:endParaRPr b="0" lang="en-US" sz="1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oes the subcommittee/working group/task force have a similar scope with another subcommittee/working group/task force – if so, can the groups be consolidated?</a:t>
            </a:r>
            <a:endParaRPr b="0" lang="en-US" sz="14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No.  However, PWG will collaborate with other RMS WGs such as TDTMS and TXSET, as needed.  </a:t>
            </a:r>
            <a:endParaRPr b="0" lang="en-US" sz="1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f applicable, review subcommittee/working group/task force procedures. (voting, process, etc.)</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lvl="1" marL="743040" indent="-28584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Not applicable </a:t>
            </a:r>
            <a:endParaRPr b="0" lang="en-US" sz="14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s the subcommittee/working group/task force still necessary?</a:t>
            </a:r>
            <a:endParaRPr b="0" lang="en-US" sz="1400" spc="-1" strike="noStrike">
              <a:solidFill>
                <a:srgbClr val="000000"/>
              </a:solidFill>
              <a:latin typeface="Arial"/>
            </a:endParaRPr>
          </a:p>
          <a:p>
            <a:pPr lvl="1" marL="743040" indent="-28584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Yes, PWG acts as a forum to help facilitate changes to the market rules pertaining to load profiling issues as reflected in the ERCOT protocols and the Load Profiling Guide (L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425E-AA67-472E-8C17-B8C6051B2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6"/>
          <p:cNvSpPr/>
          <p:nvPr/>
        </p:nvSpPr>
        <p:spPr>
          <a:xfrm>
            <a:off x="380880" y="1066680"/>
            <a:ext cx="8610840" cy="3413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4171"/>
                </a:solidFill>
                <a:latin typeface="Arial"/>
              </a:rPr>
              <a:t>Next PWG meeting via WebEx:</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4171"/>
                </a:solidFill>
                <a:latin typeface="Arial"/>
              </a:rPr>
              <a:t>August 17</a:t>
            </a:r>
            <a:r>
              <a:rPr b="1" lang="en-US" sz="3200" spc="-1" strike="noStrike" baseline="30000">
                <a:solidFill>
                  <a:srgbClr val="294171"/>
                </a:solidFill>
                <a:latin typeface="Arial"/>
              </a:rPr>
              <a:t>th</a:t>
            </a:r>
            <a:r>
              <a:rPr b="1" lang="en-US" sz="3200" spc="-1" strike="noStrike">
                <a:solidFill>
                  <a:srgbClr val="294171"/>
                </a:solidFill>
                <a:latin typeface="Arial"/>
              </a:rPr>
              <a:t>, 2022 @ 9:30 AM</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4171"/>
                </a:solidFill>
                <a:latin typeface="Arial"/>
              </a:rPr>
              <a:t>Agend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ther Sensitivity wrap u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nnual Validation upd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R/AMS BUSLRG Updates from TDS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bbock Power &amp; Light Zip Codes to LPG</a:t>
            </a:r>
            <a:endParaRPr b="0" lang="en-US" sz="2000" spc="-1" strike="noStrike">
              <a:solidFill>
                <a:srgbClr val="000000"/>
              </a:solidFill>
              <a:latin typeface="Arial"/>
            </a:endParaRPr>
          </a:p>
        </p:txBody>
      </p:sp>
      <p:sp>
        <p:nvSpPr>
          <p:cNvPr id="247" name="TextBox 61"/>
          <p:cNvSpPr/>
          <p:nvPr/>
        </p:nvSpPr>
        <p:spPr>
          <a:xfrm>
            <a:off x="457200" y="556272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ercot.com/committee/pwg</a:t>
            </a:r>
            <a:endParaRPr b="0" lang="en-US" sz="3200" spc="-1" strike="noStrike">
              <a:solidFill>
                <a:srgbClr val="000000"/>
              </a:solidFill>
              <a:latin typeface="Arial"/>
            </a:endParaRPr>
          </a:p>
        </p:txBody>
      </p:sp>
      <p:sp>
        <p:nvSpPr>
          <p:cNvPr id="248" name="PlaceHolder 1"/>
          <p:cNvSpPr>
            <a:spLocks noGrp="1"/>
          </p:cNvSpPr>
          <p:nvPr>
            <p:ph type="title"/>
          </p:nvPr>
        </p:nvSpPr>
        <p:spPr>
          <a:xfrm>
            <a:off x="457200" y="274320"/>
            <a:ext cx="6858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Next PWG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Wiegand, Sheri</cp:lastModifiedBy>
  <dcterms:modified xsi:type="dcterms:W3CDTF">2022-07-29T13:24:22Z</dcterms:modified>
  <cp:revision>1393</cp:revision>
  <dc:subject/>
  <dc:title>Instructions</dc:title>
</cp:coreProperties>
</file>