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F7AFC03-4B35-4934-A7F6-04F84798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CD2BE2-90AD-4180-9B54-4BB42589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C22662-40F1-41E0-96B3-8191AF92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0E33B8A-F56B-4D78-93D0-2A7E70CEB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E9097F-F382-4C11-9641-A74BCEF82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D2C-2EC3-4FD9-BF37-B79C22DF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57C-D472-4D65-AF9C-03411413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EFC-99EE-47AE-B35E-148388EC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7FB-487F-4891-9F78-938785E5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BE1B-01E8-4A94-B655-31822BE6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CEC7-A7F1-443C-BEB4-8799EB1C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665E-D3A3-4827-BB55-1ABF4506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BC4D-1359-44DC-BB33-2FF9AC3D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3768-535A-422E-ACBC-8E66FE17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44AC-3C83-4CE4-8481-27C4F99F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CFAF-35D8-4F6F-9542-5BD51215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138-BD60-40DD-B858-3C8AA849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7E71-9E22-41C9-BE3C-AC2E2254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16CF-79E6-481C-966E-0E77638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B926-12FF-42BB-8C92-295838EC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B4BA-553D-48F3-8ECB-CCECBD2B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436E-4D0D-4CB7-B525-A568C9D0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7F3-3AC8-44A1-A6DE-0F84C0A8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317-4AD7-4E50-BA13-AF13C3BC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2D8-FCCC-4A09-B208-EC4CE1EE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64E-5A1C-4EC5-A8B2-8360B60D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C3C-4208-4F53-B35A-A9147804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6A7-DEB2-4863-BC4A-4361A909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75E-C729-4F51-9A21-A062BA14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0C93-1332-423B-B389-694BEA1B13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2177-604C-4874-A03E-2D87992FD0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ms@crescentpower.ne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NPRR1128: Changes to Ensure Critical FFR Particip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27024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ms Siddiqi, Ph.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ing Hunt Energy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512) 619-35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shams@crescentpowe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MS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 1, 20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C0C0-6A00-40F3-8026-0FDF99C220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deal Responsive Resource Servi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al RRS provis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urces timely responding to frequency drop (or increase) providing precisely the amount of response required based on 100% responsive capacity deployed with 1% change in frequenc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urces timely un-deploying frequency response in an amount based precisely the current level of frequency dev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this timely precise response should be the same regardless of system iner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Rs can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 this ideal response capability with fast response time and precise calculated MW response at any system inertia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s and ONSC Hydros have slower response times – a real concern during lower iner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ad Resource response is imprecise (bulky) and cannot be rearmed quickly for next event (freeing up non-PRC capacity does not adequately protect against next frequency eve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R response is ideal for any system inertia and critical for lower inerti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s and Hydros too slow to timely arrest frequency – reflected in “Equivalence Factor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er inertia in 2021 compared to past years and significant IRRs being built in next few yea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50MW of FFR can lower Critical Inertia from 100 GW*s to 90 GW*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’s wrong with ESRs providing PFR-RRS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SC Hydro PFR-RRS has a frequency trigger of 59.8 Hz and 20 seconds to respond – likely too slow for when frequency is that low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PFR-RRS responds when frequency outside +/-17 mHz: ESRs’ fast response implies ESRs bear disproportionate PFR burden – better suited for GR PFR and not duration limited ES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C15-54F0-41D1-A54E-F89D2D5A3D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ternatives to get desired ESR R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78720" indent="-321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wider frequency deadband for ESR to account for fast respons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ESRs can provide PFR MWs based on 1% droop within a second, set PFR frequency deadband wider for Resources that can provide PFR MW with 0.5 sec response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will more equitably distribute PFR from fast responding ESRs and slower responding G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8720" indent="-321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ow ESRs to use ONSC status to provide R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Rs act like Synchronous Condensers and can deploy much faster than Hydr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ONSC status technology neutral – even require 0.25 sec response for non-hydros (compared to 20 sec for hydros) to make the product much more useful in arresting frequenc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8720" indent="-321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PRR1128: Create separate FFR category of RRS while maintaining max FFR limit (450MW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FR is like ONSC except frequency trigger is 59.85Hz and response time is 15 cyc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SC is not prorated with UFR-RRS and does not have a max lim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FR is far superior to ONSC-RRS as a service to timely arrest frequenc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FFR offer floor at -$0.01/MWh is the least costly way to implement this 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8720" indent="-321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GR, LR, Hydro better suited for energy to restore load-gen balanc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s and LRs (by the end of May 2022) can provide in 4,000+ MW Non-Spin mark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54920" indent="-2682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2023, GRs and LRs will be able to provide EC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8720" indent="-321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Rs providing UFR-RRS currently have no incentive to qualify/provide FF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8720" indent="-321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FAS (9/27/13), ERCOT wanted to require minimum amount of FFR when necessary to assure acceptable system respon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F980-E11A-41ED-B932-FD8586F3BF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PRR1128: Realize FFR Valu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en though FFR is a more valuable service designed for duration-limited ESRs and ESRs would rather provide FFR, the financial incentives are such tha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FR has been provided to date (available since March 2020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CT has discussed the importance of addressing inertia concerns and prioritized FFR advancement in their Phase I implement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PRR1128 sets FFR offer floor at -$0.01/MWh – simple, minimal cost, quic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FR-RRS, FFR and UFR-RRS would still receive the same MCPC; however, the incentive for ESRs and eligible LRs to provide FFR is no proration until 450MW limit is reached in awarded FFR quant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FR Advancements, although helpful, still maintains current FFR pro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50MW of ESR providing FFR instead of PFR-RR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ers critical inertia by 8-10 GW*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ly increases system inertia due to additional commitment of GRs to provide PFR-R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reases reliability - FFR is reserved whereas PFR may be depleted if freq. drags for long ti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 about 30GW of additional solar and 11GW of additional wind in CDR, inertia may be low any time of year/day – forecasting year-ahead diffic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5960" indent="-285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eping NPRR1128 simple for low cost and quick implementation prefer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1:38:03Z</dcterms:created>
  <dc:creator>ssiddiqi</dc:creator>
  <dc:description/>
  <dc:language>en-US</dc:language>
  <cp:lastModifiedBy>Shams Siddiqi</cp:lastModifiedBy>
  <dcterms:modified xsi:type="dcterms:W3CDTF">2022-05-31T13:29:16Z</dcterms:modified>
  <cp:revision>204</cp:revision>
  <dc:subject/>
  <dc:title>Locational Marginal Pricing: The Texas Nodal Market</dc:title>
</cp:coreProperties>
</file>