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FCFB65D-1800-48BB-9B7A-C552CDF79E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B21464E-7419-47E0-8FD0-2FCD29FA49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6" name="PlaceHolder 1"/>
          <p:cNvSpPr>
            <a:spLocks noGrp="1"/>
          </p:cNvSpPr>
          <p:nvPr>
            <p:ph type="sldImg"/>
          </p:nvPr>
        </p:nvSpPr>
        <p:spPr>
          <a:xfrm>
            <a:off x="1258920" y="720720"/>
            <a:ext cx="4797360" cy="359892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485B302-8500-45BA-990A-E54627F42A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9" name="PlaceHolder 1"/>
          <p:cNvSpPr>
            <a:spLocks noGrp="1"/>
          </p:cNvSpPr>
          <p:nvPr>
            <p:ph type="sldImg"/>
          </p:nvPr>
        </p:nvSpPr>
        <p:spPr>
          <a:xfrm>
            <a:off x="1258920" y="720720"/>
            <a:ext cx="4797360" cy="359892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B16A776-8238-40DC-921F-5C8FA3C757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2" name="PlaceHolder 1"/>
          <p:cNvSpPr>
            <a:spLocks noGrp="1"/>
          </p:cNvSpPr>
          <p:nvPr>
            <p:ph type="sldImg"/>
          </p:nvPr>
        </p:nvSpPr>
        <p:spPr>
          <a:xfrm>
            <a:off x="1258920" y="720720"/>
            <a:ext cx="4797360" cy="359892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AD66D-B8D4-4352-8313-01B0AD0D0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0B624-94C2-4D82-A04A-AAEC6B9F7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E56C2-AAF5-46D8-9FAE-157BCBE97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4B3AF-E44C-4944-B74E-B573F4FE0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F450C-B3D3-4EA8-B2AD-15867D282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FF339-EE52-43D9-93CE-96EE224B5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CECB9-398A-4BB7-AD01-BAF7A3697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C21E6-9A45-45A9-A10B-BEBB2D17C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04009-8CEC-4D26-9EF3-000DED95F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773AD-6231-4382-9868-766499852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D1174-0CEC-49CA-9EB0-79B0E3F9C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C69FD-2835-4A43-A4F4-737890437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D3086-DC05-48A5-97EC-541CEE9A9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FAC6E-3809-4E43-B76D-59AFF431B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45911-B459-42A4-B033-13CE2605F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B9694-CA78-45E5-921B-714D9F4D9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54A70-4B6B-4CB2-8A38-DA5A4D658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7CEFA-7826-44D9-9CE0-8D383CDA4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5D8CB-FCAB-457C-BE3D-7B52430D3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10004-DAAD-4E8F-A4B1-0DF9FFA36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EB79F-DA46-4FFA-9117-87DD0242B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5DB9C-462C-4D63-8675-08D6C4BD6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889E-E71B-4D6A-897C-E8426F247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0C78F-E034-4443-AB11-33B83626B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bruary 18, 2021</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B923-5F0C-4267-91B0-0C681BCACE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bruary 18, 2021</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AC09-1899-4FBE-B2CB-3771FF631F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Guidance on Co-located CLR with Generation</a:t>
            </a:r>
            <a:endParaRPr b="0" lang="en-US" sz="4000" spc="-1" strike="noStrike">
              <a:solidFill>
                <a:srgbClr val="999900"/>
              </a:solidFill>
              <a:latin typeface="Garamond"/>
            </a:endParaRPr>
          </a:p>
        </p:txBody>
      </p:sp>
      <p:sp>
        <p:nvSpPr>
          <p:cNvPr id="98" name="PlaceHolder 2"/>
          <p:cNvSpPr>
            <a:spLocks noGrp="1"/>
          </p:cNvSpPr>
          <p:nvPr>
            <p:ph type="subTitle"/>
          </p:nvPr>
        </p:nvSpPr>
        <p:spPr>
          <a:xfrm>
            <a:off x="609480" y="3270240"/>
            <a:ext cx="784872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scent Power, Inc.</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ing Soluna Computing, Inc.</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512) 619-353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ril 6, 202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6D1B-4660-456A-BA5C-473513A5DF5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Guidance: Pursue Opt. 1 w/Netting</a:t>
            </a:r>
            <a:endParaRPr b="0" lang="en-US" sz="4400" spc="-1" strike="noStrike">
              <a:solidFill>
                <a:srgbClr val="999900"/>
              </a:solidFill>
              <a:latin typeface="Garamond"/>
            </a:endParaRPr>
          </a:p>
        </p:txBody>
      </p:sp>
      <p:sp>
        <p:nvSpPr>
          <p:cNvPr id="101" name="PlaceHolder 2"/>
          <p:cNvSpPr>
            <a:spLocks noGrp="1"/>
          </p:cNvSpPr>
          <p:nvPr>
            <p:ph/>
          </p:nvPr>
        </p:nvSpPr>
        <p:spPr>
          <a:xfrm>
            <a:off x="456840" y="1447560"/>
            <a:ext cx="8381880" cy="4530600"/>
          </a:xfrm>
          <a:prstGeom prst="rect">
            <a:avLst/>
          </a:prstGeom>
          <a:noFill/>
          <a:ln w="0">
            <a:noFill/>
          </a:ln>
        </p:spPr>
        <p:txBody>
          <a:bodyPr anchor="t">
            <a:normAutofit/>
          </a:bodyPr>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rge flexible load (e.g. data centers) are co-locating behind the meter (BTM) of generation resources to benefit from netting and consume renewable energy that would otherwise be curtailed</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loads can respond quickly to RTM prices but are currently not dispatched by SCED and net currently settled at Load Zone prices</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ing these loads dispatched by SCED as CLR on a Nodal basis and settled on Nodal prices would greatly improve ERCOT’s ability to manage congestion and better dispatch resources and send an appropriate price signal to these flexible loads</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id would benefit from GR and CLR providing full AS capability</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ever, Option 1, without additional clarification, may eliminate netting benefits and thus disincentivize such loads to be CLRs</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maintains benefits of netting at higher costs/complexity</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uidance</a:t>
            </a:r>
            <a:r>
              <a:rPr b="0" lang="en-US" sz="1800" spc="-1" strike="noStrike">
                <a:solidFill>
                  <a:srgbClr val="000000"/>
                </a:solidFill>
                <a:latin typeface="Verdana"/>
              </a:rPr>
              <a:t>: Pursue Option 1 while maintaining netting for TCOS and LRS cost allocation as required by current Protocol 10.3.2.3</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9C6A-E9C7-4FEF-A321-C32B3CA934F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mplications of Opt 1 w/o Netting</a:t>
            </a:r>
            <a:endParaRPr b="0" lang="en-US" sz="4400" spc="-1" strike="noStrike">
              <a:solidFill>
                <a:srgbClr val="999900"/>
              </a:solidFill>
              <a:latin typeface="Garamond"/>
            </a:endParaRPr>
          </a:p>
        </p:txBody>
      </p:sp>
      <p:sp>
        <p:nvSpPr>
          <p:cNvPr id="104" name="PlaceHolder 2"/>
          <p:cNvSpPr>
            <a:spLocks noGrp="1"/>
          </p:cNvSpPr>
          <p:nvPr>
            <p:ph/>
          </p:nvPr>
        </p:nvSpPr>
        <p:spPr>
          <a:xfrm>
            <a:off x="456840" y="1447560"/>
            <a:ext cx="8381880" cy="4530600"/>
          </a:xfrm>
          <a:prstGeom prst="rect">
            <a:avLst/>
          </a:prstGeom>
          <a:noFill/>
          <a:ln w="0">
            <a:noFill/>
          </a:ln>
        </p:spPr>
        <p:txBody>
          <a:bodyPr anchor="t">
            <a:normAutofit/>
          </a:bodyPr>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Load to be CLR under Option 1 without Netting implies:</a:t>
            </a:r>
            <a:endParaRPr b="0" lang="en-US" sz="18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 consuming what would’ve been wasted (curtailed) energy with no net injection into the grid would be charged full 4CP and LRS charges</a:t>
            </a:r>
            <a:endParaRPr b="0" lang="en-US" sz="14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der net injection scenarios, Load would still be charged full 4CP and LRS charges even though there is net injection at the POI. E.g., with 200MW generation and 50MW BTM Load so that 150MW is net injected into the grid, Load would still pay 4CP and LRS charges for the entire 50MW </a:t>
            </a:r>
            <a:endParaRPr b="0" lang="en-US" sz="14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Loads would have strong disincentive to be CLR:</a:t>
            </a:r>
            <a:endParaRPr b="0" lang="en-US" sz="18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y can provide UFR-RRS as NCLR for their full capacity and benefit from netting – no 4CP and LRS charges for netted Load</a:t>
            </a:r>
            <a:endParaRPr b="0" lang="en-US" sz="14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y can passively respond to market prices without concern of following basepoints</a:t>
            </a:r>
            <a:endParaRPr b="0" lang="en-US" sz="14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willing to net under Opt 2 but not under less costly Opt 1</a:t>
            </a:r>
            <a:endParaRPr b="0" lang="en-US" sz="18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n implement Opt 2. Opt 1 without netting is a waste of effort and money since these Loads co-located precisely for the benefit of netting</a:t>
            </a:r>
            <a:endParaRPr b="0" lang="en-US" sz="14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uidance</a:t>
            </a:r>
            <a:r>
              <a:rPr b="0" lang="en-US" sz="1800" spc="-1" strike="noStrike">
                <a:solidFill>
                  <a:srgbClr val="000000"/>
                </a:solidFill>
                <a:latin typeface="Verdana"/>
              </a:rPr>
              <a:t>: Save time and money – pursue Option 1 with Netting</a:t>
            </a: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Shams Siddiqi</cp:lastModifiedBy>
  <dcterms:modified xsi:type="dcterms:W3CDTF">2022-03-31T17:38:50Z</dcterms:modified>
  <cp:revision>251</cp:revision>
  <dc:subject/>
  <dc:title>Locational Marginal Pricing: The Texas Nodal Market</dc:title>
</cp:coreProperties>
</file>