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3C72-CE6B-4DE2-9608-3A22419C4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9F60-6021-4CA9-A8DB-8A5C0F351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8639-3510-495E-ADF2-8D6BF67E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5149-5CD6-4197-AA06-6C88E217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EB297E-7341-4985-8EBF-8D55411D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05D197-5671-45AC-B09B-0B556047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7D4AA5-A1DD-42AB-8E43-45FD1D5E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EBE12-19D5-445E-97F1-2BDB383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9C7644-894E-4D26-985D-48067518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EDFEA8-4AAE-472E-A9B4-3A67584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729153-BADB-4751-9D05-5CD5C376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62373F-5BF3-49FA-A2A5-65BF585A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E69594-21CE-4641-841A-4C6593F3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8FCEC-21C0-4834-8616-40EC2692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07F5-37E0-4D9D-A04D-9D5C6552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B5CBF-6EDF-4D52-8C84-C61E92A9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8B155-D178-4789-B1A0-007C666A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7A6F1-7303-4145-9A2F-DE899A15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E9448-0A80-4E62-8CC5-FEC5DC1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9BD16-BB22-405E-A7D7-97889501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7F8DA-D174-492F-931D-FA60C5D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2604E-748F-48DE-A68F-37B91B6B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D2075-A0DE-42C8-83A4-0D25E23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DF23A-0FEB-4C6A-ABAA-A6CBE870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F63DE-147E-4136-94B8-8778C3AA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DEEE-A0D8-4F0C-9208-BFCC9CEF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85ED1-2083-4B5E-96AB-FECBF4AC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197FD-E732-4C7D-A9EA-E951AE25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0A82B-4CB3-4279-9651-5599ABE4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25A72-9138-49C6-AC40-FF023F29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ED127-280C-4989-B55B-FDB55FC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6E64A-A10B-4057-8F9D-E9AD20A7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38C05-F058-495C-8AA2-B69FDB61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C5F72-1B1B-4AFA-9922-8C680B4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08EED-D13E-43C3-99A7-E0CFB38B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7DB70-9E22-4092-92EC-BDF77599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99043-6783-42B5-9B51-067BE154CC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F6160-DDE1-41A5-87F5-95F8311C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4B93B-8924-4983-ACF1-15D45D7A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3B789-1B28-4928-A10C-25201F3F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B66DC4-C84B-4BB3-9BAA-EB71C1DC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331FBA-FAE7-4524-8604-16CB790F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3F4175-23F1-4A9A-9EB4-D1F339A8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D05912-5223-4124-9D42-7A2CF8C4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3991AB-0064-43DA-88D4-3A092594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2E48EA-4DEB-4FBB-A4A4-A053B748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B021A5-67A2-4A07-A7C5-82873D8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E0D9C-2D0B-4C63-B161-71B861B3B1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060F16-F341-4280-9460-614F729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F3C5FA-7A3C-47A0-B436-7879AEA8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AA2A0A-8A49-4826-8B47-487A385F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1538EB-BE6C-4256-A643-ECF19E25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D0A8C1-D4BC-4F4A-982F-3238D80C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FF768-7F7E-47B1-A72C-608C04EC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C4E04-3F0D-4C73-998C-09D2E086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5B281-4F88-437A-A0B8-ACD8C75F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E9E1E-4A9B-4DFC-931A-37430668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06590-E2DF-4027-B152-F63F923C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F3F8C-374E-444C-9B0F-6FCD712705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C3E99-BB68-4894-B64E-260720A3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4824C-A833-4017-9665-9D5C853C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1956D-003B-4033-9916-739AB0D3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74D75-68AF-4950-BD9F-74984F1C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D0B88-4457-4483-B387-2D3BDB03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CB10B-47A5-45D9-AAF5-211D03CB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EDB70-82E6-494F-8142-B537A4DD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3BDF9D-A91F-4329-8EC1-55424037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B84583-568E-4F44-82DF-4AB8FE4D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6CF054-A0B7-4BD6-AB95-90DE2332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C0E38-0D51-4825-851D-31CF54FA1FC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CA5D95-F9D5-468B-8140-2E56CFCA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8B6BD7-378B-47F6-8B1C-505A7C52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D73039-690D-4C8F-A839-CB8E1353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BB4BAF-DB7F-4B65-8E42-6769BB3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ED6B9D-CF30-4E04-BD1D-19381FFD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84E828-508C-4F64-920D-C794E015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47601B-F1D8-4F0A-A1E1-62213AC2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7F1914-BE3A-4264-8AEE-B29DE9B2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0B80A5-6DFF-4FAB-8B1F-7445EE96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CD0B19-76C3-43AF-A9DC-0FAE435F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EF7F4-5DC9-4390-9091-C08E35BAA97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EAE978-3FC8-4457-83A1-61C87C64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CEF837-E087-491C-B36C-2DA8527E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A8E1D3-F2CA-43DC-ABE0-B7E2AFB0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15ABEC-F395-4EAE-9D09-ED46B196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22B5FC-CC3C-4376-9586-A7E60BD5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5D39F1-097E-4D47-A6E3-C4EB5BA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440FC1-C50C-4E08-8560-62220AF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EB0D08-D42D-4E89-AF40-7D14291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0AAF8F-700A-4F90-844F-E0CE3C52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77DC17-DD55-473A-A7AE-D97EC33B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21BE7-8590-4331-AB38-2A26A4C05CD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B12C2A-2096-4AAC-9FDE-32B6F0B7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5CB4F1-DA26-4477-8095-3FBDF720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91F7B7-2EB1-462E-93CA-F0F7AE30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E1260F-1099-459A-87DF-1FD12F70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8073E2-6062-4CBA-B8C8-46ECBEBC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0B0D3B-E3CC-4412-917C-A02CE3DB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1FC6E1-CC5B-498A-9F07-9A9D71EE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A45914-49D4-47AD-AADB-B9D8EDA7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1ADF78-190E-45F8-8626-79F8B87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785B26-5323-4E89-AFB1-85C85F69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23B0D-B55B-41DE-902C-1DD507C6814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A8449D-6934-498E-B251-1921179E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FD889E-4AB8-4D32-90F6-0AFB7666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6102D4-AB01-4D16-8104-EADBD1B5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D3E82E-59BB-45FA-9BA7-20E58646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9A19A2-B9B5-499B-8E8C-438154C7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7ED6EE-A6F6-4C58-A61E-1CB6B115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620828-8185-418C-BD12-8A8F0E38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AD0457-2532-4FCE-BD6C-BA0464D7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C0B6AB-730A-40F2-BD92-39C81DE5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BBFBC3-5F45-430E-88E3-F9EEDE68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BD28-8902-4B23-81FC-B04A1A87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37DC0-1603-4256-B25D-DD2D28B8C48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911BF6-228B-42F2-9ABB-D85C3A50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87541E-33CC-42F7-A4B5-43016C9C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1908E2-FB5C-4FBF-BBF0-FFB29A62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3B0916-9329-4E51-B95C-24BBA6C7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E1CC5F-8D09-479D-9167-427BD116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520DE-245D-4021-982F-B28B6D7817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48B78-FDF0-4414-A5FF-44798CABEF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2D975-6627-48C1-8C3B-B2A2865830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77E09-D671-4EA8-8B04-18418EDCAC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C199A-B533-41E7-A94E-A84C5DE4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2E1D4-E1C1-4DCF-B0D8-E37C7CB9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FA5BF-F984-4C02-B3DD-DC745B27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66A7C-8BA5-4F85-A3F3-7D604373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058CE-F343-4006-B8E3-EB77EF3D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AC7D-7C2B-4809-BD69-9ECE513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B35C8-D0C6-421A-9A05-D602D5BD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B589B-D264-440F-8C94-70B9B253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C30BE-2FA5-4B08-99E9-8223B10D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52E50-B114-4023-93F3-C9E9D03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73873-FF4E-492E-836C-2F346328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67E92-7EC8-4543-905C-3AF87DD7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A7AA5-3574-42B3-A16C-8A95AB5A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33E8-AADD-4D4B-93CE-2C714DFF8F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5D13-2318-4F48-A43B-D3F2997008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1C2E-7B46-4B83-948F-B5953F340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17D8-CA36-41AF-8CEE-B442BB76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B9682-367A-4AB2-A21E-BBCCDF41E2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D2BA6-3E8D-41D2-A082-60502DC1A5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38A8-F884-4AB0-8019-49D5E96F8F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01F4-C7C1-4865-8600-502CA1AF18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6E3D-8B1A-41D9-9F67-81A4BCF201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E3F2-BA8C-4A38-BE57-84556B11A0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FD2A-EAEC-4038-8BC1-FC39CB8639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F1A6-2354-4E5C-9A3F-359E559BB1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8760-B02D-409E-A0C7-068E797E390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69CB-B94C-4858-B66C-CD01E7B1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8498-553A-4DAF-930D-C2BD5F50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06965-74BE-409E-8D82-8514531E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C86D6-0827-4884-B1FD-4839584B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AD4C8-B8DB-4E03-AE06-A28AE1AA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9B1F5-08AB-4EFC-AA09-FBF21DEE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C0A0E-2AA1-4ACA-9917-ABE98BA1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593B9-796D-4239-9792-C27C6AD0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1723E-8B2A-41A9-88F0-D89F158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938A7-3232-421D-BA7B-2112C4DD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7BC52-68BA-44F6-A481-C98E0DEF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968F-CDF7-4341-8D03-11686901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BDFE2-6694-4910-AECF-A5F0ACB5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60046-33A9-4A9A-851B-2466A730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897C9-5854-409D-8E1B-9331D26C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F1B32-A393-4E41-8C48-D80D0AB0C1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D908CC-6A8B-473E-9E0B-2CD87446A7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F2BC3A-242C-4DEA-8101-758089A369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66113-F06F-4325-A7C6-74E52B74D9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7278E0-676F-4611-928D-42EEFBA6BD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B7790-DA81-47A4-93AB-EFF2053E621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552A66-3011-4386-8967-827D30CDA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84FE-972C-4B4A-BD06-DA5A878B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8EA91-E833-4D17-A101-EE5C8D16E7E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D89246-8AC3-4101-A7DE-9423F09FFB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038F4-520C-4A86-834A-0BE19C22EF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0C2EC1-ABF2-4FEC-88C6-45D516B2F4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1606EC-9C86-4C25-8CE9-6423E7CFA35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B42F6C-095D-4877-88F9-B6046F62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B932DC-3BE8-4F31-A979-B72A055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04491C-AA80-4BAE-8E50-66D13B49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76C5B9-C3FB-45C4-9D08-4C8287D4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AC071C-504B-4870-9DF2-60EB4E31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711E-D016-4B7D-BE82-3BB3272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0C016D-BC4C-4259-8EAD-06A249F2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53EBC0-436B-4111-AD07-A404EAE6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20C2FD-4913-4DB4-ACB5-F48AFAD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7247C8-A0CE-4717-815E-CFCCD31E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96FC9B-C55C-4508-A508-470E1274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2753A6-21A5-4661-BDA7-90D804E6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71AAB2-EEDD-4619-9097-2C6E3A95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880212-A178-48CF-9057-FB7302C5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0A898C-11B6-4342-8C5A-3960CC5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20566A-6727-4AA4-A6CC-6F9AF05E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6776-DDE9-4F8C-AEF8-5B7BC3FA2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6D83-0BFB-462D-A6C1-818955956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2C29-9F8B-4D02-819A-099727EFC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7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735F-AAC1-4268-9BBC-490B8F76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0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3119-DFD7-4187-9D03-DDCC4B636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4DAF-1E00-417F-AB6C-7CD2F7A38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6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AE26-E38D-49D2-851B-D521E4E2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9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06A0-312E-42E9-A41B-99E37EF94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2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B3B6-A79D-4FF6-8B2D-6C7E9C2F3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5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07E3-614F-4CC9-B70B-1C5A50258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93C-BADB-4D48-9753-E820BBFF8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3113-88B4-4F19-BBA9-5AFA43F64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ldNum" idx="9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549B-5ED9-4689-A6A2-A01285F5E1D1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3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52EB-0570-44A3-A836-4D1AAA0FE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5"/>
          </p:nvPr>
        </p:nvSpPr>
        <p:spPr>
          <a:xfrm>
            <a:off x="456840" y="6276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e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3D97-4CF0-4C82-8421-4F9FE5684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8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1CF8-654F-48BD-B6E6-D656D6914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1"/>
          </p:nvPr>
        </p:nvSpPr>
        <p:spPr>
          <a:xfrm>
            <a:off x="228240" y="6287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564D-25EA-4FE6-874B-0537D77F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A824-F36A-49A9-A1C3-5FAF552BF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January 11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11E7-9867-45F3-8992-9BF46056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76320" y="1066680"/>
            <a:ext cx="9067680" cy="54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genda Items and 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2 Leadership E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1 Weather Sensitivity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status of LPGRR068, Add BUSLRG and BUSLRGDG Profil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s transition status update for Feb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d 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a TDSPs tools/por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R/Non-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oading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al of Error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ment of Thres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2021 Goals/Accomplis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2022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—January 12</a:t>
            </a:r>
            <a:r>
              <a:rPr b="1" lang="en-US" sz="2800" spc="-1" strike="noStrike" baseline="30000">
                <a:solidFill>
                  <a:srgbClr val="294171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 @ 9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E38E-71CD-4D72-94F3-7D347A9BA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380880" y="1066680"/>
            <a:ext cx="8610840" cy="26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171"/>
                </a:solidFill>
                <a:latin typeface="Arial"/>
              </a:rPr>
              <a:t>January 12, 2022 @ 9:30 AM via Web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61"/>
          <p:cNvSpPr/>
          <p:nvPr/>
        </p:nvSpPr>
        <p:spPr>
          <a:xfrm>
            <a:off x="447840" y="41148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PWG Meeting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Pak, Sam</dc:creator>
  <dc:description/>
  <dc:language>en-US</dc:language>
  <cp:lastModifiedBy>Pak, Sam</cp:lastModifiedBy>
  <dcterms:modified xsi:type="dcterms:W3CDTF">2022-01-07T19:52:20Z</dcterms:modified>
  <cp:revision>1419</cp:revision>
  <dc:subject/>
  <dc:title>Instructions</dc:title>
</cp:coreProperties>
</file>