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dt" idx="4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 type="ftr" idx="4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6"/>
          <p:cNvSpPr>
            <a:spLocks noGrp="1"/>
          </p:cNvSpPr>
          <p:nvPr>
            <p:ph type="sldNum" idx="4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58026-765F-4A8E-9849-65755A3E7E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CDAE0-90CF-49D0-B9F9-F0EBE80A59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E0083-1161-46AC-BFE5-4FE47C662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1A9A5-35CE-4C80-ACEE-B2A1B93CB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EC2BE11-4C6C-490C-9C39-D83F30DA1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CA67B2A-FE3C-436E-9E1A-AD918CF2E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12B8476-2A7D-4BC6-A1E1-8E70A4D65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959B3BA-F837-4336-B7E7-BA861C1E2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B738130-50B2-486D-9875-1B570ED2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814AB5B-391C-4667-8777-3362657AA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DA23716-CAD1-4CAE-AC46-830D8C87F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3DE3723-B84B-4522-90E9-E975F3D17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F06C2CD-5918-4E88-B6B9-4A00C02BC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FDF7C5-D54C-4380-AD55-EEAD0EFD1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22491-4568-4846-A5B2-CF717BCB6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509614-A8C2-4E03-B0A4-4C76B18A2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458062-9D81-4DAD-B71F-74F8EAAB4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2DD0B5-9143-4CDE-8E46-A191A60A7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AFA0BB-DB88-4030-BC58-BC9A4DA3E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716918-D2FE-4626-BA9D-4F0616E96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345443-2830-4E25-A9A9-D07C45E22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D9A003-5638-45E6-989F-27F19EAA4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E8C944-0CE3-4093-941A-80098A0B5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C03107-122B-49C2-86F7-C28978C4A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FBA101-F158-4BAA-9490-E2F9403E0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DB077-AA3C-4834-AEBD-26AAD5E0B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45C995-7FBB-4775-9D92-AD5A02847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40839F-0E8B-4BBC-8359-00E482F45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C928F6-6DF6-4F5B-9B36-8AA2283B9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D9A96F-5758-41AF-A2BA-D2B93F581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416E0F-883E-49F5-86FF-9518AFEFC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B64C7D-07F0-411D-97E4-2B61CAA1D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990376-FD0B-45E6-942C-64402DE51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BE02A7-BA8F-4067-960F-8AA3D78C2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35A6C2-5ACA-4CAF-9E78-7043E8C5A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B4A5A7-D93F-4D9B-B225-4A046B45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4334E6-3A62-407C-BCEB-C52296CC50C2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34212B-0872-41A1-A2B6-94ED2E073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B4D74E-A4EF-4874-AC61-0C2ED9502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E40C13-AE21-4837-82AC-CC47400C4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2050B35-89DC-483A-BA50-36EFED3F1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CFF078A-14ED-4EB8-85B9-DC693493D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277E82E-05E4-4F1D-9D56-9C7422CBA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734E96F-8D3C-4267-9298-A18998F23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1258CC5-9379-4908-B003-429501811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B37DA33-5569-4E8B-AE4F-566518B9A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494B018-2EC1-4980-BED9-53C4B4177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4FA542-C5C9-47D7-860A-D660A79D0C08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D38FCC0-EF9A-4A58-9957-51CF77D06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7F3F040-0C98-4BE8-AE1A-9CC4B0B7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14F4E60-4BB4-423E-AFEA-C11A9B5D2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27FB31D-C275-43B1-B864-1F337ADA1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BA2BA4D-78A3-47B0-A94A-274D68A63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2B7CE3-22B3-4975-B8E7-E24B93DB1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38CAE6-BCFB-4D30-8FCC-5AF6D811D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A01ED3-FEE4-4F62-B2E2-9A379C822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0A60B6-E38D-44F1-8C6B-4CF676DE0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C03D0D-65A8-4671-BABD-D6C659FCA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6173CD-1F82-4402-B8F1-9DF404793F98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67BEDA-BDAF-44B3-A148-CDA1476E4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7413DA-29C6-4E4C-9004-DEF63B71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344966-B5A7-4E31-BBDA-D01795DD1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492683-EDF5-4C0F-BCB4-1A39BB9EB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5BF1E5-7CCB-4630-A145-AA887DE34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AB5ACA-5F15-419B-A829-5E1E3C6A2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FF4A7E-F694-4323-9EF5-50C829ED5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B893784-EC26-4BA5-971D-42DF4FB4A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8646E54-2BA6-43C8-AEF5-436C7900E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100E0BD-CBC8-4212-8B50-C1E50D762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2330FD-653F-4A24-AD71-FA0EB570C071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CD1694B-AD2D-4972-867E-DAA2F4B2A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43B2320-53AE-496A-94E7-CA4C0BC84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144AD68-9928-4964-8B11-24E6ED112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4588C7A-0E9A-4F72-B0A1-5834434EF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BFDFE69-2EBF-4AFD-A15F-992E7F85F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4C228BF-40A0-403F-9098-8A70022A2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E3FEA62-B5C3-492F-9371-0CC4451DD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6BB1681-A1CF-421C-A0BF-413F315FA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034A6AC-B067-4FE0-96A1-FE4CE353C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A99470E-52AE-4F40-B82F-E38352B50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EA6BC7-7372-4D05-A9D6-D0341839BE59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3E103B2-E982-49B7-89D4-561BEF060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34419B7-D0E1-4D8B-AE5D-2D21C0EB3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DF3C285-2685-4D19-92E8-0724F0BBB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E6210D7-C7A8-4828-B075-18A3B9899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8262778-9123-4205-BB94-6C594C181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41342B5-1E64-46CF-BBB1-F99002ED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9C66E5F-8F97-4825-B304-4B5C8B539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8DDA0CA-89ED-4F91-AD90-8199FC560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3876310-81FE-4683-BBF9-03CBEFB5A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7D64586-E3CD-422C-8054-FB3EC89F7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D2B859-32A5-43F3-8B18-A6AF9206A700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0589ACC-22EF-4A8D-AB5C-671448C23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C775EE1-D21A-4032-A628-8E96FF798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AFF8FB9-6673-4B34-A0D7-621F21EBB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40251AE-3534-4C42-8FCE-4EC074847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40DECF0-31AC-4E5C-9210-923142CBA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14617E3-0047-4F18-96BA-C9E6F8527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ED50B79-67CB-46E0-95D5-2CA3698BD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ADB92CF-3550-4882-8BE4-2C5B06259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C889C4D-B8D6-42AA-B1B1-C296D6FAB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D42A8A0-A59D-4BD1-9254-736847B56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0CC9D9-D75F-4E0D-8D06-8FC0EBE128B1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11B9DE2-4AF5-4260-8C64-E350A0714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F20885D-652D-4249-9ECA-A41B7ACD2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72C0A4C-63B5-43CB-AF44-68F8248AC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EBC9C9B-36E0-49F3-B43A-CAF42B36F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B447751-14AE-4148-BD6C-057C691A3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5B3FB9B-43EA-42D6-9AA0-AC885B0C2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3624955-B4FA-458D-9E53-532F35F3C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B060F5F-0BB9-4046-BDC8-88E4B3D93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20CB0F9-1FCE-4FDB-9A0A-37B6437EA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F3B5431-9260-40C7-98EB-32AB5D128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F3FA5-1D7F-48DB-8818-71188179F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43C9E5-06F3-4EB3-843D-58AB8E8B243F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92105D0-EDCA-43DD-9B69-1C969F76F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2A92724-3494-4F55-B4B4-718B68D7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3485F2C-B81C-47D2-ACBA-B6AC89656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F014D7D-A54F-4836-8ECF-9E5199B72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4F89FA1-188C-4C9E-B570-DE00FBF1C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6673CE-A5A2-4364-B587-36BE6230C5B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33DB8D-3E22-4FB1-825A-D1312DC8444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BEF2C8-9C90-4C5F-8107-6F249FAB541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80D02F-6B30-4EE0-9678-05FA6FEED96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9954EB-58BF-4D81-BA20-57377B388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2A09DA-FC65-49E5-B05E-6402936EA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EFFEAC-B0EF-4A92-A2D9-9FF5DADEF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8856FC-47FD-4E6F-BE32-ED6D67666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0B08B7-39B0-4ED9-8653-06FE5B12F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6A1BD-2C76-42E2-B9D2-40AA93A73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E309CC-7C51-46FC-AC98-EDD8EE7BE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59E91C-AC21-462D-BA26-DD4AD8FE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346AC3-8BB4-4FFE-8447-6728904FC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F64BF5-4977-4940-9E61-738EE399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96C726-DF7A-4843-B891-94D028F39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7C9693-165B-4058-B7CB-B7939189F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555B24-8B0C-4AF0-981D-468C91A79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605AE-4FA2-4EC6-8856-754119223F3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42848-5A8A-4E64-A803-72147ABCCE1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7AC17-7438-4685-9114-F8A7926E5F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C64FD-8B1F-4823-8D67-C44FB0BDF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CAF13-77AE-4BBB-B059-7CFAE3920F9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F90B5-13B6-42CD-972A-A1BCB23D811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C6C6F-0522-4B94-90BF-03F80220DC2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3FC39-4739-4F12-9448-6CCBC8A6900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CBD74-5447-4885-A6AB-73DD0DAF279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62466-8D6B-4944-B2B7-AED432F964F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1B5DE-1E2D-4BA7-9872-90E589160DC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9AED8-6C32-4BEB-8373-A5542AB7F70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A6D95-C710-41B7-90DA-16DBD918DE0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78B53-1A5B-40A8-88F1-BBDC3E058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F056A-4FDF-4663-8F7F-3660DA9A8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5D9102-FD56-40BE-90F7-7E28618F4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A2878F-CEC9-4BD5-9746-012F5087E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4C9A0C-A3EF-4188-8E0B-4EB7D4E29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CF120C-9F19-40F7-9440-3BFD5DB8F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50FEFF-101B-40D5-8D24-E6656BD11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9FBC81-CA75-4A5C-8264-730E17139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022279-748C-4B8D-81C2-DCA9B427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039D17-208D-41CC-9F82-51EAE98C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CE9236-6FD0-458D-95D0-0776BD36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03081-D7BC-49B1-B6AC-9724DB81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18450F-EE53-4918-A979-88C29A217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291924-5CDB-4D09-9D63-06192AF03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C72837-8294-466C-A064-747C4E12A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8C8A09F-44E0-4812-8265-CCE5C679856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DEF92C2-A012-4E26-980B-E698A7E784C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056DC9A-4BF1-4D14-91A0-1870FE3EA55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B284150-F066-41FF-BE27-A53375C507B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83696B7-CB05-417F-8F02-301281C667D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4114337-A8E5-4E2E-9B49-D630FB8B0AD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721078D-6A19-4272-8F4C-A13320A289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DC77F-F2D9-48F8-902B-7D5B656B1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F185D3A-B6A9-4F82-BC45-125FEAA20C7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C85C05E-B3B2-4738-8C5B-A777BE120BB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7CB8EC1-5B78-4589-A8E8-0EAF2C0F935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B0CFA23-E7B7-4D67-A9D7-EEA70238D96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2B4116E-CDBE-4943-B94E-8CCD7126DA9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8F1B2BF-2763-4191-8622-9ADCB5E3F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37BE311-E7C2-4C6B-84BF-007F1B21C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C80CBEA-105B-49BF-B16C-CCC142603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8CF13B8-E94D-4DD3-8D71-3BAFDC462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9089A38-7BA3-4F92-B5A1-69A161A4E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D5C4C-D693-49C0-AC47-4EE0929A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C6F59D8-50C5-4E03-8378-22A5EDF3F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295DE68-A74C-4A5A-A867-0231402C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92C49DC-7AFF-4450-BF3A-750F4816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D138FCC-B03B-44AD-8D41-E06F50A8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170E474-5725-4F7A-9B26-EA658D85B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55BA3D6-F9D6-4B7A-9079-3F8065396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D017C8C-8C9B-4644-8538-F40BF5787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4FE21CC-4D28-47D3-8DD4-A8579F631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C48C522-0FAD-43C0-8828-E192ED677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F71E55C-04C4-430E-A5AA-B2A1EAAF5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864C3-E93B-4611-92BE-3E1B3EBDA9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BCE4B-F4AA-42E4-B822-0806FBC291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4"/>
          </p:nvPr>
        </p:nvSpPr>
        <p:spPr>
          <a:xfrm>
            <a:off x="228240" y="62877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A22C5-24E7-49C9-840D-C1C04E8489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ftr" idx="27"/>
          </p:nvPr>
        </p:nvSpPr>
        <p:spPr>
          <a:xfrm>
            <a:off x="228240" y="62877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sldNum" idx="2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C1A56-9C59-4446-8C53-7433F139B6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0"/>
          </p:nvPr>
        </p:nvSpPr>
        <p:spPr>
          <a:xfrm>
            <a:off x="228240" y="62877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B13E2-F26D-4D95-87DD-F677264C32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ftr" idx="33"/>
          </p:nvPr>
        </p:nvSpPr>
        <p:spPr>
          <a:xfrm>
            <a:off x="228240" y="62877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sldNum" idx="3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9CA84-7B8E-4F20-85A9-993745089F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dt" idx="3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ftr" idx="36"/>
          </p:nvPr>
        </p:nvSpPr>
        <p:spPr>
          <a:xfrm>
            <a:off x="228240" y="62877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 type="sldNum" idx="3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F4377-0272-402A-86BE-9BFB860AC6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 type="dt" idx="3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 type="ftr" idx="39"/>
          </p:nvPr>
        </p:nvSpPr>
        <p:spPr>
          <a:xfrm>
            <a:off x="228240" y="62877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 type="sldNum" idx="4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C4806-BE77-4E24-ACB3-EB37ADB255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 type="dt" idx="4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 type="ftr" idx="42"/>
          </p:nvPr>
        </p:nvSpPr>
        <p:spPr>
          <a:xfrm>
            <a:off x="228240" y="62877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 type="sldNum" idx="4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83094-D30C-42D3-819F-63D4DD0915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 type="dt" idx="4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 type="ftr" idx="45"/>
          </p:nvPr>
        </p:nvSpPr>
        <p:spPr>
          <a:xfrm>
            <a:off x="228240" y="62877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 type="sldNum" idx="4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897B4-F96C-4E24-B538-16D6BFEF01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228240" y="62877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ile Working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DB500-D5D9-49B6-9D6B-A286ADC62A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5CCB4-CB6E-4FA5-AACA-D400D4F073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sldNum" idx="9"/>
          </p:nvPr>
        </p:nvSpPr>
        <p:spPr>
          <a:xfrm>
            <a:off x="4343400" y="6568560"/>
            <a:ext cx="45720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0C4D7-D029-4BF3-87DC-C16B14D640AD}" type="slidenum"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Box 6"/>
          <p:cNvSpPr/>
          <p:nvPr/>
        </p:nvSpPr>
        <p:spPr>
          <a:xfrm>
            <a:off x="54000" y="65278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b6770"/>
                </a:solidFill>
                <a:latin typeface="Arial"/>
              </a:rPr>
              <a:t>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0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1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3"/>
          </p:nvPr>
        </p:nvSpPr>
        <p:spPr>
          <a:xfrm>
            <a:off x="228240" y="62877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01109-89E5-4D4F-AE03-E05C40D797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ftr" idx="15"/>
          </p:nvPr>
        </p:nvSpPr>
        <p:spPr>
          <a:xfrm>
            <a:off x="456840" y="62766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ile Working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8C81B-7F39-4B90-839B-01C6B7C180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18"/>
          </p:nvPr>
        </p:nvSpPr>
        <p:spPr>
          <a:xfrm>
            <a:off x="228240" y="62877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1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FDB36-362E-453C-8D61-2CDAB00589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21"/>
          </p:nvPr>
        </p:nvSpPr>
        <p:spPr>
          <a:xfrm>
            <a:off x="228240" y="62877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2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28C98-A067-49C5-9DF5-A1ED99471A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rcot.com/committee/pwg" TargetMode="External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1452C-E9F9-460E-B2CA-484984A847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/>
          </p:nvPr>
        </p:nvSpPr>
        <p:spPr>
          <a:xfrm>
            <a:off x="761760" y="13716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4171"/>
                </a:solidFill>
                <a:latin typeface="Arial"/>
                <a:ea typeface="Times New Roman"/>
              </a:rPr>
              <a:t>PW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4171"/>
                </a:solidFill>
                <a:latin typeface="Arial"/>
                <a:ea typeface="Times New Roman"/>
              </a:rPr>
              <a:t>Profiling Working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4171"/>
                </a:solidFill>
                <a:latin typeface="Arial"/>
                <a:ea typeface="Times New Roman"/>
              </a:rPr>
              <a:t>Update to 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4171"/>
                </a:solidFill>
                <a:latin typeface="Arial"/>
                <a:ea typeface="Times New Roman"/>
              </a:rPr>
              <a:t>December 7, 20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94171"/>
                </a:solidFill>
                <a:uFillTx/>
                <a:latin typeface="Arial"/>
                <a:ea typeface="Times New Roman"/>
              </a:rPr>
              <a:t>Leadership:</a:t>
            </a:r>
            <a:br>
              <a:rPr sz="2400"/>
            </a:b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Sam Pak (Onc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Sheri Wiegand (TX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4171"/>
                </a:solidFill>
                <a:latin typeface="Arial"/>
              </a:rPr>
              <a:t>2021 Weather Sensitivity Up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1B4E0-8321-4591-BC74-DDC28B42F0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Box 5"/>
          <p:cNvSpPr/>
          <p:nvPr/>
        </p:nvSpPr>
        <p:spPr>
          <a:xfrm>
            <a:off x="304920" y="121932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2941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4171"/>
                </a:solidFill>
                <a:latin typeface="Arial"/>
              </a:rPr>
              <a:t>On November 2</a:t>
            </a:r>
            <a:r>
              <a:rPr b="0" lang="en-US" sz="1800" spc="-1" strike="noStrike" baseline="30000">
                <a:solidFill>
                  <a:srgbClr val="294171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294171"/>
                </a:solidFill>
                <a:latin typeface="Arial"/>
              </a:rPr>
              <a:t> ERCOT provided TDSPs initial Weather Sensitivity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2941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4171"/>
                </a:solidFill>
                <a:latin typeface="Arial"/>
              </a:rPr>
              <a:t>Process ongoing for changes with a target completion by Jan 31 20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2941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4171"/>
                </a:solidFill>
                <a:latin typeface="Arial"/>
              </a:rPr>
              <a:t>Table below is latest monthly update as of Dec 2</a:t>
            </a:r>
            <a:r>
              <a:rPr b="0" lang="en-US" sz="1800" spc="-1" strike="noStrike" baseline="30000">
                <a:solidFill>
                  <a:srgbClr val="294171"/>
                </a:solidFill>
                <a:latin typeface="Arial"/>
              </a:rPr>
              <a:t>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7" name="Picture 2" descr=""/>
          <p:cNvPicPr/>
          <p:nvPr/>
        </p:nvPicPr>
        <p:blipFill>
          <a:blip r:embed="rId1"/>
          <a:stretch/>
        </p:blipFill>
        <p:spPr>
          <a:xfrm>
            <a:off x="504720" y="2282760"/>
            <a:ext cx="8134560" cy="37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4171"/>
                </a:solidFill>
                <a:latin typeface="Arial"/>
              </a:rPr>
              <a:t>Discussion To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304920" y="761760"/>
            <a:ext cx="861048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2941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4171"/>
                </a:solidFill>
                <a:latin typeface="Arial"/>
              </a:rPr>
              <a:t>Unaccounted For Energy (UFE) Holistic Revie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buClr>
                <a:srgbClr val="29417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buClr>
                <a:srgbClr val="29417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4171"/>
                </a:solidFill>
                <a:latin typeface="Arial"/>
                <a:ea typeface="Times New Roman"/>
              </a:rPr>
              <a:t>Suggestion to utilize EMS transmission factors (more accurate) vs the current seasonal calculation for Transmission Loss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9417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4171"/>
                </a:solidFill>
                <a:latin typeface="Arial"/>
                <a:ea typeface="Calibri"/>
              </a:rPr>
              <a:t>Using these “more accurate” factors should minimize the swing of UFE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buClr>
                <a:srgbClr val="29417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buClr>
                <a:srgbClr val="29417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4171"/>
                </a:solidFill>
                <a:latin typeface="Arial"/>
                <a:ea typeface="Times New Roman"/>
              </a:rPr>
              <a:t>Should NOIEs receive a % allocation of UFE – argument years ago was that they have only boundary meters and are already settled on interval data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9417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4171"/>
                </a:solidFill>
                <a:latin typeface="Arial"/>
                <a:ea typeface="Calibri"/>
              </a:rPr>
              <a:t>With the proliferation of AMS meters, 99.5% of competitive load is settled on interval 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buClr>
                <a:srgbClr val="29417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buClr>
                <a:srgbClr val="29417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4171"/>
                </a:solidFill>
                <a:latin typeface="Arial"/>
                <a:ea typeface="Times New Roman"/>
              </a:rPr>
              <a:t>What are the appropriate UFE allocation factor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9417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4171"/>
                </a:solidFill>
                <a:latin typeface="Arial"/>
                <a:ea typeface="Calibri"/>
              </a:rPr>
              <a:t>With Transmission Losses being a primary driver of UFE factors, NOIEs are subject to some transmission losses at boundary 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E004F-12B5-4C3E-B8DF-9BB31CC005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Box 1"/>
          <p:cNvSpPr/>
          <p:nvPr/>
        </p:nvSpPr>
        <p:spPr>
          <a:xfrm>
            <a:off x="1181160" y="5430960"/>
            <a:ext cx="6629400" cy="642600"/>
          </a:xfrm>
          <a:prstGeom prst="rect">
            <a:avLst/>
          </a:prstGeom>
          <a:solidFill>
            <a:srgbClr val="2d2d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mmendation:  WMS to take up this discussion as this falls under their pur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4171"/>
                </a:solidFill>
                <a:latin typeface="Arial"/>
              </a:rPr>
              <a:t>Discussion To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304920" y="761760"/>
            <a:ext cx="861048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2941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4171"/>
                </a:solidFill>
                <a:latin typeface="Arial"/>
              </a:rPr>
              <a:t>Proposed Enhancements to Data Loading Process for BUSLRG and BUSLRDG pro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buClr>
                <a:srgbClr val="29417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buClr>
                <a:srgbClr val="2941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4171"/>
                </a:solidFill>
                <a:latin typeface="Arial"/>
                <a:ea typeface="Times New Roman"/>
              </a:rPr>
              <a:t>ERCOT has proposed additional Error Codes to help identify and alert TDSPs on their respective 867_03 Activity Report and Interval Data LSE Activity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buClr>
                <a:srgbClr val="2941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buClr>
                <a:srgbClr val="2941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294171"/>
                </a:solidFill>
                <a:uFillTx/>
                <a:latin typeface="Arial"/>
                <a:ea typeface="Times New Roman"/>
              </a:rPr>
              <a:t>867_03 Activity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9417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4171"/>
                </a:solidFill>
                <a:latin typeface="Arial"/>
                <a:ea typeface="Times New Roman"/>
              </a:rPr>
              <a:t>ERROR Code 35 </a:t>
            </a:r>
            <a:r>
              <a:rPr b="0" lang="en-US" sz="1800" spc="-1" strike="noStrike">
                <a:solidFill>
                  <a:srgbClr val="294171"/>
                </a:solidFill>
                <a:latin typeface="Arial"/>
                <a:ea typeface="Times New Roman"/>
              </a:rPr>
              <a:t>will distinguish BUSLRG/DG with submitted interval data on IDR867_03 trans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9417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4171"/>
                </a:solidFill>
                <a:latin typeface="Arial"/>
                <a:ea typeface="Times New Roman"/>
              </a:rPr>
              <a:t>ERROR Code 36 </a:t>
            </a:r>
            <a:r>
              <a:rPr b="0" lang="en-US" sz="1800" spc="-1" strike="noStrike">
                <a:solidFill>
                  <a:srgbClr val="294171"/>
                </a:solidFill>
                <a:latin typeface="Arial"/>
                <a:ea typeface="Times New Roman"/>
              </a:rPr>
              <a:t>will provide notice when certain kwh/kW thresholds are exceeded on the IDR867_03 trans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buClr>
                <a:srgbClr val="2941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buClr>
                <a:srgbClr val="2941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294171"/>
                </a:solidFill>
                <a:uFillTx/>
                <a:latin typeface="Arial"/>
                <a:ea typeface="Times New Roman"/>
              </a:rPr>
              <a:t>Interval Data LSE Activity Repor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9417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4171"/>
                </a:solidFill>
                <a:latin typeface="Arial"/>
                <a:ea typeface="Times New Roman"/>
              </a:rPr>
              <a:t>ERROR Code 16 </a:t>
            </a:r>
            <a:r>
              <a:rPr b="0" lang="en-US" sz="1800" spc="-1" strike="noStrike">
                <a:solidFill>
                  <a:srgbClr val="294171"/>
                </a:solidFill>
                <a:latin typeface="Arial"/>
                <a:ea typeface="Times New Roman"/>
              </a:rPr>
              <a:t>“Exceeds LOAD Threshold for BUSLRG/D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9417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4171"/>
                </a:solidFill>
                <a:latin typeface="Arial"/>
                <a:ea typeface="Times New Roman"/>
              </a:rPr>
              <a:t>ERROR Code 17 </a:t>
            </a:r>
            <a:r>
              <a:rPr b="0" lang="en-US" sz="1800" spc="-1" strike="noStrike">
                <a:solidFill>
                  <a:srgbClr val="294171"/>
                </a:solidFill>
                <a:latin typeface="Arial"/>
                <a:ea typeface="Times New Roman"/>
              </a:rPr>
              <a:t>“Exceeds GEN Threshold for BUSLRG/D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buClr>
                <a:srgbClr val="2941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buClr>
                <a:srgbClr val="2941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9B3B9-AC9C-4625-AD7E-3D761F1981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C63C3-B93E-4083-9195-66B281E914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6"/>
          <p:cNvSpPr/>
          <p:nvPr/>
        </p:nvSpPr>
        <p:spPr>
          <a:xfrm>
            <a:off x="380880" y="1066680"/>
            <a:ext cx="8610840" cy="2680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4171"/>
                </a:solidFill>
                <a:latin typeface="Arial"/>
              </a:rPr>
              <a:t>Next PWG meeting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4171"/>
                </a:solidFill>
                <a:latin typeface="Arial"/>
              </a:rPr>
              <a:t>January 12, 2022 @ 9:30 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941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4171"/>
                </a:solidFill>
                <a:latin typeface="Arial"/>
              </a:rPr>
              <a:t>PWG Meeting P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Box 61"/>
          <p:cNvSpPr/>
          <p:nvPr/>
        </p:nvSpPr>
        <p:spPr>
          <a:xfrm>
            <a:off x="447840" y="411480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rcot.com/committee/pw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4171"/>
                </a:solidFill>
                <a:latin typeface="Arial"/>
              </a:rPr>
              <a:t>Next PWG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Pak, Sam</dc:creator>
  <dc:description/>
  <dc:language>en-US</dc:language>
  <cp:lastModifiedBy>Wiegand, Sheri</cp:lastModifiedBy>
  <dcterms:modified xsi:type="dcterms:W3CDTF">2021-12-06T21:51:56Z</dcterms:modified>
  <cp:revision>1418</cp:revision>
  <dc:subject/>
  <dc:title>Instructions</dc:title>
</cp:coreProperties>
</file>