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2A46-E256-4D31-97BC-3550BC31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7C8-3FC0-477D-8476-28BCB8F3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F34E-11FC-4FBA-819A-8ECEF5F5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9061-A4D0-45E4-BCDC-AF71CB4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B7F7AB-C618-4BE5-82F3-52A5AA46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BF8485-55CA-4A9C-AD43-E0DC238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503FD-CA81-4C46-8E9E-D6B4E02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08C8A-945B-403B-8C6C-723C86F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0E6F0-66E2-44A3-AAC7-F545FE5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5E15D8-422D-4D63-858B-D75D161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D60E0-E51A-4AAA-90C6-1FE9F75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A9E0C3-1014-4B93-9BFB-975FCC13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B97FDD-56B6-4549-8B40-EB3F895A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04429-E808-485B-92EE-E119443B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A4A4-479A-4093-9342-AF84C08C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E3FE0-859C-422E-975F-A8829D89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5E3B7-DE2C-4E9C-A351-94375E9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A204F-B3DD-40DC-99C9-D9E8B68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D964C-BF44-4FCA-AF08-68C04A2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EB1D0-06C9-43EF-A0EE-488D3CCB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699C0-F3B5-49D0-9B25-8788D0F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A13F6-8486-42EA-B4EA-412F93F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655D0-B2E0-44FD-A94F-21D96AA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BDDCF-8A1F-450C-9934-A6FDD680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D2DB8-9BA9-4321-A118-33018112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E134-293F-4AF4-8CAB-A4FA76FA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7BFBC-3258-426E-9BCE-D7680C25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71C51-3F9A-4EE2-9DE0-1E2B4965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8AE35-685F-47A8-AC1F-FBBDB93D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181E1-5625-4F9E-A24A-E7FE100D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27D7D-A139-4884-A6EA-795292F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EAEA5-9E82-4610-A407-FAA3BA7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4A1AF-CBDC-41F5-9194-CCE05B4C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CAB36-69AB-43D5-B152-79E1740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C9869-F104-441A-A934-E6FE8BA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834C5-76D1-4988-B011-579AFB1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D2AD2-48A3-4F90-9C26-7620881465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017EE-6386-4658-B9DE-18C438E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AE2D5-4825-423E-B538-621BA23F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91D85-F533-4861-9FAE-C603CE2C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835C5-4AC0-4F4F-8C2E-9B87654D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9A4761-4A0C-4232-A000-9DCF16C5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F20640-8DD6-410F-8996-07B8DB8F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CA9E03-163A-4AE9-A3D4-9D453ADA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2BE5B8-5922-44C8-BA7C-AFBD848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97F871-809E-4B25-8CED-9305525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4E1DDC-A8C8-4FFD-8568-E443BB2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AF1E-B89F-47C9-9B13-E52D6277D15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9A434B-FD31-4412-A4B3-D0AE6AA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E04CE-1EB6-424F-9F0A-0FAFA32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900E57-C12B-4179-8F82-B6F3F92F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175B65-A9FA-409F-86E4-D69CD11C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4F16B7-0748-4C4F-A22F-7096DBB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9F408-635B-4418-8265-2BEAB164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2B9F5-7E6E-4A6D-833F-49CBA1D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2E6FD-FD1A-4A52-8FDB-8D104FD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C39FE-D0FD-4244-9B30-F2DF07F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E7AAE-DC90-491F-8254-BD56104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C8E6-ED06-49DA-A18A-28DF4EB5BF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35003-39D5-43CD-97ED-F60A8A11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86677-1AEF-48FB-A9F7-4152E39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49402-23F6-4643-BFEE-E221B14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3DA78-9207-47BC-9190-2CD055D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7C6BA-BA31-4459-BCEE-5B8682DA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F4E2C-2797-4C38-9885-F299FB4E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53F28-B69F-4720-A48F-94F3A822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6154CE-5BA7-4FCC-9FCF-D90E86F3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096A5E-2B13-483C-8945-B76F0C8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711D56-C5A9-4232-B5FA-8311E06F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B45D-BDA7-41A4-8271-C04370961F1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AB486-CCEB-457F-A5A5-EE4D76AA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B02FD3-C5A6-436D-B61A-DC424D4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04F9AC-B61D-4BC9-9C55-9340631D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0F3F02-69E7-49CA-911B-B4F8FD9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4D1166-B5CE-49DE-A8A2-8025ED7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E3F870-9DAF-429F-BDFA-E40B8A7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B74871-66C5-41CC-9FD9-162F17C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7039C5-F648-4967-AE5E-F73B0097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45EA0C-B687-4FE7-BA02-B6F86AF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488D76-9B49-4384-8BBF-01087404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4686-6580-4C82-93CE-29AB83DECD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1D63B2-C2C5-4D0D-B731-3EEB952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DD2093-F74E-41B5-B06A-79FE068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43447A-2BC8-42A9-A4D0-53446882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222BD8-754E-473C-90BA-8821F29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E64612-EF4A-40B3-BA78-B366517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55D2CD-7A69-4062-9354-44B5E13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3DCFE9-5162-4B79-8578-FE5E3BF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1CC6EF-2419-4808-AD18-AD99911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747571-1972-41C3-BC18-9C683D3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478051-5CC5-4DB8-8FD1-314279EF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528AB-4171-498F-B0D6-06B1A2C5D6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13513D-7970-4646-AC21-703FF9AC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9B0B9C-4F24-49CF-B726-1A86B7C9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A5488A-6999-48F6-9C39-AB95D2B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5C3570-0AE4-4B70-87D9-DDED7509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B7B4C5-9A6D-485F-88BE-1658434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1C2628-EFDF-4D3B-9EC6-08D867B3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AD657E-F125-4B5D-9FBA-3931E4C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201205-CBAD-40FA-A104-FD86160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E48727-EAAA-4AD2-A231-2C5D8CAD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C340A6-CA2C-43B3-80E6-6FDC84D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EF2D6-1F4E-4FC1-81EF-C0806B61BEF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C84163-14F1-4631-869E-313EE4DB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892047-E418-44EA-88BA-FAEA0894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E75D1A-E39C-4F22-9A36-6DC79776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55E201-B742-4674-8E17-3A1EB864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02D8A4-3CE2-4002-ADC7-8EBADB52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34E8E0-B357-4C80-91E4-B7C3E4BB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03C40B-7AAA-4E48-B471-DF87F7D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30EB5E-E908-4262-BBA8-A184F8C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21B1C9-1F5E-470C-8B4E-E856461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EE6ACD-609A-4F28-AEDF-5C65469E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2D8-062F-4120-8476-019D111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3C28D-DE76-435F-BD26-8E5C50739BE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126541-06BA-473D-BCF6-5487D8A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463E78-B4E3-4133-A680-5C12EDB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887FF5-47E3-4956-837F-42844F0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9C6D88-7815-4491-A158-653F34E0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5769A8-9CD3-42DC-A46D-AE220E22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5218-CB72-40A5-A175-E090D72A8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725F-C5AA-4197-B3D9-504627789A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E0B81-5BB0-4E3E-9E59-8DFA8C5534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5CEF4-7708-4165-9830-5AB4A26E62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82585-1D45-4603-A20E-58E6EFD9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4BBEA-4030-456C-81F0-C9315FA6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11D96-930B-47FE-B20D-64BB2B1B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EE5E5-6192-497F-854A-963E77A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22D9B-7AAC-485C-86FB-BE34759A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B522-056F-4CE4-A4BD-418ECCA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6E796-A575-438C-A8FB-94AB166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46C05-788C-4BE3-83EF-CD87AF7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FD3A0-8E75-4090-856B-DC75CF9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4E173-AA11-4E02-A718-FC19A65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B3495-C709-4DF6-A1A8-8F0AE999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C6B58-2E58-497D-AE76-AE02D76D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B0C0B-CB7D-490E-BA96-B89FA925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782D-5BDF-41B2-9110-9D18041EED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39AA-3882-4B85-BDE9-6A964E65C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CC68-0245-4C91-AF26-15D6F3A2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C2A4-26D3-4268-8E84-67D4395A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C4EB-8777-4F7C-93DE-AACEED85CB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8440-0898-4786-B080-2D6E802C4C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E95D-84A6-405C-90DA-06735AC9F4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7E68-9A32-4061-8E12-56852E28FF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838A-D874-40CC-BEE8-0DFE263E3C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1FA4-D4B3-4228-A276-5222B07248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FA01-6A0A-4C85-B5CF-FC577A0C4A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21D6-C9B0-4824-8FB5-56CF4CD4BC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C5D1-65BB-4857-AD1E-396E2CE806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F915-5F00-4561-BE3A-2B31F80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6CBB-99C0-4350-8F91-4D860FE9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2BB99-8398-4154-9445-139FB07D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0065D-B301-4105-AB6E-3850F8DE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07484-A620-42CA-8412-8206D90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D6F0C-3202-435D-A91D-76C70E1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5E0BF-562A-40D3-A177-E558871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C3D4A-C890-40BE-A606-8B3BF78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399CE-A4AA-4B2F-8C00-10875BC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2894E-530D-4A79-A240-2F4F373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65C50-4542-41FF-A1CB-2D88434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7831-0709-4F91-B0D4-9BEDEEB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B5FD2-2C13-45DC-8D98-02F128F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60CCF-0F4C-48C9-AEEA-DB351295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D74C2-7027-4720-812C-B23A065A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56AEB-867E-40F7-BDA0-974807073B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F7F2BF-0C4B-4F5C-B021-DA309C365E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749AD-AED5-4DDE-A9A2-8D897EDDB2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D01D0-81C5-4F21-8161-F1572C998B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17A8D-5CB8-4F42-BFBC-FC0C0A1B74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8ACBA-8CFB-4BAB-9283-A3160F5B42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FDA44-B2E4-4649-BB90-1FC7CCC5B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B1FB-43CF-4A3E-BBA4-DF8258E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B39DE-70E9-4863-ACC4-E620D4BA24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12A12-6123-4A35-ACCB-6DCD4EFB02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66406-C7A8-4A0E-84C7-0DBF1B7FA8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6329D-7443-4E21-8B76-1E5E2D4857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9DE3E-07B2-4760-8563-CB65210B82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77C04-EC32-4D0F-B2DE-8F2BBF74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8B1AD-AD4A-47FA-88D7-20F482B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0E954-A977-40D8-A779-0069163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D74CB-022D-4AE2-9A0F-3875421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C191C8-D515-4076-BF7D-1818512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5DCA-6C7B-44CA-AA0F-2745D3D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2FC66C-7581-4B53-8980-20A441B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92E27-2899-450C-99E7-868DF94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CC39B8-4985-4A2F-BF1D-FB0FE3B7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35874-FBDC-424B-B101-A6A2FBD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CFF25-10D2-4087-9CF5-541014E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BEDC2-C75C-4051-B3C0-BB2B00E8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288BA-2537-462F-ABA0-783F8445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F9639E-1380-4A36-8460-AE90677D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90060C-850A-41B7-9616-63C06861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006C9A-E5ED-41B3-9058-E2ECB34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FBA-3401-4D62-9D0B-D9CB9D072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6E4-E4C7-46BF-B419-DD9FE5DF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F23-E69B-4ABF-B2BB-982A8D0CC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59C-D66D-472E-A02D-499475849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640-1B7E-463B-983F-AAAF5196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43E-4BAD-414B-A754-72E779D59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6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95D-23BB-4CA4-BAA5-0C8598CC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9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2DD-F97E-4A8F-8191-3440AE738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2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5DD-11AD-4C8F-A332-9FF2D0D0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5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FD1F-A72F-4AF6-ABB7-ADC3F707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FF2-1C47-4FE8-9E09-1BB7D3F7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6CF1-CFAA-4BB9-A08C-965B10D7E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9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84AF-A7DE-48F5-92D6-A47049019D59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E15-3E8D-43F1-B1A1-6DE85428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5"/>
          </p:nvPr>
        </p:nvSpPr>
        <p:spPr>
          <a:xfrm>
            <a:off x="456840" y="6276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7DC-9B4F-4556-9BB9-61DD7278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8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399D-771B-42C7-BDA1-313DFE3B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1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B2C4-AD75-4343-8CDE-078C0CF4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B8A-7E47-41F0-9769-27D18A3D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ugust 3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21 Annual Validation Progressing – RES +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76C-86B5-404B-8189-F9CC54FA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Content Placeholder 4" descr=""/>
          <p:cNvPicPr/>
          <p:nvPr/>
        </p:nvPicPr>
        <p:blipFill>
          <a:blip r:embed="rId1"/>
          <a:stretch/>
        </p:blipFill>
        <p:spPr>
          <a:xfrm>
            <a:off x="612720" y="2143080"/>
            <a:ext cx="7956720" cy="40482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5"/>
          <p:cNvSpPr/>
          <p:nvPr/>
        </p:nvSpPr>
        <p:spPr>
          <a:xfrm>
            <a:off x="609480" y="1219320"/>
            <a:ext cx="79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Majority of TDSPs are either complete or close to completing Annual Validation 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TDSPs have until Sept 30th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4171"/>
                </a:solidFill>
                <a:latin typeface="Arial"/>
              </a:rPr>
              <a:t>ERCOT Discretion on Adjustments to Load Profiles &amp; Estimation Methodologies during Prolonged Widespread Ou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4920" y="761760"/>
            <a:ext cx="8610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With a goal of providing more accurate settlement and minimizing UFE impacts during prolonged widespread outages, PWG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Reviewing Protocols for future NPRR to memorialize ERCOT’s flexibility to adjust NIDR backcasted load profiles during a prolonged widespread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Example: Market Notice </a:t>
            </a:r>
            <a:r>
              <a:rPr b="0" i="1" lang="en-US" sz="1800" spc="-1" strike="noStrike">
                <a:solidFill>
                  <a:srgbClr val="294171"/>
                </a:solidFill>
                <a:latin typeface="Arial"/>
              </a:rPr>
              <a:t>M-A030821-01 Adjustment to NIDR Backcasted Load Profiles for Operating Days February 15, 2021 through February 18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0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djustments to the BUSIDRRQ load estimation methodologies during a prolonged widespread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fter Feb 2022 implementation, LPGRR068, Add BUSLRG and BUSLRGDG Profile Types, should significantly decrease # of ESIs still on BUSIDRRQ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nalyzing the amount of load to remain on BUSIDRRQ to determine if further efforts are needed for adjustments, such as enabling a “DO NOT ESTIMATE” flag by possible Weather Zone, during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9935-4E4D-4920-9BDC-FD19AD9A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MS IDR Workshop October 13,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04920" y="1295280"/>
            <a:ext cx="86104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AMS IDR Workshop scheduled for October 13, 2021 @ 9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Workshop will focus on market readiness, transition planning and operational aspects of LPGRR068, addition of BUSLRG and BUSLRGDG Profile Types, as market prepares for February 202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5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pecific topics and agenda to be framed up and presented at future PWG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942-6DCB-42CB-9175-03838B568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341-2C7C-4DC1-97D9-A59956B9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380880" y="1066680"/>
            <a:ext cx="8610840" cy="42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September 15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4171"/>
                </a:solidFill>
                <a:uFillTx/>
                <a:latin typeface="Arial"/>
              </a:rPr>
              <a:t>Agenda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Annual Validatio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Protocol Language Review for Adjustments to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Follow up on estimated BUSIDRRQ loads post LPGRR068 &amp; need for revisions to ERCOT estimation method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171"/>
                </a:solidFill>
                <a:latin typeface="Arial"/>
              </a:rPr>
              <a:t>Oct AMS IDR Workshop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1"/>
          <p:cNvSpPr/>
          <p:nvPr/>
        </p:nvSpPr>
        <p:spPr>
          <a:xfrm>
            <a:off x="457200" y="5208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k, Sam</dc:creator>
  <dc:description/>
  <dc:language>en-US</dc:language>
  <cp:lastModifiedBy>Wiegand, Sheri</cp:lastModifiedBy>
  <dcterms:modified xsi:type="dcterms:W3CDTF">2021-07-30T16:32:47Z</dcterms:modified>
  <cp:revision>1393</cp:revision>
  <dc:subject/>
  <dc:title>Instructions</dc:title>
</cp:coreProperties>
</file>