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dt" idx="4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ftr" idx="4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 type="sldNum" idx="4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6A5F-0B8A-4580-B90A-935A5F340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7EDC-74C7-4A3C-945F-57003D42F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6584-DA71-41D7-A212-0E956CEE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67082-002B-42B0-9EED-48D1C375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1CE30B-247C-4F50-8C3F-3227E287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A4315F-EA7B-4A75-AE10-09FB0DB7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B07796-DC2A-4845-9A40-C779757B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4DE0D9-24D2-4AF0-B382-D878622E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003B69-00BC-4E5F-B552-61DD1824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3C039B-76EC-469F-89A9-D03B5FDB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91EB91-FF41-422E-9468-1C06DF05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8EB7C1-BD23-43D8-9431-5119F246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7D7ED6-A7FA-471F-96A5-F74FAE74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F98AC-08F7-4C15-94D9-625EE48F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2DAC-A2CA-4D6F-858E-716297EF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D76935-61E8-4411-A3C7-69D60B81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E38241-2C92-471E-9294-ED3043D0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8CE75-91CF-4784-97FE-F38D9461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3AF21-C451-42B0-8B20-EA423C69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BCF32-1D82-4115-9B40-B5B89F2A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FE51E-1E26-47F2-B13D-C7725B79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E2A4C-E4DF-4530-9C55-0204D357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143F9-D967-4711-A863-107FB1A6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AECF7-F422-4375-843E-E5483242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06983-2AFC-4C03-9F5C-A111D7C5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53D0-3C5F-4754-BE9A-F8B3A4DB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89380-E7F8-4B6F-8737-CA74E41E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EAA42-5A00-4512-B49C-D7145F19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CFF63-190D-49B6-ADE6-EB1CA6BD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FB708B-8717-40C6-A494-3E8052EF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EFEEA4-948D-40A4-B998-1A63A8BA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3A8FE-4F82-4808-BFCE-B242672F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D2B7F-D727-4FE0-B96A-F7BC75AC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7618EB-F915-4CF2-8060-13F16368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9305A-1ADA-4D12-B881-5E4D71CD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4EF8A-E9F9-4988-A1BF-C968C61F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249C3-C7EC-4D4D-85D7-EBB9BCE24DA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14C44-499B-46A9-A2BA-F5928B1B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73BCD-AB80-4D2E-81D1-F6667F0C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EB76C9-7286-4C2E-BAF8-1F42E519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9C2CE6-1C50-4EEF-BC5E-D527ADFF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F8B8E8-149D-4773-9F9F-341D4235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E9430E-0792-43D2-BE71-9AA624B2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2AAE21-D4F9-4F21-AF20-B2D45400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D224D7-B2A2-4613-AA34-49415937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AC3D8B-E9DF-43E0-8FEE-1D1F23B4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28ABC7-6C8B-4A89-AAD2-C84BC833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FC572-457B-4B55-A4FF-2D746F3EC9E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BF36DF-93BD-49C9-87E5-B7376093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A661A6-4337-4BFE-AFE9-388F526D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B3FE79-A90B-4F25-9FBF-A9FD74BA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6A7FB0-C227-496E-A3C0-048B8D9B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6984A8-D134-4BF0-975C-656A01F0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5A22D1-AC7C-44CD-B0EA-07B51D18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C72F77-0839-4F4A-8310-4B97B13C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A2B886-67BA-4727-B94C-795A1F4A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222B0-25A2-4E86-858A-646CE59C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81BC7D-E6F7-49E8-A149-4176D38A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CEA61-D7E9-47F3-9A86-6BAEECA6518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3DA7A3-A04D-405E-AB64-25B16A0E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6D5A8-0B5E-4AAE-BD7B-D307C110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10539E-5344-4685-B8CD-A837390F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16E065-54E1-49C1-A5D2-2AAC8A61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FE1CC4-C591-44A8-9D19-A838599E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AF2D0-0158-4017-B0E3-2DE71485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6A866-83BA-40FE-B54D-CDD4C165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44F797-049F-43A6-B091-D8DAA7BD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F39E60-ABCD-42A3-B24A-7D22365F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193825-AC88-4990-A33F-3A5AA14F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8F29C-D6CA-4D5C-9CE8-E3DAAC60096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777906D-CF4C-4320-B935-A51119FF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B226E5-A335-4EE5-8279-0191EDC2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04BC61-5CA0-4968-A0A8-52FB45A2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4E0DCE-4B48-4467-BFD5-1AF1A37D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F40EA3-0FE1-4775-9EE0-1B019774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184468-AE20-4CCF-A631-DBB1B7A1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B978C8-6599-4D66-B325-E6B7D496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9E7513-B713-4AC1-BE18-DCED8309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C20ECFC-1E1B-4B6F-9605-1959CDC9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F608010-F182-4AD9-9B28-745F3041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F5968-0904-47B3-A8C1-17E36462CBA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F76DBEA-AD10-4F6D-9570-087691F0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6D10CC-8838-43A4-9784-CF073CE9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E6AE948-545B-4351-B84A-951C04DB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3782D6B-D551-45E4-BF2D-54CD2DC1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CFB5C2-85CC-40ED-A337-99E77555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365704B-0A0A-4D07-8B10-BDE1396B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F457BC-A1ED-4D84-8ADF-408C9275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A7F999A-045F-4F89-BDAB-00ED9411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C65341-CCAC-4745-B350-9FC0E14C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A48F03-4819-4BD6-9AA7-5B87EC6F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F639F-9501-4765-BFD6-C500520DBCB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6373498-FEF0-4EC8-8831-17E02F28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B81B21-17E8-458D-BCBF-D774C3E0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0CACA30-E9A7-4D84-AA02-7F82CD39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E5D2D88-A017-4AEA-A27A-48C6244F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988E85F-50CE-4C74-BD07-93BC51DA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DF1492E-5D2D-4EE5-B51C-17CF00D3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69EBF80-F686-4E3F-A1B5-C498C3E9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331CB69-EC0D-4E9C-AB0F-DBF906C2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3036DF6-CB97-40F2-9583-0658F3D9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B1B9BFA-6829-4713-A48C-EDAAA08B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288B6-F246-466E-B486-0BEE8E857BB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506F2AC-08D9-47AF-9F1A-14E241C7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9E79AB1-36A6-40BF-A83F-7464FA53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A2E1BE4-E401-464F-8FC8-6881806D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DD67F8-5BD3-455D-8CC6-C66DFB7B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E54F359-9C43-4F18-BA3D-A919CFF2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2FC10CA-895A-420B-802B-7740AEAD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7269F55-5968-4777-9B5B-A5987540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EFA851D-BCB7-42E7-9F1F-D400BE60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62BF32-2865-4216-BF9D-5A8CCCAE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869DAD8-C008-4AC1-8903-277B998E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F3C7-9C5F-497D-9430-3B1A977E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96C32-1EBC-4DCC-822A-6CEA2A20B4D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B6BA67E-C151-4D3B-91E8-F439C328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911DB44-6625-4870-AF5A-E826D716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904ADD9-CF9D-42ED-A174-F5B55DBA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11C3A24-B240-4625-B60A-6B9B749D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1C18DF9-E687-4C9D-8770-5DD7F2B3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345FA-3086-4C89-B37C-4E46388ABD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48253-4907-4847-AC50-C3AC2C5A96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43BB6-A230-4DCA-B285-51766E5AA5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A0BA3-E5FA-4EE3-B1EF-09A396AFFE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F85F6-145F-445E-BE74-B85F4E49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24005-370B-4FEF-B017-7C9FE329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11788-E44E-4E57-9AE5-BA46A848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F23D4-505B-4ADD-9D73-7815C43F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13871C-8D72-4E17-9F22-1BF675C0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113F-F3F3-4C32-BB4B-B767B9FC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D2128-7E8C-4B69-A553-0946838D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7D517-53EB-48E5-8A77-79DAE60F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4C5C1-8648-4894-AE27-0987FE05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10561-83FE-4228-B034-72C8134D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FD2C6-2AB4-4DDD-B5E1-5BAB5F2E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96842-8A86-446E-9D0F-040EC919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4E96C-0BC5-4463-BEF6-FDFA70FD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443CB-85D3-438D-8C57-E2D826EC33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4E992-DEB0-4BD1-8236-1DBCEEC5A9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2F0C1-8229-438D-880E-C8C7AD886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B8E1-54A9-4FB9-8FA8-44AA6472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94477-00EE-419F-AE0F-13903B9229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CC733-2AE8-4022-853F-F39946A90C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7EF7E-A2FC-4A40-9E6F-CDB870429EB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5B20D-635D-4CAD-ABC4-34A3B4D478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79AB2-EF0E-4355-B541-4971441298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029BD-B6EC-462F-889D-56B43EBE96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13282-F28F-4366-8E4C-29047ECD7F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9368A-A9A0-46E1-A2C5-CE0420FD04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F60A8-405E-4FBB-B426-514420DE5E4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D908-F904-402B-9ED6-29BF17B0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11EC-D74B-4BE8-B5A5-BCDA2F9C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F05D7-1D17-48C5-B658-366844AF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79251F-E1E8-4C09-BA74-B03ED6C4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D612DC-37EC-4FB9-B42C-ACE9647C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90F793-4386-4BB2-B73E-61F261C3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C61066-7588-414B-9FD4-B4806749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8B2DD0-FB33-4414-B8B6-030A9A1A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DD30C9-3B68-4B77-84E9-226B5882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BF4D4-C3D4-4475-AB1E-F3B148DE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7F6608-D8D6-4F79-A23C-EAAA43EC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D1CD-8EC6-4E87-9B7D-022A6AB3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009C65-8BE7-47D1-84E5-D46EC77C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A490D-9787-4C1E-8A6A-0E4BFD17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1A697-FE9D-4D32-A0D4-3D5A4C75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BC9C0E-C1D0-44CF-A258-A864E57A040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62616F-269C-4742-922B-27C0C5AA010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633F38-DF68-4390-9746-793487F9CED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1ACC83-04B5-4AE0-AFAF-76575E5D28D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F68D4C-843E-4BDD-BDA3-2BDC66A2EFD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7A23BC-8819-4CE7-B2C4-6BE53F103A4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937927-071F-48A8-9F2B-DE97841B8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F114-16F4-49CD-BD3C-C0E8F411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6E015E-1906-4014-9E50-13038220C43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B91DED-3279-4A46-83FB-AA0F37F1461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8F9CA2-61DD-448D-931F-0D629726EBA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28D888-7C2E-4E81-BCF7-903522F7C03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CAD162-A087-4300-9989-3E208AD860D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3105F0-D5A5-452A-B79A-D4F320D0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FB7357-2B35-44BE-B390-DB6EFFD8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E20928-E9C3-4F59-8325-34C4F34D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93E484-1093-4D30-B0E5-78449760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0608A6-0D63-48BD-995C-FF3D2E46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173A7-93AA-481E-B81B-48D597B6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467E71-2178-42A7-8B3F-E17A10D6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6A98BF-3A24-458E-BB55-EBD46924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C5258B-92EB-4541-8BDE-6D39F848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5DA060-E312-4D78-BFAA-95F98C5A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BEC5B5-8E75-4D3D-9B0B-4824662A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19DF27-36FF-4036-AF04-8AA76FEB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DC5F99-9228-40ED-BE52-5E296270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86839E-2BF4-410A-BD8E-5763CD84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D66372-C7BD-40E8-A0D9-78BA44EB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BFBCE4-C196-4D88-A0B1-492D7E94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E579-06E6-4C17-B9B1-A9692065F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9D93-B5AD-430A-8841-789C85B33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4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86B1-D4E6-4BAE-8729-9837E13BC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7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A434-FB6B-4F64-8407-92662DB48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0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E25F-C1A8-4480-924B-58C47F479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3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E371-709D-461A-ACA4-00425073C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6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2AD5-275A-4D0B-B10D-0C49BBF0C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9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F32F-1F7C-4250-B7EF-6E839CB49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42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18C7-EA85-4A6A-8F3F-7071C45C4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5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A7EC-95CE-4F18-8029-9D0E84A49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e Working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2BE8-0B71-4E3A-A1BC-7FF9E36B9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7075-B62E-4D88-AB06-D37BBEA97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2"/>
          <a:stretch/>
        </p:blipFill>
        <p:spPr>
          <a:xfrm>
            <a:off x="7162920" y="31680"/>
            <a:ext cx="19350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9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418D-4800-406F-B7CB-0F08DA11E1E7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3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1D07-7C70-4421-9D87-320E76032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5"/>
          </p:nvPr>
        </p:nvSpPr>
        <p:spPr>
          <a:xfrm>
            <a:off x="456840" y="62766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e Working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8789-AD66-4721-B196-315102190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8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8422-D7AB-4D24-A5FD-E47C24C54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1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200D-399F-46AE-A31F-1A4B66614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D422-6E05-4F9E-AEB1-6C03D468E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July 13,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Leadership:</a:t>
            </a:r>
            <a:br>
              <a:rPr sz="2400"/>
            </a:b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heri Wiegand (TX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21 Annual Validation Progress Report – RES +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90F3-B021-4653-B706-6F99E4770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Content Placeholder 4" descr=""/>
          <p:cNvPicPr/>
          <p:nvPr/>
        </p:nvPicPr>
        <p:blipFill>
          <a:blip r:embed="rId1"/>
          <a:stretch/>
        </p:blipFill>
        <p:spPr>
          <a:xfrm>
            <a:off x="609480" y="1817640"/>
            <a:ext cx="7956720" cy="4048200"/>
          </a:xfrm>
          <a:prstGeom prst="rect">
            <a:avLst/>
          </a:prstGeom>
          <a:ln w="0">
            <a:noFill/>
          </a:ln>
        </p:spPr>
      </p:pic>
      <p:sp>
        <p:nvSpPr>
          <p:cNvPr id="738" name="TextBox 5"/>
          <p:cNvSpPr/>
          <p:nvPr/>
        </p:nvSpPr>
        <p:spPr>
          <a:xfrm>
            <a:off x="609480" y="1219320"/>
            <a:ext cx="79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Annual Validation is in progress…TDSPs have until Sept 30th to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AMS IDR Workshop Planning (October 20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304920" y="96192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As market prepares for February 2022 implementation of </a:t>
            </a:r>
            <a:r>
              <a:rPr b="1" lang="en-US" sz="1800" spc="-1" strike="noStrike">
                <a:solidFill>
                  <a:srgbClr val="294171"/>
                </a:solidFill>
                <a:latin typeface="Arial"/>
              </a:rPr>
              <a:t>LPGRR068, Add BUSLRG and BUSLRGDG Profile Types, </a:t>
            </a: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market participants agreed it would be beneficial to the overall market to host an AMS IDR Workshop likely in October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Workshop will focus on transition planning and operational aspects of LPGRR068 for market read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PWG will help frame the Workshop topics and agenda in next couple of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Potential topics may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Overview of AMS/IDR Matrix on transition planning and TDSP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Interval data accessibility and potential data formatting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If available, potential counts and percentage of load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Status of ERCOT read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Status of SMT read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E20C-ECBA-4240-B894-E33224241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Other discussio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4706-19A9-4519-BBB2-B1F5B5814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"/>
          <p:cNvSpPr/>
          <p:nvPr/>
        </p:nvSpPr>
        <p:spPr>
          <a:xfrm>
            <a:off x="492120" y="1833480"/>
            <a:ext cx="807732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4171"/>
                </a:solidFill>
                <a:latin typeface="Arial"/>
              </a:rPr>
              <a:t>UFE discussion</a:t>
            </a:r>
            <a:r>
              <a:rPr b="0" lang="en-US" sz="2000" spc="-1" strike="noStrike">
                <a:solidFill>
                  <a:srgbClr val="294171"/>
                </a:solidFill>
                <a:latin typeface="Arial"/>
              </a:rPr>
              <a:t> on impacts of transmission loss factors and potentially reviewing current allocation or category weighting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171"/>
                </a:solidFill>
                <a:latin typeface="Arial"/>
              </a:rPr>
              <a:t>Suggested REPs coordinate with WMS for further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4171"/>
                </a:solidFill>
                <a:latin typeface="Arial"/>
              </a:rPr>
              <a:t>IDR Data Expectations </a:t>
            </a:r>
            <a:r>
              <a:rPr b="0" lang="en-US" sz="2000" spc="-1" strike="noStrike">
                <a:solidFill>
                  <a:srgbClr val="294171"/>
                </a:solidFill>
                <a:latin typeface="Arial"/>
              </a:rPr>
              <a:t>Emergency Conditions List Issue – REC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171"/>
                </a:solidFill>
                <a:latin typeface="Arial"/>
              </a:rPr>
              <a:t>Codifying ERCOT’s flexibility to adjust NIDR profiles and BUSIDRRQ profiles for initial settlement data in the event of prolonged widespread ou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27F0-35B5-41B3-9BD6-ADD4B2181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6"/>
          <p:cNvSpPr/>
          <p:nvPr/>
        </p:nvSpPr>
        <p:spPr>
          <a:xfrm>
            <a:off x="380880" y="1066680"/>
            <a:ext cx="8610840" cy="411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Next PWG meet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July 14, 2021 @ 9:3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4171"/>
                </a:solidFill>
                <a:uFillTx/>
                <a:latin typeface="Arial"/>
              </a:rPr>
              <a:t>Agenda I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171"/>
                </a:solidFill>
                <a:latin typeface="Arial"/>
              </a:rPr>
              <a:t>Annual Validation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171"/>
                </a:solidFill>
                <a:latin typeface="Arial"/>
              </a:rPr>
              <a:t>Emergency Conditions Issue – IDR Data Expectations - REC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171"/>
                </a:solidFill>
                <a:latin typeface="Arial"/>
              </a:rPr>
              <a:t>Oct AMS IDR Workshop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PWG Meeting P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61"/>
          <p:cNvSpPr/>
          <p:nvPr/>
        </p:nvSpPr>
        <p:spPr>
          <a:xfrm>
            <a:off x="457200" y="5208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Pak, Sam</dc:creator>
  <dc:description/>
  <dc:language>en-US</dc:language>
  <cp:lastModifiedBy>Pak, Sam</cp:lastModifiedBy>
  <dcterms:modified xsi:type="dcterms:W3CDTF">2021-07-12T21:53:26Z</dcterms:modified>
  <cp:revision>1371</cp:revision>
  <dc:subject/>
  <dc:title>Instructions</dc:title>
</cp:coreProperties>
</file>