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E3B-5E2D-44F0-AD44-19389EB57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3266-BF5F-47D9-96F5-B9DF0C26D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0957-3D41-491B-AC66-AD9322E8B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3D5-372F-4C13-BE29-5CC8F0BB0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A9CC-39C3-4BF3-8CF5-4558D793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87F-61F3-42B4-B105-7216D476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3F5-ACEE-4579-980C-FC0B0F2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88A-D094-4CEE-B80E-012691B6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0E6-90F7-4C70-ABCC-D6A05C11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527C-FC6A-4F74-9602-890B9AE1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3FE2-0D82-49FF-B3BC-A1A73626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CD60-55D0-48FB-AAA8-4298CFD3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0674-96A3-43E3-BEDB-BC49B63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1E08-009F-440A-B5CF-853952A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1C2F-787B-48C5-97CA-4EC8271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DABA-89C1-43A3-B3C6-3D70ACC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168-C3D5-4658-BA62-D829BC4C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3074-0556-4852-8503-C46B466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A970-6DF5-4A9B-AF8C-F53DE69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A2BA-6459-4AA1-9893-018A0A7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027-70DC-4242-B0B2-41EFFBE5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E45-2572-4A08-B5D1-2CD16E27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25BB-BC3B-4682-893F-0B8E14EA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15C8-5738-4268-8E34-1F198AD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3D24-C17C-474C-9451-056EED95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94CA-D568-433E-B171-333903D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44F8-02DB-4BB9-8058-539ED5C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74A-4F18-4F5A-ADF1-D53ACAB8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C8CA-9CBD-4526-B886-9674E0B5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B520-540C-4E60-BE0A-8D557FC6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9D7C-E0B2-46A1-A8C2-2C13FA6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30C2-08D0-481F-9717-372586C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5115-CE22-4E82-8C6D-E52CA1A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386A-0E6C-4FD9-ACA8-1B804404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9E12-CB83-431B-83B5-D228A79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E26B-3C27-499E-BAC2-FEF9D24A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463E-6ED2-494C-BE6E-3C834F8A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27F9-959B-4DB1-BD20-B564C2F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BDC-B0A4-4071-B1BB-1D7AF90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EED9-0192-4EE8-A4C2-7D11935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2CFC-D306-4B1A-B84F-AC2DE8D5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4EAE-2A26-40AD-8BE2-E8DB46D4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4AE8-58B7-4CEC-8D6B-0D13FA7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50F4-BD90-4C48-815A-A5711D0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03FE-B9F2-49BC-ADB1-4B20226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7227-6267-458E-B508-120310B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9A29-D04F-4B77-99C1-93DF83EA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650A-08A6-4012-BBB1-CB67F888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89F-A49E-45A7-B5F5-F7F6AEA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EB7-5A3B-4FE2-A5E5-792DCE8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BA4-4044-435D-86E8-C2779A75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2A1-B427-43C6-A355-01653AF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EAE-35D0-4CA2-B107-8676D82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12492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1AF0-4C06-450F-938D-1427E6E5A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0" y="12492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457200"/>
            <a:ext cx="9144000" cy="6094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-Point Star 9"/>
          <p:cNvSpPr/>
          <p:nvPr/>
        </p:nvSpPr>
        <p:spPr>
          <a:xfrm>
            <a:off x="64764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-Point Star 10"/>
          <p:cNvSpPr/>
          <p:nvPr/>
        </p:nvSpPr>
        <p:spPr>
          <a:xfrm>
            <a:off x="187956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-Point Star 11"/>
          <p:cNvSpPr/>
          <p:nvPr/>
        </p:nvSpPr>
        <p:spPr>
          <a:xfrm>
            <a:off x="311148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b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2"/>
          <p:cNvSpPr/>
          <p:nvPr/>
        </p:nvSpPr>
        <p:spPr>
          <a:xfrm>
            <a:off x="434340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ef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-Point Star 13"/>
          <p:cNvSpPr/>
          <p:nvPr/>
        </p:nvSpPr>
        <p:spPr>
          <a:xfrm>
            <a:off x="557532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Point Star 14"/>
          <p:cNvSpPr/>
          <p:nvPr/>
        </p:nvSpPr>
        <p:spPr>
          <a:xfrm>
            <a:off x="680724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-Point Star 15"/>
          <p:cNvSpPr/>
          <p:nvPr/>
        </p:nvSpPr>
        <p:spPr>
          <a:xfrm>
            <a:off x="803916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0" y="4010040"/>
            <a:ext cx="4114800" cy="2847960"/>
            <a:chOff x="0" y="4010040"/>
            <a:chExt cx="4114800" cy="2847960"/>
          </a:xfrm>
        </p:grpSpPr>
        <p:sp>
          <p:nvSpPr>
            <p:cNvPr id="58" name="Freeform 17"/>
            <p:cNvSpPr/>
            <p:nvPr/>
          </p:nvSpPr>
          <p:spPr>
            <a:xfrm>
              <a:off x="218880" y="4798080"/>
              <a:ext cx="3337200" cy="1899360"/>
            </a:xfrm>
            <a:custGeom>
              <a:avLst/>
              <a:gdLst/>
              <a:ahLst/>
              <a:rect l="l" t="t" r="r" b="b"/>
              <a:pathLst>
                <a:path w="3399693" h="1934308">
                  <a:moveTo>
                    <a:pt x="187570" y="175846"/>
                  </a:moveTo>
                  <a:lnTo>
                    <a:pt x="504093" y="0"/>
                  </a:lnTo>
                  <a:lnTo>
                    <a:pt x="1148862" y="293077"/>
                  </a:lnTo>
                  <a:lnTo>
                    <a:pt x="1688124" y="574431"/>
                  </a:lnTo>
                  <a:lnTo>
                    <a:pt x="2004647" y="691662"/>
                  </a:lnTo>
                  <a:lnTo>
                    <a:pt x="2250831" y="750277"/>
                  </a:lnTo>
                  <a:lnTo>
                    <a:pt x="2450124" y="855785"/>
                  </a:lnTo>
                  <a:lnTo>
                    <a:pt x="2649416" y="996462"/>
                  </a:lnTo>
                  <a:lnTo>
                    <a:pt x="3118339" y="1125416"/>
                  </a:lnTo>
                  <a:lnTo>
                    <a:pt x="3399693" y="1488831"/>
                  </a:lnTo>
                  <a:lnTo>
                    <a:pt x="3106616" y="1934308"/>
                  </a:lnTo>
                  <a:lnTo>
                    <a:pt x="0" y="1688123"/>
                  </a:lnTo>
                  <a:lnTo>
                    <a:pt x="164124" y="281354"/>
                  </a:lnTo>
                  <a:lnTo>
                    <a:pt x="187570" y="175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TXflag01b&amp;w dropout.jpg"/>
            <p:cNvPicPr/>
            <p:nvPr/>
          </p:nvPicPr>
          <p:blipFill>
            <a:blip r:embed="rId2"/>
            <a:stretch/>
          </p:blipFill>
          <p:spPr>
            <a:xfrm>
              <a:off x="0" y="4010040"/>
              <a:ext cx="4114800" cy="284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498-25B8-4F46-B8A2-2AB2BA105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8"/>
          <p:cNvSpPr/>
          <p:nvPr/>
        </p:nvSpPr>
        <p:spPr>
          <a:xfrm>
            <a:off x="0" y="12492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457200"/>
            <a:ext cx="9144000" cy="6094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5-Point Star 9"/>
          <p:cNvSpPr/>
          <p:nvPr/>
        </p:nvSpPr>
        <p:spPr>
          <a:xfrm>
            <a:off x="64764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Point Star 10"/>
          <p:cNvSpPr/>
          <p:nvPr/>
        </p:nvSpPr>
        <p:spPr>
          <a:xfrm>
            <a:off x="187956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-Point Star 11"/>
          <p:cNvSpPr/>
          <p:nvPr/>
        </p:nvSpPr>
        <p:spPr>
          <a:xfrm>
            <a:off x="311148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b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Point Star 12"/>
          <p:cNvSpPr/>
          <p:nvPr/>
        </p:nvSpPr>
        <p:spPr>
          <a:xfrm>
            <a:off x="434340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ef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Point Star 13"/>
          <p:cNvSpPr/>
          <p:nvPr/>
        </p:nvSpPr>
        <p:spPr>
          <a:xfrm>
            <a:off x="557532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-Point Star 14"/>
          <p:cNvSpPr/>
          <p:nvPr/>
        </p:nvSpPr>
        <p:spPr>
          <a:xfrm>
            <a:off x="680724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-Point Star 15"/>
          <p:cNvSpPr/>
          <p:nvPr/>
        </p:nvSpPr>
        <p:spPr>
          <a:xfrm>
            <a:off x="8039160" y="5335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d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7"/>
          <p:cNvGrpSpPr/>
          <p:nvPr/>
        </p:nvGrpSpPr>
        <p:grpSpPr>
          <a:xfrm>
            <a:off x="0" y="4010040"/>
            <a:ext cx="4114800" cy="2847960"/>
            <a:chOff x="0" y="4010040"/>
            <a:chExt cx="4114800" cy="2847960"/>
          </a:xfrm>
        </p:grpSpPr>
        <p:sp>
          <p:nvSpPr>
            <p:cNvPr id="115" name="Freeform 18"/>
            <p:cNvSpPr/>
            <p:nvPr/>
          </p:nvSpPr>
          <p:spPr>
            <a:xfrm>
              <a:off x="218880" y="4798080"/>
              <a:ext cx="3337200" cy="1899360"/>
            </a:xfrm>
            <a:custGeom>
              <a:avLst/>
              <a:gdLst/>
              <a:ahLst/>
              <a:rect l="l" t="t" r="r" b="b"/>
              <a:pathLst>
                <a:path w="3399693" h="1934308">
                  <a:moveTo>
                    <a:pt x="187570" y="175846"/>
                  </a:moveTo>
                  <a:lnTo>
                    <a:pt x="504093" y="0"/>
                  </a:lnTo>
                  <a:lnTo>
                    <a:pt x="1148862" y="293077"/>
                  </a:lnTo>
                  <a:lnTo>
                    <a:pt x="1688124" y="574431"/>
                  </a:lnTo>
                  <a:lnTo>
                    <a:pt x="2004647" y="691662"/>
                  </a:lnTo>
                  <a:lnTo>
                    <a:pt x="2250831" y="750277"/>
                  </a:lnTo>
                  <a:lnTo>
                    <a:pt x="2450124" y="855785"/>
                  </a:lnTo>
                  <a:lnTo>
                    <a:pt x="2649416" y="996462"/>
                  </a:lnTo>
                  <a:lnTo>
                    <a:pt x="3118339" y="1125416"/>
                  </a:lnTo>
                  <a:lnTo>
                    <a:pt x="3399693" y="1488831"/>
                  </a:lnTo>
                  <a:lnTo>
                    <a:pt x="3106616" y="1934308"/>
                  </a:lnTo>
                  <a:lnTo>
                    <a:pt x="0" y="1688123"/>
                  </a:lnTo>
                  <a:lnTo>
                    <a:pt x="164124" y="281354"/>
                  </a:lnTo>
                  <a:lnTo>
                    <a:pt x="187570" y="175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9" descr="TXflag01b&amp;w dropout.jpg"/>
            <p:cNvPicPr/>
            <p:nvPr/>
          </p:nvPicPr>
          <p:blipFill>
            <a:blip r:embed="rId2"/>
            <a:stretch/>
          </p:blipFill>
          <p:spPr>
            <a:xfrm>
              <a:off x="0" y="4010040"/>
              <a:ext cx="4114800" cy="284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034-34D1-40CA-B476-B1C65C03B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8"/>
          <p:cNvSpPr/>
          <p:nvPr/>
        </p:nvSpPr>
        <p:spPr>
          <a:xfrm>
            <a:off x="0" y="124920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3ddff"/>
              </a:gs>
              <a:gs pos="100000">
                <a:srgbClr val="c3ddff"/>
              </a:gs>
            </a:gsLst>
            <a:lin ang="135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304920"/>
            <a:ext cx="9144000" cy="106668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2AC-C08B-48E0-9D14-EC129676A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RCOT Generation Weatherization Worksho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9e"/>
                </a:solidFill>
                <a:latin typeface="Calibri"/>
              </a:rPr>
              <a:t>Seasonal Weather Readiness for Texas Gen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9e"/>
                </a:solidFill>
                <a:latin typeface="Calibri"/>
              </a:rPr>
              <a:t>June 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ll to A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assessed event and the actions taken prior to and during the severe weather. Te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paper (on event and reque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mmended Severe Weather Preparation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hree documents were presented to ERCOT CEO Trip Doggett on May 3,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est Practic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st Practices: Corporate Leve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ive involvement and sup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y-specific emergency operating plan that incl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cumented, written procedures with a timeline for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sonal weather preparation meetings for winter and summ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ountability / verification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and external communications pl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ous improvement process to document lessons learned / best practices after each ev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ze protection design criteria implemented consistently across the entire fle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st Practices: Plant Leve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-specific emergency operating plan that inclu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ecklists to ensure proper preparation for severe wea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ection of heat tracing circuits (especially on critical instrumentation) including wiring, insulation, control pane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llation of secondary wind barriers to protect critical equipment and instr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for continuous monitoring of heat tracing on critical lines and pipes during severe weather ev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for ensuring adequate quantities of winter weather supplies in advance of season and an ev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for ensuring adequate staffing during an ev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orders / requests automatically generate each year to ensure preparation activities are initiated and completed prior to seas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est Practices: Extern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formalizing process for requesting discretionary enforcement regarding environmental permits in support of grid reliability. Develop an MOU with PUC, TCEQ and ERC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warming / starting additional gas units prior to winter weather to improve unit readiness and reliability.  Allow for longer start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lessons learned with generators in ERC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ing PDOC agenda ite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mechanis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commende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inter Weather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adiness Guidelines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ommended Guideli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individual unit reliability with freeze protection guidelines, lessons learned and best pract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 operators are responsible for maintaining the readiness and reliability of their un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 operators should develop robust company and plant-specific guidelines based on geographical location, design, technology and plant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ommended Guideli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fety remains top priority and will not be compromi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readiness and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porate management accountabi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expectations for safety, environmental compliance and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weather preparation policy and plan exist for fl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communications plan exi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involvement and signoff to verify read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management accountabi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plant-specific procedures and checklists to direct and document preparation of plant and all critical instrumentation and equipment for severe wea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ll preparation measures are documented, completed, verified and provided to senior executives by a specified d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equate staffing, supplies and fuel prior to and during an ev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ommended Guideli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e readiness prior to ev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ate an Emergency Operating Center (EOC) or similar facility to coordinate all internal and external commun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cument lessons learned / best practices and review annual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commende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ummer Weather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adiness Guidelines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and Summary of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to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d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ommended Guideli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individual unit reliability during summer heat, lessons learned and best pract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ptions (same as win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 operators are responsible for maintaining the readiness and reliability of their un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 operators should develop robust company and plant-specific guidelines based on geographical location, design, technology and plant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ommended Guideli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fety remains top priority and will not be compromi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readiness and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porate management accountabi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expectations for safety, environmental compliance and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weather preparation policy and plan exist for fl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communications plan exi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involvement and signoff to verify read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management accountabil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plant-specific procedures and checklists to direct and document preparation of plant for he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ll preparation measures are documented, completed, verified and provided to senior executives by a specified d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equate staffing, supplies and fuel prior to and during an ev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ical Summer Read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 sum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ptember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eview recent summer performance/ lessons learned and best practi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ll through spring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duct engineering reviews, identify improvements and corrective actions, implement work orders, complet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- Sum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ril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plants summer readiness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efore May 15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ts complete checklists and work or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ne 1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ify completed work and list exceptions/ risks and compensatory action to be ta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unications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t operations, system dispatch, coordination to ERCOT,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mergent Conditions: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 for most likely scenarios (e.g., loss of AC HVAC, etc…); be aware of unlikely scenarios (e.g., extended drought, etc…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rricane Preparedness and Action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Plan at each potentially impacted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readiness for tropical storm and hurric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preparation pre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s action and steps as guideline depending upon severity of storm AND speed storm is trav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rricane Preparedness and Action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inning of storm season (June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rm/ Hurricane Alert (in Gulf but not immediate thre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rm/ Hurricane Watch (storm in Gulf, potential threat within36 hou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rm/ Hurricane Warning (predicted to make landfall within 2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rricane Du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se 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 Hurric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rricane Preparedness and Action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ffing Plan and Duty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mergency Shutdown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urrican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ods: Tape, rope, wire, plas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od: multi day su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el/ Light/ Heat: batteries, stove , prop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giene: Toothpaste, soap razors, hairbrush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: cots, blankets, sock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s: radio, cell phone, sat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rricane Awareness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rricane termi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dor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troduction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ummary of Finding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ctr" pos="29718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Int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February 2011 Weather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457200" y="18748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est Texas weather since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gle-digit and sub-freezing temperatures for more than 100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ed winds of 30-40 mph with gusts of 50+ m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ERCOT winter peak demand record of 56,344 MW (with a second record set the following wee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5 units tripped, de-rated or failed to start (Feb. 1-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.6% of total ERCOT winter 2011 capacity out at Feb. 2 pe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for nuclear facilities, all power plant types including coal/lignite, simple cycle gas, combined cycle gas and wind resources experienc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ary of Findings– TRE Repo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dnesday, Feb. 2, 2011 was one of the coldest days in the last 25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Feb. 1 – 3 period, an extraordinary number of generating units tripped, de-rated or failed to start due mostly to freezing instruments and pipes, but some fuel availability issues occurred as w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winds combined with the cold temperatures over an extended time period appears to have aggravated the freezing of instruments and pip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ary of Findings– TRE Repo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 17,519 MW was out of service prior to Feb. 2 due to scheduled outages (6640 MW), forced outages (5106 MW) and mothballing (5773 M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followed normal procedures but did experience some communication problems on Feb.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indication that QSEs, TSPs and DSPs failed to act to prepare for an emerg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of ERCOT and market participants during the EEA was, for the most part, consistent with requirements in Protocols and Operating Guides, although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ary of Findings– TRE Repor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s and Operating Guides do not establish requirements for specific actions to prepare for extreme we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ey Finding of TRE Repor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ebruary 2, 2011 EEA event was caused by either insufficient or ineffective preparation of generating facilities for prolonged freezing we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all to Acti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all to A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equent to the Feb. 2 event, PUC Chairman Smitherman called several generating company CEOs and asked them to review the event and make recommendations on how to prevent this from happening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ve companies were asked to participate: Calpine, CPS Energy, LCRA, Luminant and NR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orking team was established with meetings held in Austin and Houston in March and Apr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34:26Z</dcterms:created>
  <dc:creator>Registered User</dc:creator>
  <dc:description/>
  <dc:language>en-US</dc:language>
  <cp:lastModifiedBy>Fohn, Doug</cp:lastModifiedBy>
  <dcterms:modified xsi:type="dcterms:W3CDTF">2021-03-16T17:15:57Z</dcterms:modified>
  <cp:revision>437</cp:revision>
  <dc:subject/>
  <dc:title>ERCOT Generation Weatherization Workshop</dc:title>
</cp:coreProperties>
</file>