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5FA0-18AE-4609-A656-FC5061132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A93A-9925-42E8-A831-FCB66E8B2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AA708-8528-45CD-A65F-B1E4AF497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98EE2-7E09-496A-8CC6-1202DBE4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1D5F0-7D5D-4EA9-A997-816EEED8E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891A3-1F9C-4A51-BB7C-7A428C741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D8A3-83B4-4A82-9FEA-0D2454BB3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3B0E-B0EC-4830-8500-C0E19C12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8847A-07A0-4006-936A-703343BD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ACF2B-142E-4FEE-85C7-45C1DA53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3A2B-45F0-4D4A-8DEE-08E0D956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4243-CDA3-4852-B714-FE509CA3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9379-3A02-4CA0-83C9-5A0B3FF9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23C2E-355D-4516-AC56-7D008D2C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D378A-3063-430F-9055-032701AE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AA0CF-91B9-4841-A443-3693F65A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97046-837A-467D-AF23-FC7EFBFE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9806A-6D82-4A89-8DD2-690DE81A0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8674-34E9-47A9-8FF0-11AA66D0D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59BF7-A5F2-4BDD-BC9A-B9043950E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DF315-9F32-415D-9DBC-5E116318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17804-C4BF-4817-A5DA-F58D0D54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23D86-FD53-4F54-9036-A5FE0743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ABC1F-B320-4E58-8F95-688052AD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F3955-6100-477B-B464-9F2E01F4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D849A-18C3-4E8F-A21E-0CA649F6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BFAD6-BAC2-4A46-B2DE-E5B0D4C4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72DB2-DD00-457D-95D1-5B5E1583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9D54C-327A-477A-9275-1563BE9B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EC955-5232-4370-A95A-5A48D205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197D8-7D82-4A58-924C-15E016760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9DFEF-D4FD-489D-BD51-D67C00ECA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ADDE34-1BFA-429A-8E68-7503B1C30D6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3DF0D0-1920-44D3-A1A6-0FBBF0C8E68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C28E5F-A228-4E2D-B002-892699349B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DBFAC-4383-4CC5-BECA-0B1D0D0B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F9A009-68E8-4271-9B76-A772F239371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1BE2E8-EDDC-4EDC-B3BA-134E1313125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3A36E7-0CEB-4017-BB1F-EB45622A129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CCABA6-91AA-4B8F-8E70-2FE8EF365BA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18D6A2-FF9A-4D63-A1B8-B56D8EA78F7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E5D820-EB25-4F51-8345-3AD65C06278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33623C-E780-471E-A762-131C00DF4FF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D3939E-E3FB-4867-83A8-BE8C0AB9A79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3BC8B4-C06E-47AC-AC7B-3AC4DA838C0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89D7F-BF78-4EFC-80D0-4A21015C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F002A-4A80-41AD-BB0C-544196F2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0031E-3850-41AE-84BF-ACB0EF7D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A99EA-56E9-4E33-87CA-9C40BD80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AE08F-102D-40DC-B995-DB0E4888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B843-368A-417A-AC18-7625DDF2B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2F31-5441-4D87-AFD1-B9FDF2316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DE4E-0429-41F9-913C-065487F21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2"/>
          <a:stretch/>
        </p:blipFill>
        <p:spPr>
          <a:xfrm>
            <a:off x="7162920" y="31680"/>
            <a:ext cx="1935000" cy="80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A7A7-E76A-4EE5-82C4-46214AA11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"/>
          <p:cNvPicPr/>
          <p:nvPr/>
        </p:nvPicPr>
        <p:blipFill>
          <a:blip r:embed="rId2"/>
          <a:stretch/>
        </p:blipFill>
        <p:spPr>
          <a:xfrm>
            <a:off x="7162920" y="31680"/>
            <a:ext cx="1935000" cy="80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sldNum" idx="10"/>
          </p:nvPr>
        </p:nvSpPr>
        <p:spPr>
          <a:xfrm>
            <a:off x="4343400" y="6568560"/>
            <a:ext cx="4572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D4FB-BB2C-4CDF-A744-F988BAEAC6D3}" type="slidenum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54000" y="65278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b6770"/>
                </a:solidFill>
                <a:latin typeface="Arial"/>
              </a:rPr>
              <a:t>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1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2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/pwg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BC6E-CCD3-4125-A144-4C5F20D70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76176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4171"/>
                </a:solidFill>
                <a:latin typeface="Arial"/>
                <a:ea typeface="Times New Roman"/>
              </a:rPr>
              <a:t>Profiling Working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  <a:ea typeface="Times New Roman"/>
              </a:rPr>
              <a:t>Update to 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  <a:ea typeface="Times New Roman"/>
              </a:rPr>
              <a:t>March 2, 20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94171"/>
                </a:solidFill>
                <a:uFillTx/>
                <a:latin typeface="Arial"/>
                <a:ea typeface="Times New Roman"/>
              </a:rPr>
              <a:t>Leadership:</a:t>
            </a:r>
            <a:br>
              <a:rPr sz="2400"/>
            </a:b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Sam Pak (Onc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Sheri Wiegand (TX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Discussion T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96192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94171"/>
                </a:solidFill>
                <a:uFillTx/>
                <a:latin typeface="Arial"/>
              </a:rPr>
              <a:t>Annual Weather Sensitivity Changes are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9E29-1FCB-4B05-B8BE-988B9FB9F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8077320" cy="377208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Discussion T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96192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94171"/>
                </a:solidFill>
                <a:uFillTx/>
                <a:latin typeface="Arial"/>
              </a:rPr>
              <a:t>LPGRR068, Add BUSLRG and BUSLRGDG Profile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ing for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tatively Q1 in 2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 days or earliest readiness of TDSP, REP, SMT, or ERCOT 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tential Smart Meter Texas impa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load profiles could cause validations errors or rejects of LSE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DOA will provide feedback on potential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i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ibility of Interval Data &amp; Implementation Tim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 of Record (R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rd Party- Brokers/Aggreg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DFF6-AFCC-44D0-8690-8039AF085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9536-2861-47BF-9AAC-DF74BA8D4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380880" y="1066680"/>
            <a:ext cx="8610840" cy="5086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4171"/>
                </a:solidFill>
                <a:latin typeface="Arial"/>
              </a:rPr>
              <a:t>Next PWG meeti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</a:rPr>
              <a:t>March 10, 2021 @ 9:30 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4171"/>
                </a:solidFill>
                <a:latin typeface="Arial"/>
              </a:rPr>
              <a:t>Next steps with </a:t>
            </a:r>
            <a:r>
              <a:rPr b="1" lang="en-US" sz="1800" spc="-1" strike="noStrike" u="sng">
                <a:solidFill>
                  <a:srgbClr val="294171"/>
                </a:solidFill>
                <a:uFillTx/>
                <a:latin typeface="Arial"/>
              </a:rPr>
              <a:t>LPGRR068, Add BUSLRG and BUSLRGDG Profile Typ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9417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4171"/>
                </a:solidFill>
                <a:latin typeface="Arial"/>
              </a:rPr>
              <a:t>Transition Planning and TDSP Matrix respon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9417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4171"/>
                </a:solidFill>
                <a:latin typeface="Arial"/>
              </a:rPr>
              <a:t>Potential SMT imp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9417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4171"/>
                </a:solidFill>
                <a:latin typeface="Arial"/>
              </a:rPr>
              <a:t>Accessibility of Interv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</a:rPr>
              <a:t>PWG Meeting P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61"/>
          <p:cNvSpPr/>
          <p:nvPr/>
        </p:nvSpPr>
        <p:spPr>
          <a:xfrm>
            <a:off x="380880" y="565776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/p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Next PWG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Wiegand, Sheri</cp:lastModifiedBy>
  <dcterms:modified xsi:type="dcterms:W3CDTF">2021-03-01T22:08:13Z</dcterms:modified>
  <cp:revision>1343</cp:revision>
  <dc:subject/>
  <dc:title>Instructions</dc:title>
</cp:coreProperties>
</file>