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35B-AAC3-422A-B926-64ED98C4C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9C01-6076-41EA-B3C2-9360DBF1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C6C9-98DB-4332-88D6-888828B1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6F93-B8A5-45E5-95B4-69B6C58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B219-FFD6-4CEB-8F12-03739442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86EE-AA2C-4CFC-B307-ED2E39B7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B591-9CD5-41B0-8B31-6F59567C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AAF-387C-461D-9B13-E2198C7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6728-3E88-4E49-BD39-D417620A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44F-9D40-4FB5-9996-1962EB1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441-CF7D-4A9B-94BC-1C93892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8E46-1C2A-4B4E-9CD3-8F9D43AE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037-0DC9-4FF2-A70E-52BEEC4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3A35-4CF0-4970-8222-ED24DF4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10A0-A25E-42BE-9480-78C4549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9A2E-BA28-446B-84CC-70DC7A7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72E-0D0C-49CB-88CF-E942A94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326-FA34-499F-BAB7-8393FF9F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5CF4-EF1F-4142-AE7C-A06647FA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AC33-BC51-427E-B5D6-EC34994D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2E30-6492-4C92-A7AB-84B721DF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0814-524F-423A-8486-D7D8798E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7ECD-B4F5-48AB-A0B9-C2BD291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A30A-2540-422F-91D1-B1B8D981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B22E-ADD4-4ED6-8376-0FCF9E57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9EF8-44C8-48C1-A1EC-B5216F6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B6E9-54E8-43E4-9916-2BB5AEB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B0AD-5D5D-4DB2-882E-3BA9533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02BB-8409-43F2-BBC0-CBC1D72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B456-58A5-40E9-BE74-8FDA1416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1348-A460-4028-8FFE-EE9EA7D5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E4AA-A924-4679-8B77-DD343B83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0E39E-7420-481B-94D9-3D7EC8B25B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CAACB-F591-4D0E-A849-E9F45220A9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64E80-E7EB-46B0-AB9B-14886F963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C12D-A669-4422-8001-9347D18C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C7EAD-6F1E-4D76-B454-DFA854EF7C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4F59F-1CFE-4DD2-8386-E8B9620ECF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C0A3E-AFB2-4535-9932-33B6E0F0F5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08403-5B9E-4B2C-87FF-3A97F10D66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17EC8-EE4F-4788-A8EC-7614807648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1C726-ABAF-4618-8DF5-4C8011460F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4FA45-1F83-471D-869E-FCFC4420D7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36BB0-9535-47E5-A430-D85C7BF2A0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0410A-F94B-4128-BEB6-9C05139DDC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68DD-2F37-4A51-BD90-23C472E3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73F9-BEA0-4413-BC2F-FA60732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A021-F362-48E5-BA6F-C19DCC3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A97C-9D9F-4FF2-8787-EB18028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65F0-3A9A-40AA-BF5A-94E1D1E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26C-06D9-42FD-AE6E-46006E90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CC38-F06E-43DB-9491-A60A9F34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7C5-85CA-472C-BDB6-C2838929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CD6-21CB-469F-8C00-30AA2279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C66-4AD1-4595-80CB-D81A1F5A5180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937-D8FE-43CA-A873-A29ED023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February 2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2021 PWG Offic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4171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294171"/>
                </a:solidFill>
                <a:latin typeface="Arial"/>
              </a:rPr>
              <a:t>hair: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am Pak,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4171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294171"/>
                </a:solidFill>
                <a:latin typeface="Arial"/>
              </a:rPr>
              <a:t>Sheri Weigand, T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Annual Weather Sensitivity Changes are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Weather Sensitivity were due by Jan 31,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All TDSPs are considered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Oil &amp; Gas Flat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REPs will plan address assignment of OGFLT load profiles within their respective shops rather than pursue profile validations or process changes at ERC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E557-631A-4DE7-BD75-0A2963BC4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0 PWG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32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TAC goal for the availability of IDR Meter and TDSP Read Settlement Only Generator interval data prior to initial settlement of an Operat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matrix outlining current AMS/IDR scenarios and impacts to 4CP billing and load profile by TD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lined a project plan with a primary goal (above) and requirements for consideration:  indicator, data stream, data access, transi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y vetted various options for a proposed indicator for ESIs with an AMS meter yet subject to 4CP billing also signaling data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an discussion of data access and a transition plan for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ESIs with AMS meters subject to 4CP billing on a BUSHI/MED/LO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ESIs with AMS meters subject to 4CP billing on a BUSIDDRRQ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ESIs with AMS meters on a BUSHI/MED/LO profile that have crossed 700 kW/kVA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ESIs expected to cross 700 kW/kVA thresho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two market workshops to review effort and seek stakeholder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ed the following Revision Requ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XXXX  Modify IDR Meter Requirement and Eliminate IDR Meter Require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GRRXXXX Eliminate Section 7.13 IDR Meter Removal and Installation Process and Associated 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34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GPRRXXXX Add BUSLRG and BUSLRGDG Profile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5D24-0A6A-4040-9413-243FF67BE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0 PWG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320" y="99036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ly complete 2019 Weather Sensitivity Report and Commence 2020 Weather Sensi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UFE Report review to WMS and revise PWG scope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67  Profile Decision Tree Revisions - Oil and Gas Profile Assignment and Administrative Clean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xisting OGFLT Profile Assignments to determine if additional scrutiny is desired prior to ERCOT making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 completion of 2020 Annual Business Valid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discussion on possible impacts of COVID-19 on 2021 Annual Validation Process both Business and Resid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ed addition of Transmission level information on the TDSP Read Generation Registration Form per NPRR 8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possible Business Annual Validation Decision Tree logic conflicts with TDSP tariffs regarding defaulting BUSNODEM profiles as these were evaluated by ERCOT now moving to exclude any ESIs with demands &lt; 10 kW/5kW as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PRR1043 Clarification of NPRR986 Language Related to Wholesale Storage Load to determine impacts of one vs two ESIs for sett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736-0D3F-4D53-A587-7F37077C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1 PW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320" y="9903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and supporting a transition plan for the proposed Revision Requests associated with the IDR/AMS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ng to the market the proposed transition plan via RMS or a Workshop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ion of 2021 Annual Validation Process for both Business and Residential ESIs and review the potential impacts of COVID-19, if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ERCOT efforts on the Distributed Generati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ion of 2020 and initiation of 2021 Weather Sensitivity Chang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8D3-794D-4621-8C2D-8150A8BE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628-89BF-4A61-AB16-76C01845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80880" y="1066680"/>
            <a:ext cx="8610840" cy="539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February 10, 2021 @ 9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Next Steps for LPGRRXXXX, Add BUSLRG and BUSLRGDG Profi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4171"/>
                </a:solidFill>
                <a:uFillTx/>
                <a:latin typeface="Arial"/>
              </a:rPr>
              <a:t>Timing fo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4171"/>
                </a:solidFill>
                <a:uFillTx/>
                <a:latin typeface="Arial"/>
              </a:rPr>
              <a:t>Transition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4171"/>
                </a:solidFill>
                <a:uFillTx/>
                <a:latin typeface="Arial"/>
              </a:rPr>
              <a:t>Accessibility of Interv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380880" y="56577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1-02-02T13:35:16Z</dcterms:modified>
  <cp:revision>1336</cp:revision>
  <dc:subject/>
  <dc:title>Instructions</dc:title>
</cp:coreProperties>
</file>