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F4BB-8C4D-430F-8638-B2EE23FA9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EC7A-D0F7-4F5C-BEF5-6BFF08029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FF0A-1F64-4D2A-968A-49F4D8D5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0B63-CCFE-46BD-80A0-25F69D33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ED16-75AF-41DC-B5B4-80B27467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6CF4-BA0E-4B0A-9C13-F1D527E9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BA2F-9597-4515-8897-3C1E350E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6FB0-2DF9-4EC3-AF7B-CE4E4638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6014-25B4-4713-87BE-E9577830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51E1-2A75-49D9-8A29-7E2DAD24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DCD8-B467-42EE-AA78-F95820BC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5AB7-9AF0-4D2E-935A-F6A9994C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68B4-0E3C-467F-BAD4-5E96CE72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2F33-89E4-48A1-AA60-BBD2C520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A126-66E8-4F6B-86D5-8BA0A3F2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6ED4-2627-4673-A5E2-96B6A329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A7A1-6C3B-4708-8E25-EA2E237B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B962-2B86-4405-971C-1AEFED5A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58FE-695C-4EDC-B96A-53EECFD8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2E951-B111-40EF-8DD6-40B5F3C5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3EAA0-3468-4FCA-AE1D-CA254AE9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8ADB8-26E7-41E3-9908-0EF8D1E9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E4D68-6175-4CF5-8228-E431C901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5E5EE-F5DF-4A3C-9107-DB74DAC0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840E-96A3-4046-8363-3D4D9FF7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4ED3B-71CE-4FC7-AFF4-09AEE9A3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C98A6-BE87-4214-9C0F-66CAF17E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D048D-6616-47D2-BA1D-8922CC11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E1133-6F78-4C27-8835-CCDF6769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F99A2-3709-4F3D-90B4-91662F6A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B1177-02EC-4FD5-9E47-F168FEE8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ADB09-83ED-482B-BE30-E580B010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FC5091-7830-416A-A393-188C882C47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BEDDD0-E9B6-4079-8C32-9F5C6A3DBB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8A0400-E807-4A4B-ACD6-535837F19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CDD7-D07E-4376-AB1F-E258CA60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5FFE73-33C4-4BD9-99E3-F7DB0A29EF3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342DA0-F585-46FF-8813-CC6A20A504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5DBB91-F7CB-49D4-A014-BDF73AE644C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CE4CBE-AC11-4F66-A6E9-CEB0293545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A15FFE-2AA6-4BF9-85A0-6B182238CB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438211-0569-4FCD-AB81-973E016EDB7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DE71A5-8028-4BE6-91F2-90DCF1BC08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567991-E839-4855-9FDF-F8BCB6C86F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39D5CA-D4D5-454D-B53C-7CF91A4050E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6E8F-4AA2-482D-9981-78F33C6E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1AF2-CFDF-4A1C-BF15-7CCA0C11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3C2F-50E0-4CE1-95B4-29DFF94E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5505-7B37-42BC-A52A-0D7CEE53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F28B-69AF-4B5A-A8F7-C5914CB8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A281-5B7D-486C-9751-547260592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5AEB-8947-49CF-9D0F-CCA0661EC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7EC9-795D-41A9-BE1D-DD09B7208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7162920" y="31680"/>
            <a:ext cx="193500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10BC-A5F4-4F37-9E94-FA01BE482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2"/>
          <a:stretch/>
        </p:blipFill>
        <p:spPr>
          <a:xfrm>
            <a:off x="7162920" y="31680"/>
            <a:ext cx="193500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5CE9-50E7-43B7-B13B-487FC56B6B2A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1511-1353-4019-9BD5-669CDD952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December 1,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Leadership:</a:t>
            </a:r>
            <a:br>
              <a:rPr sz="2400"/>
            </a:b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heri Wiegand (TX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66760" y="9903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4171"/>
                </a:solidFill>
                <a:uFillTx/>
                <a:latin typeface="Arial"/>
              </a:rPr>
              <a:t>Annual Weather Sensitivity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ERCOT reported TDSPs were notified their respective volumes on Nov 2</a:t>
            </a:r>
            <a:r>
              <a:rPr b="0" lang="en-US" sz="1600" spc="-1" strike="noStrike" baseline="30000">
                <a:solidFill>
                  <a:srgbClr val="294171"/>
                </a:solidFill>
                <a:latin typeface="Arial"/>
              </a:rPr>
              <a:t>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Weather Sensitivity changes are due by Jan 31, 20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4171"/>
                </a:solidFill>
                <a:uFillTx/>
                <a:latin typeface="Arial"/>
              </a:rPr>
              <a:t>Finalized Discussion on Draft Revision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4171"/>
                </a:solidFill>
                <a:latin typeface="Arial"/>
              </a:rPr>
              <a:t>RMGRR</a:t>
            </a: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, Eliminate Section 7.13, IDR Meter Removal and Installation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4171"/>
                </a:solidFill>
                <a:latin typeface="Arial"/>
              </a:rPr>
              <a:t>NPRR</a:t>
            </a: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, Modify IDR Meter Requirement and Eliminate IDR Meter Requirement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4171"/>
                </a:solidFill>
                <a:latin typeface="Arial"/>
              </a:rPr>
              <a:t>LPGRR</a:t>
            </a: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, Creation of New BUSLRG and BUSLRGDG Profile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C5EC-692B-4C3A-BF41-F87DDF69E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66760" y="2057400"/>
            <a:ext cx="8610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66760" y="9903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4171"/>
                </a:solidFill>
                <a:uFillTx/>
                <a:latin typeface="Arial"/>
              </a:rPr>
              <a:t>Reviewed Analysis of O&amp;G Flat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ERCOT provided a load factor analysis of all O&amp;G Flat pro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While majority (69%) are in the higher (AVGLF &gt; 0.6), it somewhat concerning that approx 30% of O&amp;G Flat profiles are not indicative of “flat”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C58D-A3B1-4B09-B447-A8A3F3632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5"/>
          <p:cNvGraphicFramePr/>
          <p:nvPr/>
        </p:nvGraphicFramePr>
        <p:xfrm>
          <a:off x="642960" y="2819520"/>
          <a:ext cx="7858080" cy="297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819520"/>
                    <a:ext cx="7858080" cy="2970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66760" y="9903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4171"/>
                </a:solidFill>
                <a:uFillTx/>
                <a:latin typeface="Arial"/>
              </a:rPr>
              <a:t>Reviewed ERCOT’s Proposal for Additional Information on the Distributed Generation Template (Spreadsh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8CB0-D606-4B75-B49B-3E7668ADB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609480" y="1982880"/>
            <a:ext cx="77724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A890-678F-4C60-8328-A1DE815C6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380880" y="1066680"/>
            <a:ext cx="8610840" cy="39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2021 PWG meet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January 13, 2021 @ 9:30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PWG Meeting P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1"/>
          <p:cNvSpPr/>
          <p:nvPr/>
        </p:nvSpPr>
        <p:spPr>
          <a:xfrm>
            <a:off x="533520" y="47926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ak, Sam</cp:lastModifiedBy>
  <dcterms:modified xsi:type="dcterms:W3CDTF">2020-11-30T21:59:39Z</dcterms:modified>
  <cp:revision>1325</cp:revision>
  <dc:subject/>
  <dc:title>Instructions</dc:title>
</cp:coreProperties>
</file>