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A27-B19F-40BC-B986-B5F3183B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520-5394-4035-860B-ADEA04E4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FA0B-4487-4D3C-BDC8-58D8CDB1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93C4-534F-4773-9C3F-7801854F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3A47-837A-453F-8FBA-C19488DB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9CCF-1F53-4503-AC18-5005F01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E60F-8826-4904-B904-CA1153B7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358-83EB-43F1-9E69-CFADC903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739D-EDA1-4C3D-B437-DF6ED052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2B10-8EB5-48EC-A4CB-33619D1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1A6-ADE0-486F-B54C-9EF7DDA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4E2C-BAFA-4F4B-8699-35E131D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B94-7632-4777-BA73-3250C2D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47F8-AF0C-403C-8DA1-7A4507F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B6C-1156-4F6F-B3B8-6171D62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665E-346A-4CFE-8A12-69832DB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8614-03D3-4A90-83E5-5CEB521C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BAC-164E-4F4F-A69B-45FB9514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F53-7625-4775-AB52-23864E2D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3147-980A-403B-861C-CEBC4750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4659-D913-43FE-AB09-6A743EC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0239-58E4-470B-A845-417796DE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F656-664E-455F-BA93-FC115DC1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4DFC-5E60-477B-BC7E-54F31727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D112-7CDC-4DF6-9EEE-D374E2A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5C1C-DA47-40D3-826D-A40B8DCD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60E8-78A4-4C4C-B9DE-6AFEF72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E8DF-CD9A-4DB5-BCB2-B62F4C0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AC55-D71B-4D63-9508-0B2B593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C07F-EA9B-4047-8427-C483125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47C2-5B94-4E21-89A0-6270F0DC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FC8E-ABCB-41A5-80DD-8848FB15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76474-5BB6-44B8-A697-6D065786EB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9A5D0-D62E-4C2D-977B-E23B378336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DB6D4-0820-47CD-A94E-4C325ACA1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C147-3AA1-4398-92CC-42F3EE8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FF5CA-80C4-4AF5-977C-7F7F6C3593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22B02-DD86-4AEF-B2C2-8DF73E7090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2CE96-3C11-4BD4-AF35-98EFC84E9B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E5557-A085-44D2-BA12-28A97B0281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807AF-4341-4B7B-858F-7CC548268E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6BAF8-8C23-4665-A626-F6D54D93D3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BF8B9-F33E-4C06-AE2A-392D500E23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E9A3F-9D24-4E7C-876E-29A43534A3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66892-D108-474A-8FB7-4C330E393F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946E-E33D-4D43-A9C5-712F580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43AA-94DD-439D-AC94-FDD18324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9C39-771A-44DA-AF6B-D2A74F32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861A-C344-47C7-A6C6-786FBF2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86A3-9A75-47B6-AF40-64F623C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497-F871-48AE-B098-7B1DBB2E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295-ACBC-4E46-811F-AE981E63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F790-4C2C-42E1-8251-E7E023D6D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2AB6-773C-464D-8EC9-E53860483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0E10-D70B-4CB4-8B29-9154D98DBEBE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390-B749-47B7-AFB5-185903A2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October 6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Annual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For 2021 Annual Valid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Residential</a:t>
            </a: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: ERCOT will perform 2021 AV to include and exclude 2020 year in their 3yr evaluation period for review at PWG to assess potential impacts of COVID 19 toward usage/load profile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Indicator for IDR Metered Premises to AMS Based Me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Participants recommended creating new load profiles may best serve the market for  4CP billed premises with AMS daily settlement interv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PWG requested ERCOT to draft a proposal for such as change to be discussed at the  AMS/IDR Meter Workshop II on October 5</a:t>
            </a:r>
            <a:r>
              <a:rPr b="0" lang="en-US" sz="1600" spc="-1" strike="noStrike" baseline="30000">
                <a:solidFill>
                  <a:srgbClr val="294171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AMS/IDR Meter Worksho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PWG leadership to work in conjunction with ERCOT on agenda &amp; discuss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October 6th @ 1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570-A34B-4EE0-86DB-06A4F4FE0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EAE5-A7E8-41CC-A90C-4CBDDAB5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80880" y="1066680"/>
            <a:ext cx="8610840" cy="46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Remaining 2020 PWG meet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ctober 13 @ 9:30am (Tent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November 6, 2020 @ 1:30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1"/>
          <p:cNvSpPr/>
          <p:nvPr/>
        </p:nvSpPr>
        <p:spPr>
          <a:xfrm>
            <a:off x="533520" y="47926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0-10-05T20:45:58Z</dcterms:modified>
  <cp:revision>1318</cp:revision>
  <dc:subject/>
  <dc:title>Instructions</dc:title>
</cp:coreProperties>
</file>