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799-B104-461C-81DB-B29EC8EC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FDE-BC5E-4DA7-BFF8-A304E3F12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D2CA-1577-4D9B-968A-1B95C58C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FE3A-0E3D-440D-AFF3-C70A927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0717-6B8B-4E81-BF74-2920727A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E9CC-4FF9-462C-9BFA-AD92B62B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430-459E-4D56-9B34-3E52F45E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8CE-0671-49F1-AA53-8E532C3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1B2-FD25-47B0-889C-86B0BDB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4608-D4B9-449A-B501-AE152C7B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FA67-2E40-4950-BC68-26CA5722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1CD-0216-43C4-A810-F3CB8C0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636B-2310-492D-BF9B-7FEBAFD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D876-4C1E-4A06-8DE6-063D4D45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F85-1C4E-4752-8A3A-C82836F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D7A-9ACB-4C65-BB37-490AE23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886-FF0D-4CC7-B38C-9F926D3D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D796-DB88-4D06-AA9D-E85449C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141-7DBF-4F4C-BC09-0BCF096F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440E-07C7-4353-8E2A-560129C4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70D32-14C3-48AE-B395-01714DA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E5EC-0D48-4650-8D1C-085CC07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12F5-267D-4FDB-8128-4A62094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2A3F-E442-4F3F-840F-5A0099D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8A69-EC1B-48F0-B362-58C26123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FD61-E9C0-411F-B07C-5873F89C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B664-C6B3-4090-BDBF-D9EF6BC9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DB6D-631D-4AD0-8747-0F596C9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9EDE-3AEF-4F81-98BF-1A276D4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529F-0AB0-47E4-8E97-EB3ABB1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2CB3-B011-43AE-ACE7-63AF06F9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B59B-495E-4145-86DA-80262A99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45825-FE78-417F-8757-55B6F35D24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A0618-215D-4EED-BC41-08B58BBC63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25A7F-7B29-4211-9A47-354FFB5C5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BB9A-2848-495B-917A-D1D34309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3BB52-8A08-40EF-A6BF-3FE7BAF9EF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ABC11-17B5-4B8F-A6A8-8FA2EB1FE8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118CE-DD1B-4932-9F8B-4D73B464E1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8252D-FE3E-4114-8E24-D8A742B19C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B146D-BC4D-4134-AB7B-CBD4FAB891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54802-6B8B-459C-80F2-C4C3BB3946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42AE0D-E180-49C7-BFBF-8F3C052629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A6FB2-B840-4950-BB22-0A0BA33883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B06F0-AD3F-428C-9C8C-172910D666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1F38-7023-4FC3-B6F0-73575B19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C038-60C1-426A-B7B0-C7A08F6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2125-BECF-4C46-A9A3-FACE0A4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DEC5-C2E6-44D4-891E-9971454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6355-2312-4148-BD4A-E9B9E08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129-370F-480C-8510-274C536D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DAE6-FA9F-4921-94A3-0CFCCFBA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CCA-615A-45BF-8457-2C451040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7984-BB64-47AB-B32E-CD8B8D0F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162920" y="31680"/>
            <a:ext cx="193500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D46-F672-4723-BBFF-4F69BF3ED67F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/pw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821A-927C-4416-BB92-082D352F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uly 14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Leadership:</a:t>
            </a:r>
            <a:br>
              <a:rPr sz="2400"/>
            </a:b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Sheri Wiegand (TX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6676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Business Annual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Concerns of higher counts associated with ERCOT request to change BUS profile from a default No Demand profile per language in a TDSP’s tar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LPGRR067: Profile Decision Tree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PWG supported ERCOT’s motion to remove additions/comments outside the original proposal of administration only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To be voted at July RMS as administration only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94171"/>
                </a:solidFill>
                <a:uFillTx/>
                <a:latin typeface="Arial"/>
              </a:rPr>
              <a:t>Proposals to indicate AMS metering for &gt;700kW/kVA with 4CP bil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Creating New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Use of existing BUS profile with unique "NW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Modification to Premis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94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4171"/>
                </a:solidFill>
                <a:latin typeface="Arial"/>
              </a:rPr>
              <a:t>Transactional recommendation to indicate AMS meter with 4CP or N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1A0-C6E2-432D-97C1-94516227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29C-3A76-4DE9-BA81-2AE937CB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80880" y="1066680"/>
            <a:ext cx="8610840" cy="50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Next PWG meeting via WebE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July 24, 2020 @9:30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Future meeting 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Aug 21</a:t>
            </a:r>
            <a:r>
              <a:rPr b="1" lang="en-US" sz="3200" spc="-1" strike="noStrike" baseline="30000">
                <a:solidFill>
                  <a:srgbClr val="294171"/>
                </a:solidFill>
                <a:latin typeface="Arial"/>
              </a:rPr>
              <a:t>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Sept 25</a:t>
            </a:r>
            <a:r>
              <a:rPr b="1" lang="en-US" sz="3200" spc="-1" strike="noStrike" baseline="30000">
                <a:solidFill>
                  <a:srgbClr val="294171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94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Nov 6</a:t>
            </a:r>
            <a:r>
              <a:rPr b="1" lang="en-US" sz="3200" spc="-1" strike="noStrike" baseline="30000">
                <a:solidFill>
                  <a:srgbClr val="294171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PWG Meeting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1"/>
          <p:cNvSpPr/>
          <p:nvPr/>
        </p:nvSpPr>
        <p:spPr>
          <a:xfrm>
            <a:off x="533520" y="5445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/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PW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dcterms:modified xsi:type="dcterms:W3CDTF">2020-07-13T20:41:10Z</dcterms:modified>
  <cp:revision>1304</cp:revision>
  <dc:subject/>
  <dc:title>Instructions</dc:title>
</cp:coreProperties>
</file>