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3A3-73CC-4B30-91FB-BEAE7B63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EB69-F76A-4F9A-8908-61CDE475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FD99-54E9-4FC4-AD6D-E27B9711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B325-78F8-446C-B579-A923FCD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DB48-1E65-4A48-8772-B459CC72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72E7-1929-4E8C-B87B-35665B6F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0CD-8F07-40FB-BAB0-0281C1A1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0AAB-864C-4BDA-900C-252AF74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5D5-6BE3-4785-9B98-CA59EAD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3248-F6B5-493A-912C-096CE8E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7B2-2800-46A5-AE79-AF84B5F5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E652-6920-4F24-8DE9-902271D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B2B6-981A-4E82-8134-6B1E246B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B98C-C032-4FE8-8E5B-9DE100A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E488-FA42-4C5B-B3CF-4826830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3A0-271A-4B58-AD65-67BF593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6FEE-47B1-4D7C-9277-C863ABC7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2B9-6124-4FF6-A6BC-E1A9D99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80F-A749-4C73-B25C-3B721E2E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B0D6-00D3-4A15-84A9-2D36E03B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2BD8-C35B-4CAF-BDE5-F5E09D6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5AAD-21C5-407B-B261-E90450F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6B64-4D8C-406D-8BAA-98006B94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9A42-FC9E-4F99-B2BD-FE11817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04C5-9838-410B-BC07-46562FD1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EEB2-6B78-4EAF-968C-05F4601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610B-6FCE-4317-8736-07BE01B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C1F2-FD58-43CA-844A-EFD6558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CF57-CB99-43DA-9FA2-3CA761B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EB77-0146-4277-9D45-C06AC4E3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8B52-3929-4846-967C-255669B2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4816-0748-484F-885C-13C63BDF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048BB-2B52-4817-AA6A-1F52717C0B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21DCB-67FF-4416-A735-F6480DF53D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9A5A4-B3D2-445E-B7B3-4891B2886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6114-DE73-4E81-A1D6-09F4C88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B6E8C-B9D1-49C5-8C83-9EBAC5B21C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11AA2-A656-4842-B009-B5E6AB613B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4E084-6820-4EA5-9E62-3DE3B938B9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613A9-D3E3-408A-B7AC-F5D501FFE1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070FF-5814-43CD-8260-4DD5546AFF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E0602-66E3-4A80-B707-D4D4B38DE6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594FA-FE3E-47D7-BFA2-89FDB438C9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436BD-E594-493A-9BD9-3F492C174E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13EFD-F8BD-44B0-9263-807DDABC57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4A34-8A60-4BEB-ADE2-01856C5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2228-DD0E-4D63-843B-9903F1CA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CE62-41EA-4097-AFFA-00F4B07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B750-80B9-4C7C-BFA1-2FADBB3D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7106-5342-4C6C-9D51-C0247A4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B7EB-37C7-4C01-96C7-907DA092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DCD-42F1-4780-B474-1C847F95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415-2A5B-4C12-A867-107C7DBC9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A6B-64BB-4BF3-9384-DD4D3EEA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21B-7B84-479D-BFED-F2434FD27E8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E60-C208-45A8-B51F-AA5D29F9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une 2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671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Business 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6AE1-FCF1-43E8-A1EE-0F3ACA9FA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7576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Business Annual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Concerns of higher counts than anticipated possibly due to conflicts of TDSP tariffs and ERCOT Decision Tree logic…further discussions at our next PW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LPGRR067: Profile Decision Tree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ERCOT is proposing additional information on the DG template spreadsheet which would include 2 extra columns of data 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energy storage power kW </a:t>
            </a: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tal energy storage capability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Reviewed and Updated Responses to AMS/IDR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DRAFT NPRR: ERCOT Proposal for BUSIDRRQ to AM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Changes to TDSP Read Generation Metering Registration Form per NPRR8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61D-E22B-4984-8E36-E897AF36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716-6B5E-485B-A8D8-55599AAD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80880" y="1066680"/>
            <a:ext cx="8610840" cy="50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June 26,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@9:30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1"/>
          <p:cNvSpPr/>
          <p:nvPr/>
        </p:nvSpPr>
        <p:spPr>
          <a:xfrm>
            <a:off x="533520" y="5029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0-05-29T15:26:30Z</dcterms:modified>
  <cp:revision>1302</cp:revision>
  <dc:subject/>
  <dc:title>Instructions</dc:title>
</cp:coreProperties>
</file>