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C43-BB05-456F-BA34-08CB9CDC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55B-7087-49A0-B1E3-30B16F2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D49-2B55-4E78-829D-09ADB01A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EC0-6F80-4D73-8C53-DEF15DDA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DF3-3D84-4F69-A62A-C0C923DA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812-BF16-4311-9463-6E8A15BF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872-BC3E-418E-96D1-FA461B60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931-FB70-41A4-B24D-B06BD341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2E1-F0EA-42E2-8E6E-D2E80A9C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F96-6C9D-46CB-9644-47F2A79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EB1-34BA-42D2-9877-FD015B7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FF8-6E4C-4D66-9EE0-83279CA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64FA-B33E-4257-AAE9-B33D2F3F80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EA19-2EF2-40A8-ACE3-09F3E0AF1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March 4, 201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12C2-1E23-4189-97F2-36B4397C5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eatment of Fixed Costs in Fuel Ad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February 5 WMS meeting, WMS approved the concept of including fixed costs in fuel ad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CWG met on February 24 to discuss the language to be included in an NPRR and VCMR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uminant will be developing drafts to circulate to interested stakeholders prior to the next RCWG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2846-6AAA-4FEB-A742-F25E883D3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AE62-AE19-49E8-9F31-B0B146AA5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Katie Rich</cp:lastModifiedBy>
  <cp:lastPrinted>2017-03-29T19:57:42Z</cp:lastPrinted>
  <dcterms:modified xsi:type="dcterms:W3CDTF">2020-02-26T19:50:53Z</dcterms:modified>
  <cp:revision>4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16BF004497F87479DAD31F00AF725C6</vt:lpwstr>
  </property>
</Properties>
</file>