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725-99EC-4939-9DC3-12A25646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497-E179-48F1-8F06-6626D3DA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C00-91A6-49B6-9062-F3BE4583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C9A-1073-4C6A-8F38-48FAA8FD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4CB-FA9D-4604-A6BF-F166639B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761-F468-4024-94DF-EDD11DF3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7E4-B801-46C5-AA7F-CFF45A04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CF4-C537-45BA-B04C-B6C38841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A28-38CB-4BBF-A1A4-FD7E215E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B8D-BACE-4A73-A216-91D56C3D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0AB-28A7-47B9-A30B-5E333BE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27B-4CB6-4856-8BF1-48D541D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CFB-5BBD-47DC-AC6A-0C4B64A460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BA3A-3965-4F89-A1D9-F618E4830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February 5, 20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28E6-2C68-4F87-A8CB-CBE450F09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0 Lead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ir: Katie Rich, G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DD38-783A-4BDE-AA16-BC5A6FF93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eatment of Fixed Costs in Fuel Ad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CWG has been discussing the issue of whether fixed costs should be included in fuel adder calc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was asked to verify the potential system limitations for calculating fuel adde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ed constraint is the calculation of the Mitigated Offer Cap (MOC) that can have values up to 999,999.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C calculation leads to a maximum fuel adder of $66,663/MM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D626-9726-48FB-9500-B4689AFD0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eatment of Fixed Costs in Fuel Ad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result of ERCOT’s analysis, RCWG would like to propose two items for your conside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ions to Section 5.6.1 of the Protocols to allow fixed costs to be included in fuel adders if they are the result of a contract or agreement a QSE or Resource Entity elected to enter i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D7F-6193-43B6-B72A-2D421753A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eatment of Fixed Costs in Fuel Ad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6.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iabl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5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unit-specific verifiable costs may not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xed costs, which are any cost that is incur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ardless of whether the unit is deployed or not;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 for which the QSE or Resource Entity canno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sufficient documentation for ERCOT t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y the co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otwithstanding (a) above, fixed costs can b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cluded in the calculation of Fuel Adders if the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ixed costs are part of a contract or agree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at a QSE or Resource Entity elected to enter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cluding cost categories per the Verifiable C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nu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6A2-B2E4-4484-AF6A-532996DC7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eatment of Fixed Costs in Fuel Ad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ions to the Verifiable Cost Manual to resolve existing issues around having a small amount of generation included in the calcu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37F2-2D4C-471B-8345-A915879E8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eatment of Fixed Costs in Fuel Ad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nce of the system limitation of the fuel adder ($66,663/MMb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culate the adder every 12 months with a 12 month lookba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ding any resources that have not operated for 12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24AF-702D-4EE9-8E7B-04434277E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MS endorses these concepts, ERCOT can move forward with an NPRR and VCMRR to resolve the issues outl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E126-1CE6-4EA3-B14B-F9468B5E9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C4A9-FF5E-4FB4-BBA9-69845920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Katie Rich</cp:lastModifiedBy>
  <cp:lastPrinted>2017-03-29T19:57:42Z</cp:lastPrinted>
  <dcterms:modified xsi:type="dcterms:W3CDTF">2020-02-03T20:52:06Z</dcterms:modified>
  <cp:revision>4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16BF004497F87479DAD31F00AF725C6</vt:lpwstr>
  </property>
</Properties>
</file>