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E65F-4E50-4276-BFAF-77E4A404F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CB36-B009-4A52-B7AE-91ADB5406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42DE-6E3B-4D73-9C32-56EA3243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CB65-4932-4F8B-8F48-70D2F23E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B2AC-D84B-4C77-96A7-12DBC7A5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AE63-B1AB-4B21-8980-B8D1C8BF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85F7-7188-4AAB-9716-92F75A82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E779-F6A0-4767-BC85-A7B0F379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78DC-CCB7-4307-83F1-1DDDB9F4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90E5-3AF4-46BF-940D-CB88A5E0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CC0F-75FD-41F0-AACC-944AFBE5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2731-4A0B-4184-9F44-44566272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C69C-0DD8-4C42-A8D4-3BD76F82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44B6-3554-4EA6-BB69-9D8A7E0E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913F-3A3F-4E46-9ED0-781FEC32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4932-A56D-42A2-8F27-40DB4AF8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0481-3B2F-4C75-B5C2-6BC27D1E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B5A9-74D7-4F04-9303-96E8AFCB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FC7D-A12E-45CF-B384-8883F483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2F43A-479B-4020-A5C1-756BFCAE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D71C6-6F08-47FB-818F-2A9653E0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5AE6-B56E-4837-8255-9E98849D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8E391-CCA9-453D-A9D7-7B6E0D41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B7240-F3DC-4F7F-9622-19F8EABA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0579-7C83-4E9C-92DD-27CC2CDD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0A7D5-649A-4519-A5B1-D5F907B6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C009D-4C32-470B-AC5D-21ECACD7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B4EF3-4275-40E9-8739-A33EC54F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313BC-B303-49E0-BCE9-D3F36161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0674C-01A9-45F0-949F-9B2C6514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C951E-632B-4426-87A3-1216CAF7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681EB-37F2-4581-B618-33713043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9F2B21-514A-4B43-8E58-869177E5EB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5A1236-0051-4E90-AFED-08F5A10615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7ED88-2367-4183-A74E-BFC587E8A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8FE5-4386-4A8E-B01A-8B6CFA7E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C7035-835E-40C3-8E83-CAA9D6C4B4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84F946-3D3B-4BDB-A40D-B9BEC579E3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142104-9A47-44FD-85DE-0278346ECF7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508960-4A33-477A-A8D6-3F4CB89CCA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5215E4-69BA-425F-8692-2024988DF5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8683B6-C0EB-4EAB-8E65-F46D834306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07BAD6-7821-46B0-8171-E85D73554E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6F131-120E-480A-8F60-8299700BEE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02842B-475B-400D-ADEC-CD549ABB082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E3275B-0E78-47D2-8AE8-EA998B67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E508-9FFD-41D9-9708-0D962C40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E0C0E8-6554-42F0-AE40-6AB57369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88B639-564B-46EB-A481-3FE6FB2B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8CB6B1-00C4-4E0C-B822-90A78389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3BC608-ACFC-4682-8CC8-231C1224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3E5406-E453-4707-A484-25DE8F27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ECC823-F2FD-4453-B19F-34B382EB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C4E60C-AB48-44C3-BC41-C45ADAF1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7297C3-1107-40CC-A6FD-A5EC74F7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BBCE5A-E66D-454C-A468-D1544093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D45433-37AB-4DF5-950B-FECEDD35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4E2F-3668-47AB-AA3D-6ABC3A2A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0EEDF5-4DC3-439D-9F8E-5CB04693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449A-A7D7-433A-976C-A40B72D4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5BA0-991D-43C9-BD70-4C3A35D4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0219-739C-4062-B9D6-D9C6E07F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B195-B260-44E8-94F9-A13832284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F35F-E616-4B5A-B6AF-A633EAB42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5771-5B2F-4AF0-B09F-F45FF9B61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1E46-BA41-4868-8897-063274CFA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98E7-86BA-449D-828F-4B530B268CF3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57E8-A5A5-430A-8583-E6B2CF0827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178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6333-4D60-4FE8-8C17-F26DE9BEA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January 7</a:t>
            </a:r>
            <a:r>
              <a:rPr b="1" lang="en-US" sz="3200" spc="-1" strike="noStrike" baseline="30000">
                <a:solidFill>
                  <a:srgbClr val="3c8c93"/>
                </a:solidFill>
                <a:latin typeface="Arial"/>
                <a:ea typeface="Times New Roman"/>
              </a:rPr>
              <a:t>th</a:t>
            </a: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,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am Pak (Oncor)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 Annual Validation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E105-76D1-48E2-9013-73BE59EC5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" descr=""/>
          <p:cNvPicPr/>
          <p:nvPr/>
        </p:nvPicPr>
        <p:blipFill>
          <a:blip r:embed="rId1"/>
          <a:stretch/>
        </p:blipFill>
        <p:spPr>
          <a:xfrm>
            <a:off x="619200" y="1365120"/>
            <a:ext cx="7905600" cy="41277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3"/>
          <p:cNvSpPr/>
          <p:nvPr/>
        </p:nvSpPr>
        <p:spPr>
          <a:xfrm>
            <a:off x="990720" y="5692680"/>
            <a:ext cx="7162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9 Business Annual Validation is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6040" y="136080"/>
            <a:ext cx="6716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 Sensitivity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066320" y="4572000"/>
            <a:ext cx="7239240" cy="144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 of matrix was revised to reflect issues “Under Investigation” vs those Overd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PRR923 revised the process extending the due date to 2/1 for comple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AC65-6D45-4BCA-809F-F641396A3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39116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RR 877 – Grey box language 18.6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6676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agreed grey box language scheduled to be “unboxed” 1/1/2020 is applicab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urrent language allows for “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R and TDSP approval, upon a Customer’s request”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 allow for an AMS meter to be installed at a premise that would normally qualify for an IDR Meter, whereb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appropriate load profile is assigned (not BUSIDRR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SE files are set to be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T to ERCOT noting no longer BUSIDR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T to CR noting profile will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t a TDSP’s discretion, or upon Customer’s request and TDSP’s approv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WG will develop a matrix outlining operational impacts/options based on TDSP at upcoming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 877 supports TAC’s holistic goal of moving current IDR Metered interval data to initial settlement post Operation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C31B-316D-4FE6-9A91-F14E4B2B9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57200" y="3049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8 PWG Accompl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CF4F679-361B-4126-8B32-E668ED1A4D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52280" y="1143000"/>
          <a:ext cx="8686800" cy="4873680"/>
        </p:xfrm>
        <a:graphic>
          <a:graphicData uri="http://schemas.openxmlformats.org/drawingml/2006/table">
            <a:tbl>
              <a:tblPr/>
              <a:tblGrid>
                <a:gridCol w="563760"/>
                <a:gridCol w="8123040"/>
              </a:tblGrid>
              <a:tr h="430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ccomplishm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845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GRR065 &amp; NPRR881,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Validation Process Revi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king market efficiencies, a full review and analysis of the Annual Validation process resulted in the following effor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he Residential Annual Validation process once every three years commencing 2019 (next RES AV to occur 202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the Business Annual Validation process annu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d the default profile for newly created ESIs from BUSMED to BUSLO which more accurately reflects the majority of new ESIs cre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evisions will reduce the volume of transactions by ~ 70% during the off-cycle years thereby reducing the costs/resources required to support current proces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810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PGRR064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Updates to LPG for TAC Subcommittee Restructu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hanges the ownership of the LPG from COPS to RMS associated with the TAC restructuring eff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764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ed compliance reporting for th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 Annual Validation and Weather Responsivenes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to ensure all revisions were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533520" y="304920"/>
            <a:ext cx="66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8 PWG Accomplishments –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7D1D-6859-434A-83A0-DEDF35BA15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04920" y="1295280"/>
          <a:ext cx="8458200" cy="4299120"/>
        </p:xfrm>
        <a:graphic>
          <a:graphicData uri="http://schemas.openxmlformats.org/drawingml/2006/table">
            <a:tbl>
              <a:tblPr/>
              <a:tblGrid>
                <a:gridCol w="549000"/>
                <a:gridCol w="7909200"/>
              </a:tblGrid>
              <a:tr h="484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ccomplishm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53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ed Unaccounted For Energ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FE) Analysis for 2017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tocol Requirem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828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cussed visibility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buted Generation behind a BUSIDRRQ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filed prem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acilitated a study with ERCOT and TDSPs to determine current pop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tudy results revealed no system changes warranted at this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80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epared discussion questions for a proposed IDR workshop to clarify TDSP processes around the designation of DG load pro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828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pined on the timing for the proposed IDR workshop understanding the goal was to revisit a solution for the availability of interval data for initial settlement.  Suggested an “easier solution” may be found via upcoming tariff revi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159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cussed the impact of Lubbock’s entry to ERC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838080" y="3459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8c93"/>
                </a:solidFill>
                <a:latin typeface="Arial"/>
              </a:rPr>
              <a:t>2020 PW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9262-F93D-4774-A48D-4DFE47CC0D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57200" y="1295280"/>
          <a:ext cx="8381880" cy="4678560"/>
        </p:xfrm>
        <a:graphic>
          <a:graphicData uri="http://schemas.openxmlformats.org/drawingml/2006/table">
            <a:tbl>
              <a:tblPr/>
              <a:tblGrid>
                <a:gridCol w="536400"/>
                <a:gridCol w="6546960"/>
                <a:gridCol w="1298520"/>
              </a:tblGrid>
              <a:tr h="6318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Go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Target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097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 issues and facilitate improvements to market rules pertaining to load profiling, specifically addressi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bbock addition to ERCOT market impac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other ERCOT iss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98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TAC goal for the availability of IDR Meter and TDSP Read Settlement Only Generator interval data prior to initial settlement of an Operating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 Profile ID Annual Validation - Bus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 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36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the transition of UFE report review to WMS, reviewing any procedure or scope revisions for PW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&amp; 2020 Weather Sensitivity Change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20/ Nov 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D553-5909-4BCF-A86A-DC15D1CAD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80880" y="1028880"/>
            <a:ext cx="8610840" cy="601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RMS – Face to Face Mt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00 p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 Met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Weather Sensitivity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Review of PWG procedures and scope pertaining to UFE Report, if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Discussion on BUSIDRRQ and daily settlement data – NPRR 877 –chart of options and TDSP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DRAFT LPGRR – Oil and Gas Profile Assignment and Administrative Clean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61"/>
          <p:cNvSpPr/>
          <p:nvPr/>
        </p:nvSpPr>
        <p:spPr>
          <a:xfrm>
            <a:off x="519120" y="13971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301F-B138-41A9-A9D3-1D7D12F7F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Wiegand, Sheri</cp:lastModifiedBy>
  <dcterms:modified xsi:type="dcterms:W3CDTF">2020-01-06T15:59:37Z</dcterms:modified>
  <cp:revision>1273</cp:revision>
  <dc:subject/>
  <dc:title>Instructions</dc:title>
</cp:coreProperties>
</file>