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A143-1096-4A0E-BB51-87E556B4A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38BC-D301-4200-89FE-92146FCD1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24CF-0C54-4F1A-8A5E-45A2F0DDD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B9D-EA4A-4E57-95D0-B1C915578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70B-AD18-41FF-9E40-BABA6B47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AF3-918A-4125-9032-7CDE2DCB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18691-2FE8-4952-9EBB-4799480E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1E2F5-E828-4FD0-8A6E-6EA66B4E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5FC17-13C1-4534-8D30-58D7387D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3A1FB-DD34-4006-BCD5-468B587F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3939-D244-4C52-A9EF-248A7D74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84F12-86FA-47BA-A276-8B4455D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94CEE-831E-45E6-B0F5-06BEFF32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F0306-E90E-414F-9014-BE9C5C9A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FAA5D-D7D8-41AA-BB22-5F1B0747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399B5-5375-4AB8-8A4F-3B91B83D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B9F-DCF5-468C-A0BE-DD48012D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ACC69-7A48-4E3E-BE3C-614C9581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CD116-A48D-432A-84B6-88E2303D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CBAAA-BF03-4EA5-BF00-F9F48630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BCEB9-707D-4B1A-B377-6270925D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EE3D3-9354-4F85-9BDA-9FE70D7B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D9D4B-DF6C-4493-A3A3-2C79F87C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6D7F1-0746-4E26-8E7D-7D859B3E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F172D-56DC-4113-BE2F-5840B290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CEA99-1056-45C1-8B26-9C988EA1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72B24-0B86-420E-902D-9A4F17DE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815-75A1-474B-81F1-4DC242E1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7496D-805B-4350-A9CE-73402611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01F3A-DCB9-462E-8B37-97CC298D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73E91-C96B-4AC5-BCCD-E8243D99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E3CC9-B200-4594-BD21-AE0635FF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6CB47-6257-4FCD-B31C-DAC31979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19570-8C7E-49C7-9318-08562635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4CCC6-D316-4194-8A6C-C2FBEB8F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8CD47-E7CF-43D3-BAB0-11FD8FB1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0A181-92AE-401B-B4C4-A54555BB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C0B85-CD79-4DF8-9245-6155AD4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226B-0F55-4A5E-94B1-4851E47E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1D26A-03B8-4DBB-A4A0-09FE73F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8CEC6-E71F-439A-B634-A3AB3262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558BA-722A-42DC-ACFC-57447B94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B451C-B844-4C7F-96F2-91A038A1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B811B-043B-4949-982D-1F1918FA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EAE66-C66E-4F02-B470-063C58DF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7397D-AF4B-4FA5-977A-B9C3721D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696C1-E7EF-4A7E-A4C3-20CE6F24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CB0F3-C464-4611-9984-03C973A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7DE1C-F732-4CAD-A611-A73DD6E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7674-02A3-458F-B3F2-2AD9B2A6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1DF97-4835-4A71-9777-C8E9305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8ECCD-F73E-41AC-A77A-7F3B54C1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94B17-09A4-42FB-80A5-BCC7C643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37D7C-BB36-49C8-AC7A-CDB3CF8A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649A4-0210-4DAF-9E91-2DE4CDD5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10C8-FC0A-4418-A087-40774E8E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5ECB-C3BF-4C4A-9AFA-BC5DF625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5E58-91E2-496E-8EA0-5E8EE632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052D-698C-415A-947E-03BADC48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69B6-25B3-4C3E-AE6D-0ADA8B5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A65-E0F5-462B-9F59-D5933229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A2B8-B0C5-4513-B6CB-30DF46DC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472B-A026-4C1A-9F3F-CA2005D1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363D-9462-4E2B-BB7D-D2C813DA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0432-658B-43A4-9637-4A4617F0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A6FA-2076-49E6-8647-52E668B9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5183-B4F3-4856-8E44-67E22A14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F7BD-BCAD-42DE-A23B-8D04E9A3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519B-757A-42C0-923D-D687C333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9698-2146-42CE-9A28-EC04423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A09E-0810-44A2-8750-7A6EF88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2AF-69FB-4DC9-8AE3-C6075309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5F97-CBE7-442A-AAFD-C24C1E75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45CC5-7A67-49EC-9F5A-8C2844A1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444E-EE44-4BAC-8EFE-66B31D0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ADA2-69C2-4079-BF16-99F963B1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EEBDA-142A-4795-8342-63889589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F83C-6A98-4A8F-A2EC-56850DF7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CF05-5DE7-4BED-BF65-2D29DE96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09AF-1EAD-4C18-9F38-E2F93867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0A5F-5101-4591-98AC-9BC286E6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4466-9450-4C48-A07D-AF748998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4B0-F91B-490E-94CD-A41A3635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3679D-D260-4E78-9687-CC8D0F9B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95D5F-32E0-4460-9581-9257D39F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92A9-3CDD-407E-90DF-C80BA553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208BE-C55B-409C-823F-BC876CA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7625-4A8E-4D3E-AFC0-F3F4060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71CA-4FF1-4DED-9E15-18E20D0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5CD9-E712-4FC9-93C0-0A1C0C63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4A81-4CE5-4670-98DC-795FF752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DB3DA-D47E-40C0-A74F-C89A22D3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D41A-BCEB-4659-B2CA-056AB776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6C4-8AC1-4A58-9DED-8C7D4610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E64E-A787-46BF-A3D3-9BA521B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DD292-75A3-4816-85C9-B15931F3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E222-B2D9-4E71-9EAD-286B86D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2F89-B30F-4CC8-A61B-6DCAA7D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5B54-855C-4FCE-8561-5B290ADF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A0901-73D9-4035-AE17-ECE7F462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1DAE7-B1AE-4A51-BECA-B4C0E86D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8854-5EDF-41B9-B17B-776BD12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6DEB9-B26D-4227-B45F-D5C7C446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99518-DD49-4DB0-AC01-1A7AD20B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645-A1DE-4BAF-9D6C-065565F0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DFCFA-E9C3-442E-B0F2-DA0F39AB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107DC-6B35-478E-BE6B-EA7ED087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CA4B4-6B27-464B-986F-6518480E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02E1E-3A29-434F-A2E1-60058907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7455E-86FC-483F-AD39-8ABC61A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2B558-2F3B-496C-9A2D-648996B3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B9175-BCB6-4188-B885-9B2E4C2E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27468-A3EB-4D08-BF65-7C37DE49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DDDDC-CED0-4157-BBFB-DAEB55B7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232F-BCDA-4BE0-8355-31A25CE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A9A-86BA-4F28-910E-053680F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622B1-5C41-4259-B1BA-59395918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B5B28-FC57-423F-A550-7A92F001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53FDC-FC7B-4A85-95A4-9794DEC8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7C5D5-AA9C-46B6-94B7-E7CE0BF7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24D18-4783-45FB-BCB1-ED3E5D8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9340B-85E1-4DB9-96F8-208E91A3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79918-6F9A-4937-A430-D080AB55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3E21F-EC34-4711-B9D4-48994C8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CF246-F083-4A37-8652-E8A07A21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0D3E0-4788-4344-8F4C-26474BBB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8AB-2D40-496C-B1CA-77D5832D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1456-7CB5-47AA-89AA-7542DB5B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DAFD5-4362-4A3F-ACE7-7AC8C48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B0221-EC17-492D-A865-EFE78692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9FA09-1D6C-44BF-98C4-7B54CC10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12EA9-F048-4BE2-A227-EEFE522D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D355E-68A6-4994-A3B1-16B3D04D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BEDFD-9A9E-49BC-BC63-3BC762A6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555EA-3012-415B-95D3-B9214CF7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8D9C4-E1BD-436E-9796-710A1E69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C140E-656B-4ECB-9BCF-4666F361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499-B8A5-4B7C-A63A-5756DF8B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4FEC0-1062-4268-B45F-50163513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A31F9-6759-4F3C-B99D-11B066C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FFECB-5703-4FE5-B58C-A637552E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20AAE-DFB2-4FAF-9AF3-2B005C95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0D6CC-9C20-43B1-9F76-2174DE57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42CCE-BACF-4928-8EEE-1187E67E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8205A-C4F6-43C3-889A-7453F8E4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66460-1858-46FE-82A1-FDED6A6F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FD33E-B789-4E66-BA78-76DEE893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F833D-7900-40EF-82B4-EBE77794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48E2-EA8F-4005-BC0F-76543A67EA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0EDA11D8-8978-4ED7-A824-3D202E456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D9AC-A916-46D4-B888-8D9AC14FE6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4B23-9B4E-4746-8C1F-BC675A226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25E7-DE9A-471F-9C34-1D01FDAFBA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BA4C-BCAA-4272-AE46-0BF3E6BF2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9720-20F2-4288-881B-94AC17117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ADDA-05D1-4BDA-885B-E61154654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2552-C6A7-48BF-8181-C80746C73B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56CB-B610-47CA-95FD-51D45C61B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7027-4464-4C7A-B44D-AA3E5E31D4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25F6-5BBB-4B2A-9339-8F3E6843F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013D-8D24-489E-A073-2766805895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9569-0E6A-4F3A-A00C-A5E4E3A8C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972B-30C6-4089-AEB0-0239999358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40DF-B4A0-40BC-A2AF-050EF74BF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EE04-42D5-4ACE-A22E-CF4822B0AF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EDE0-147D-49F9-AA3F-E75AF3B74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13A9-794E-48E9-9E49-3F41D4F4B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4048-3A2F-4E93-A6BC-AD252F60F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E4FA-1E62-44DA-AF76-960C8D652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E78C-D36A-402A-8F06-C8F10A198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67E7-A703-4646-9049-1EFBD60C08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1556-D72F-470E-B393-321918ED5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908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 Geomagnetic Disturbance Task Force (PGDTF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date to R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December 05, 201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ster Amahat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2019 PGDTF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F1D1-12F1-431B-BAD9-2D4C4530FD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DTF Meet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800" y="1066680"/>
            <a:ext cx="84614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meeting was held on November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ed GIC flow for 2019 GIC ca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794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posted the final GIC flow results on November 8, 2019 on MI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794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’s GIC Flows for GMD Benchmark Event Summar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366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ere no transformer with maximum effective GIC flow above 75 A per phase thresho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366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one transformer with maximum effective GIC flow above 65 A per pha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366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(90.72%) of the transformers had maximum effective GIC flows below 10 A per pha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794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er’s GIC Flows for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al GMD Event Summar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366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one transformer with maximum effective GIC value above 85 A per phase. Deadline for the transformer thermal assessment is May 8, 20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366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transformers had a maximum effective GIC value less than 50 A per phase, the majority (85%) being below 10 A per phas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879480" indent="-343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1825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F78E-D973-4283-B7DC-2CF9DC0AEC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6"/>
          <p:cNvSpPr/>
          <p:nvPr/>
        </p:nvSpPr>
        <p:spPr>
          <a:xfrm>
            <a:off x="2819520" y="638640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12/05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6"/>
          <p:cNvSpPr/>
          <p:nvPr/>
        </p:nvSpPr>
        <p:spPr>
          <a:xfrm>
            <a:off x="457200" y="990720"/>
            <a:ext cx="8521560" cy="2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ed GMD Vulnerability Assessmen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COT Presented on GMD Vulnerability Assessment targeted mileston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targeted milestones include presenting the GMD Vulnerability Assessment scopes, publish the steady state voltage performance criteria and  publishing the benchmark and supplemental GMD Vulnerability Assessment report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PGDTF meeting: December 10, 2019 at the Met Center (WebEx avail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05/2019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4063-6FB6-4D1A-A11A-DBA35D686B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itle 1"/>
          <p:cNvSpPr/>
          <p:nvPr/>
        </p:nvSpPr>
        <p:spPr>
          <a:xfrm>
            <a:off x="45720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DTF Meet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6"/>
          <p:cNvSpPr/>
          <p:nvPr/>
        </p:nvSpPr>
        <p:spPr>
          <a:xfrm>
            <a:off x="457200" y="990720"/>
            <a:ext cx="8521560" cy="2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0440" y="519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736280"/>
            <a:ext cx="76960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60AC-3DFA-4989-ADE6-C06E264C66E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/05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s237448</cp:lastModifiedBy>
  <dcterms:modified xsi:type="dcterms:W3CDTF">2019-11-27T20:09:14Z</dcterms:modified>
  <cp:revision>526</cp:revision>
  <dc:subject/>
  <dc:title>PGDTF Update to 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sual Markings Removed">
    <vt:lpwstr>No</vt:lpwstr>
  </property>
  <property fmtid="{D5CDD505-2E9C-101B-9397-08002B2CF9AE}" pid="3" name="bjDocumentLabelXML">
    <vt:lpwstr>&lt;?xml version="1.0" encoding="us-ascii"?&gt;&lt;sisl xmlns:xsi="http://www.w3.org/2001/XMLSchema-instance" xmlns:xsd="http://www.w3.org/2001/XMLSchema" sislVersion="0" policy="e9c0b8d7-bdb4-4fd3-b62a-f50327aaefce" origin="autoSelectedSuggestion" xmlns="http://w</vt:lpwstr>
  </property>
  <property fmtid="{D5CDD505-2E9C-101B-9397-08002B2CF9AE}" pid="4" name="bjDocumentLabelXML-0">
    <vt:lpwstr>ww.boldonjames.com/2008/01/sie/internal/label"&gt;&lt;element uid="936e22d5-45a7-4cb7-95ab-1aa8c7c88789" value="" /&gt;&lt;element uid="c64218ab-b8d1-40b6-a478-cb8be1e10ecc" value="" /&gt;&lt;/sisl&gt;</vt:lpwstr>
  </property>
  <property fmtid="{D5CDD505-2E9C-101B-9397-08002B2CF9AE}" pid="5" name="bjDocumentSecurityLabel">
    <vt:lpwstr>Uncategorized</vt:lpwstr>
  </property>
  <property fmtid="{D5CDD505-2E9C-101B-9397-08002B2CF9AE}" pid="6" name="bjSaver">
    <vt:lpwstr>2/FXmrNaN+biOnBF1Lp+9MxCcP/kNde0</vt:lpwstr>
  </property>
  <property fmtid="{D5CDD505-2E9C-101B-9397-08002B2CF9AE}" pid="7" name="docIndexRef">
    <vt:lpwstr>d8ebadff-d0da-4cf9-8a05-21e926d3e7c8</vt:lpwstr>
  </property>
</Properties>
</file>