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678-C865-4FF7-8C8E-16432C1A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193-B481-4E3A-9CDA-E3A7EB19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0AA-28C9-4DD0-A9E4-9CFA4598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D76-548B-482B-A4B3-25DF35C8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EFA-F9F3-40CC-9131-2E14CC61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CBB-220A-4C76-B47E-353B9B5A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3DF-982C-4EC4-BEC6-45FC8475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7AD-BD11-4E19-82B1-7ECFEDDF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4B9-02E2-46B1-9135-ACB36FE4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EDA-0B57-4DDF-BF7C-5DBBCC2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8F4-A859-4721-A030-B8C78C63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077-D07C-4B85-975B-612ED3C0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1E42-329B-4C3F-B294-630E7F2305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02C5-5EF4-4D21-AD3F-307DB9D1F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Nov 6, 201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87D2-0DB0-4F06-A739-B9A7A797A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PRR 964 Improvement of RMR Process and Removal 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of Synchronous Condenser Unit and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B810-9317-4D75-8AED-5F4361E2E2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9040" y="1142640"/>
            <a:ext cx="8305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filed NPRR964 to remove the term Synchronous Condenser Unit from the Protocols, including the Synchronous Condenser Agre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MS members were concerned that RMR Units would not be able to provide voltage support if converted into a Synchronous Condenser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ed to RCWG for further revie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PRR964 on September 23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</a:rPr>
              <a:t>rd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RCW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AE8A-AB28-417D-AF29-48252DB10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CWG members discussed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isting Standard Form RMR Agreement allows ERCOT to contract with a retiring unit found to be necessary for voltage support by contracting for real energ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active pow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the current RMR Agreement and Protocol language do not appear to expressly contemplate that ERCOT would contract with a retiring generation unit to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active power (e.g. current language refers to capacity in MW, not MVA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ing an existing generator to a Synchronous Condenser may be faster than building transmi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PRR964 on September 23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</a:rPr>
              <a:t>rd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RCW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CFF2-F70C-4AC1-91F1-E92B63166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members discussed the following (continue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ify existing RMR Agreement to allow for a Synchronous Condenser only (cutting the shaft of generator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4080" indent="-31212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ilize standby payments to pay for conversion of generator to synchronous condens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4080" indent="-31212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 MVAr as parameter to measure the serv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4080" indent="-31212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e methodology to determine O&amp;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4080" indent="-31212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e methodology to measure perform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4080" indent="-3121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408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mmend that WMS vote on the Sep 24, 2019 ERCOT com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will work with Market Participants to create an NPRR that addresses remaining issues described above (a-d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B19A-D938-4DC2-9AEA-3F5785659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Katie Rich</cp:lastModifiedBy>
  <cp:lastPrinted>2017-03-29T19:57:42Z</cp:lastPrinted>
  <dcterms:modified xsi:type="dcterms:W3CDTF">2019-10-30T14:28:08Z</dcterms:modified>
  <cp:revision>4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16BF004497F87479DAD31F00AF725C6</vt:lpwstr>
  </property>
</Properties>
</file>