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4"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49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9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97"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98"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3D6BC-604C-4973-B406-1313D05E93D4}"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393FC-0E4E-4221-AC81-21C6F9747C0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80849-3FFE-43E4-B4C0-A2A9B991688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0"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Footer Placeholder 4"/>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Slide Number Placeholder 5"/>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929FD-7A55-4651-A219-AE373178FD7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5B6607-B4E6-4616-A438-B3AF20B3F3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BC5CD7-810B-4A00-A908-070DC20138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DE214F9-2A76-49FD-B07F-7B4B10B2793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69A3086-06AA-4714-B85D-845E4692373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EE3E574-7504-4DC0-A648-AF2B61373F6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A9519CA-30A5-411A-BF84-9ADB52D7E12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910704B-B581-4D87-912A-6E57122AA00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822C750-4C46-44BA-A8A0-EC4BD99A6B5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FB5085A-4EC9-4913-BA65-9E53C4ACEC8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D49AC79-DF01-4A21-B3AB-8E76765DCD8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79A5D68-2BF6-4560-A9F9-65D0475EB33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A243B386-A716-4F37-B399-7BB32613319C}"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755DE7-199D-4323-97AD-A21CF50BF8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9005EE3-6238-4DD0-A7F0-08118C00190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9C0BB12-7FB7-48DB-9DD3-2A4DF8E02CF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4B6E7BE-5383-400F-A88A-AB19D52BA43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0E12ED5-D5D0-41C6-96B6-6029FA5F2DD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E2E4DFC-CF6A-4E13-913E-BC3FBD2690F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06A32FE-438F-4B48-87E0-25941FFDD1C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222544E-127C-49F1-BAC0-C573AFC3756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9E16703-8C86-4E6A-8F1F-3D33B0E51F3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B5FADFE-FA67-4C23-982A-B2A28FCCB00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C5A20F39-6C0C-4F6F-9B5C-597A75B903AD}"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E6725B-295C-4939-BA2B-C0194FF967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6A31EB83-AFB4-4FB3-934C-B12EC154B516}"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D22BD6A7-88CC-43E1-BA03-B03F9E3B912A}"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A4BED0C-BFAC-40A0-AE33-1682A8A5E2B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FF7F5A1-99EA-4A1B-8C13-3C0CBBE4495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2822AC7-6AC4-4431-8F95-DA48D147BFC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EB6E20F-BDF1-404B-A740-D8265DB0467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1BF8B00-A9C0-4DD9-A691-5EC1FDCE309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D452469-3460-4A84-B248-218BC9FA0DE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17114F1-AE9F-46A3-833C-0E7E4864FD2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84204F4-297E-4BAA-A79C-8843755DC1A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ED1C7C-317A-4A39-BC8A-79431FE32C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5358356-99D9-448A-8A93-B82BBB50B4B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2A4B3947-5E3A-4632-B625-3AAC53783B9B}"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365942A0-CF8B-492A-9098-8680661B2F2A}"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4F584E17-5CCA-4209-8917-6C3F88B416DC}"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1F62D8C-EC9B-4F83-847E-CF6729A1194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E655401-52EC-4CA7-B06F-1A755399FF0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F2054BD-314F-4D54-8027-3D3B80B96C0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F304D5B-07F5-4628-A51F-84B7B4BEA6D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1D3A6AA-E1ED-411B-B21F-9EE46C64884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AFE53DD-63D6-4EB9-AE5B-52381BB7C78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2C5D14-B264-4C6E-87B9-E99ACFAC82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88AA44D-7A36-480D-8245-0064AA26CE9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7ED2400-76F9-4713-B11B-7FC27DAC09D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A2620D8-81A3-4ECA-8295-0D2CC21CD0A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FAD92316-7039-49ED-A034-2F83DB92BB26}"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ED62E6F9-0A05-4754-AFB6-94F374D0B112}"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7FA1F0-2AB6-4425-BEF2-7FD5B3FE75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CABA42-FA91-41E5-B9BB-D3C242ECF5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12B0C5-EED6-40D5-9DB3-FE3C188F59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8A8684-FC04-489B-8EB7-B2B81AAC0B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72E081-073B-49A7-8406-38922606F0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3AFC9F-F5D5-4CCA-9614-25539C608C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0FC696-8986-4A0C-AC9F-24CED4E096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FFC197-FCEA-4E6D-AEAA-5ACF559AF1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E6A2C0-1F51-4627-8586-E3E6FAF9D4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5526A40-C03F-491C-A2A2-80FA644A443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2CEB50-73FE-4FB6-BC59-9A254A0139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A4CA83B-042F-4928-BD59-09282A299D9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8CC0D60-C1A4-4988-9A7E-FFB3FB745C5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602782A-6BD2-4427-BAAE-DFC2A194305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FCBAC46-F13D-4B06-8222-02205FA1B7D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A99F6A3-D8AE-4743-91E4-B7984502196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9A0258-25D2-4BB8-9EFD-F939C7950B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48D59F0-F665-4822-891B-EFE7C77D9E0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8343194-F361-41BD-9964-FC00CA2C065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4938DF1-F9B6-4AEF-8255-AC57C6EB09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D720BFB-5D62-4305-9BDE-EDDA3912790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C4D27BF-F364-4569-AD6C-8027B3C8464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6CBF6AF-54E9-4B81-85C4-A0E33634B43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B112F99-AEAC-4DE6-B88C-9A71925B6EE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19FFF3D-5E85-42D6-8C7F-DEC2F23AB12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2EB2B23-7412-48F6-BE2B-268F751A3A5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2A0092C-44CF-4AD3-ADA1-CE358EABBA2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A841BC-6011-4517-9DF3-0FF68C269E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BC1019D-8681-45A4-96BA-5F6AD5BFDB0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B73E5B1-53BF-4B28-B468-BBAC051984D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8E67A4D-6B26-4FCC-9B1F-F5B1B0031CE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CDFF81B-28CB-4D68-A404-B0E6518A5B3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82A49C6-B52E-46EB-A51F-AE233F68F19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79C7706-8354-4677-A659-8054C5A5D66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BFB89C0-DD73-44B3-AC1B-4FAD3173E84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6FC4014-ACD3-447E-8BB0-FD45A3E612F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7EF7FF9-1D92-4443-B001-D0C27183A5E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1D7DF28-8343-45F8-851A-DDF1AD0B818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4767C9-8BDD-4FDF-B08F-A2A22E0FAC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E83951D-B01B-4B90-8F2B-20ACA675547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2C24F4A-A664-4E2A-B9EF-F2812066DD8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17D320B-169F-45A8-8188-AE1DB48E0D9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602C4E4-B600-4E13-85D8-9B60446524F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FDB7692-D5EF-41DD-9922-6DBA307A4DA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7DA8BA5-4A9A-44ED-B79D-77E30BF0317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83AFB45-2FCA-46FC-B86F-35C339586C9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8E4713A-E71F-42BC-9E52-E3561700F35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123C03F-8695-416B-A588-987B8090B32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6E0E1B5-CD36-4B88-A319-F4A89892AA5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4655D9-CC63-4BCD-8E65-0F6EE3804B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7121DBB-7269-4E2A-962B-122C2634EA9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BFCE85E-D156-4016-865F-E9F78C1D3A9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2908039-E110-4C61-9AC0-E430FF24618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A9B69CD-C228-461B-BF36-A05719989C4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F924377-F7D2-441B-B651-A7A88772B92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CFC39D5-C681-44E0-B963-E731ABBDEDE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72CC2DC-AE30-4FC1-9050-5332F883776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E6C6CDA-10F5-41F1-B379-FED0AE6BCB3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BB55714-1195-48E6-A6B4-452FE1CA298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55BC9A5-F200-411D-B3BC-3B9EE3260C0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3031D9-837F-4B90-8014-ACDBA82394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6EEA427-D892-46CC-B1CE-68DC0CFD963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8E9FA36-18D4-4401-A554-94D4F92A4B7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A9FE4F4-C1ED-4774-9B4F-A3EE3683178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8952AA0-0D29-40A9-880F-4707D6AED6E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875DDAA-19D3-4DAC-8DE2-EABD0102B72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DD543F8-1CEC-425A-9A2E-F5C1D175355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D4BDE82-DD69-497D-A989-9A7A1541F51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9D47DD9-C06C-49F4-91FF-306AC70F06F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1C7282F-4935-4BB9-84BA-E382F702DB5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CFD1D64-3C2B-4701-BF29-FA0B49CD243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88FBD4-C287-4EFB-B017-8352A546A0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C8DC134-3AA2-49FD-8F45-82183E67349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76BAA6D-2621-487D-A39E-A5566A57C20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658CB51-EC27-43D5-B6E4-BF1FE97E74B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82F63D0-5C4E-4E35-94F3-7379D340E7A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CC699C3-C09F-49F1-9BA0-F9FB3BBF3A7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670DC1B-FED1-473E-A07C-9C398429A0C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0E70A5D-6021-4CAC-838C-F8F6F0032BF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2A92DB6-5E0F-4507-9145-26178715E42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1A8BAF5-47BA-47F6-903F-19EC33FD526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C89FA9E-0D17-459E-B884-58520D25E7C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4605B5-846A-4646-A13D-79EDE34B17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9A57232-381F-4798-A8CB-4480BAC3FF8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C5A60AD-9EE6-438B-81D8-B3AC7983518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F12639E-96A3-45D3-BFCC-B23B19362B6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E959C51-8A44-4C42-A664-29DB6A4AE2C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73E1CD0-86CF-45CF-9C6E-D199764CDCD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48781A0-F352-4800-91F4-D2AE82EBB25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4C5F586-08ED-40DE-951A-B66C4218629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70BE0E4-EC4C-42BC-A3C4-401B87322AE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55B79F9-23EE-4AD0-A7D5-3A74E72BBB1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E355317-5242-49E2-A321-C4E9A6B2EB6A}"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BDDCD-4270-494A-88E6-5785B22F44D7}"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7/9/2015 ROS Meeting </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7/9/2015        </a:t>
            </a:r>
            <a:fld id="{59159479-3338-4CC9-8C9C-5005F5A50B6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1"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6E2E4-72BE-4D55-858A-7A0393E9480E}"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372"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7/9/2015 ROS Meeting </a:t>
            </a:r>
            <a:endParaRPr b="0" lang="en-US" sz="1200" spc="-1" strike="noStrike">
              <a:solidFill>
                <a:srgbClr val="000000"/>
              </a:solidFill>
              <a:latin typeface="Times New Roman"/>
            </a:endParaRPr>
          </a:p>
        </p:txBody>
      </p:sp>
      <p:sp>
        <p:nvSpPr>
          <p:cNvPr id="373"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C3F6A-63ED-424F-A6E7-248DD44D028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2"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319B8-7FB3-4D3E-A21C-822D51AFED10}"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413"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7/9/2015 ROS Meeting </a:t>
            </a:r>
            <a:endParaRPr b="0" lang="en-US" sz="1200" spc="-1" strike="noStrike">
              <a:solidFill>
                <a:srgbClr val="000000"/>
              </a:solidFill>
              <a:latin typeface="Times New Roman"/>
            </a:endParaRPr>
          </a:p>
        </p:txBody>
      </p:sp>
      <p:sp>
        <p:nvSpPr>
          <p:cNvPr id="414"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C2A97-FDB9-4BD3-8F5F-D1C1BE30E98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3"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4B2C0-1FED-474A-BA55-47DC6C82759A}"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454"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7/9/2015 ROS Meeting </a:t>
            </a:r>
            <a:endParaRPr b="0" lang="en-US" sz="1200" spc="-1" strike="noStrike">
              <a:solidFill>
                <a:srgbClr val="000000"/>
              </a:solidFill>
              <a:latin typeface="Times New Roman"/>
            </a:endParaRPr>
          </a:p>
        </p:txBody>
      </p:sp>
      <p:sp>
        <p:nvSpPr>
          <p:cNvPr id="455"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085C7-3FFA-4E2C-BCDA-0DDB02E1C97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FA383-8161-4965-A6BE-06DD8C8D4A7F}"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7/9/2015 ROS Meeting </a:t>
            </a:r>
            <a:endParaRPr b="0" lang="en-US" sz="1200" spc="-1" strike="noStrike">
              <a:solidFill>
                <a:srgbClr val="000000"/>
              </a:solidFill>
              <a:latin typeface="Times New Roman"/>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4F2DB-87D4-43D1-8ED2-15B7B68A7C8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78465-345D-44E3-A1D4-25221AAFDFCC}"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7/9/2015 ROS Meeting </a:t>
            </a:r>
            <a:endParaRPr b="0" lang="en-US" sz="1200" spc="-1" strike="noStrike">
              <a:solidFill>
                <a:srgbClr val="000000"/>
              </a:solidFill>
              <a:latin typeface="Times New Roman"/>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66C8B-AC85-4246-9785-5FC7EAD4622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5B861-2478-43AC-B6B0-AA3909E424D9}"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12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7/9/2015 ROS Meeting </a:t>
            </a:r>
            <a:endParaRPr b="0" lang="en-US" sz="1200" spc="-1" strike="noStrike">
              <a:solidFill>
                <a:srgbClr val="000000"/>
              </a:solidFill>
              <a:latin typeface="Times New Roman"/>
            </a:endParaRPr>
          </a:p>
        </p:txBody>
      </p:sp>
      <p:sp>
        <p:nvSpPr>
          <p:cNvPr id="12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F7930-A0DF-4086-B07B-1ABCDBC5AEB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EC4F5-EF90-4D8A-BA0B-E7F7E12E6A2E}"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16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7/9/2015 ROS Meeting </a:t>
            </a:r>
            <a:endParaRPr b="0" lang="en-US" sz="1200" spc="-1" strike="noStrike">
              <a:solidFill>
                <a:srgbClr val="000000"/>
              </a:solidFill>
              <a:latin typeface="Times New Roman"/>
            </a:endParaRPr>
          </a:p>
        </p:txBody>
      </p:sp>
      <p:sp>
        <p:nvSpPr>
          <p:cNvPr id="16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816A0-FAF1-4D78-AC1C-E349F8676C5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7"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D0D53-F452-4B58-9AA1-7CA43FA86AAF}"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208"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7/9/2015 ROS Meeting </a:t>
            </a:r>
            <a:endParaRPr b="0" lang="en-US" sz="1200" spc="-1" strike="noStrike">
              <a:solidFill>
                <a:srgbClr val="000000"/>
              </a:solidFill>
              <a:latin typeface="Times New Roman"/>
            </a:endParaRPr>
          </a:p>
        </p:txBody>
      </p:sp>
      <p:sp>
        <p:nvSpPr>
          <p:cNvPr id="209"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E3F5D-DBE7-4BEA-97DF-86F032896FA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8"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3DF2B-8C7C-484C-ACA4-9BCEA5B42159}"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249"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7/9/2015 ROS Meeting </a:t>
            </a:r>
            <a:endParaRPr b="0" lang="en-US" sz="1200" spc="-1" strike="noStrike">
              <a:solidFill>
                <a:srgbClr val="000000"/>
              </a:solidFill>
              <a:latin typeface="Times New Roman"/>
            </a:endParaRPr>
          </a:p>
        </p:txBody>
      </p:sp>
      <p:sp>
        <p:nvSpPr>
          <p:cNvPr id="250"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EE006-E5E3-4CFF-A068-FCA45F9B33D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89"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B66F9-A678-4844-A13A-BF2A6962653F}"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290"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7/9/2015 ROS Meeting </a:t>
            </a:r>
            <a:endParaRPr b="0" lang="en-US" sz="1200" spc="-1" strike="noStrike">
              <a:solidFill>
                <a:srgbClr val="000000"/>
              </a:solidFill>
              <a:latin typeface="Times New Roman"/>
            </a:endParaRPr>
          </a:p>
        </p:txBody>
      </p:sp>
      <p:sp>
        <p:nvSpPr>
          <p:cNvPr id="291"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69B91-4EF1-4020-BDCB-E1CCEC0347F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0"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72884-7204-4110-A1EE-9E6A185F108B}"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331"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7/9/2015 ROS Meeting </a:t>
            </a:r>
            <a:endParaRPr b="0" lang="en-US" sz="1200" spc="-1" strike="noStrike">
              <a:solidFill>
                <a:srgbClr val="000000"/>
              </a:solidFill>
              <a:latin typeface="Times New Roman"/>
            </a:endParaRPr>
          </a:p>
        </p:txBody>
      </p:sp>
      <p:sp>
        <p:nvSpPr>
          <p:cNvPr id="332"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4C7A7-475B-4A1F-ABB6-CBAA0D06E0A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649080" y="1143000"/>
            <a:ext cx="7086600" cy="2209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3600" spc="-1" strike="noStrike">
                <a:solidFill>
                  <a:srgbClr val="000000"/>
                </a:solidFill>
                <a:latin typeface="Times New Roman"/>
                <a:ea typeface="Times New Roman"/>
              </a:rPr>
              <a:t>Planning Geomagnetic Disturbance Task Force (PGDTF)</a:t>
            </a:r>
            <a:br>
              <a:rPr sz="3600"/>
            </a:br>
            <a:r>
              <a:rPr b="0" lang="en-US" sz="3600" spc="-1" strike="noStrike">
                <a:solidFill>
                  <a:srgbClr val="000000"/>
                </a:solidFill>
                <a:latin typeface="Times New Roman"/>
                <a:ea typeface="Times New Roman"/>
              </a:rPr>
              <a:t> Update to ROS</a:t>
            </a:r>
            <a:br>
              <a:rPr sz="3600"/>
            </a:br>
            <a:endParaRPr b="0" lang="en-US" sz="3600" spc="-1" strike="noStrike">
              <a:solidFill>
                <a:srgbClr val="000000"/>
              </a:solidFill>
              <a:latin typeface="Calibri"/>
            </a:endParaRPr>
          </a:p>
        </p:txBody>
      </p:sp>
      <p:sp>
        <p:nvSpPr>
          <p:cNvPr id="500" name="PlaceHolder 2"/>
          <p:cNvSpPr>
            <a:spLocks noGrp="1"/>
          </p:cNvSpPr>
          <p:nvPr>
            <p:ph type="subTitle"/>
          </p:nvPr>
        </p:nvSpPr>
        <p:spPr>
          <a:xfrm>
            <a:off x="1371600" y="2895480"/>
            <a:ext cx="6400800" cy="15242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98989"/>
                </a:solidFill>
                <a:latin typeface="Times New Roman"/>
                <a:ea typeface="Times New Roman"/>
              </a:rPr>
              <a:t>November 07, 2019</a:t>
            </a:r>
            <a:endParaRPr b="0" lang="en-US" sz="2200" spc="-1" strike="noStrike">
              <a:solidFill>
                <a:srgbClr val="000000"/>
              </a:solidFill>
              <a:latin typeface="Calibri"/>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Times New Roman"/>
                <a:ea typeface="Times New Roman"/>
              </a:rPr>
              <a:t>Aster Amahatsion </a:t>
            </a:r>
            <a:endParaRPr b="0" lang="en-US" sz="3200" spc="-1" strike="noStrike">
              <a:solidFill>
                <a:srgbClr val="000000"/>
              </a:solidFill>
              <a:latin typeface="Calibri"/>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Times New Roman"/>
                <a:ea typeface="Times New Roman"/>
              </a:rPr>
              <a:t>2019 PGDTF Chair</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 </a:t>
            </a:r>
            <a:endParaRPr b="0" lang="en-US" sz="3200" spc="-1" strike="noStrike">
              <a:solidFill>
                <a:srgbClr val="000000"/>
              </a:solidFill>
              <a:latin typeface="Calibri"/>
            </a:endParaRPr>
          </a:p>
        </p:txBody>
      </p:sp>
      <p:sp>
        <p:nvSpPr>
          <p:cNvPr id="50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2EEB4-0670-4579-9500-B028E58DADE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456840" y="304920"/>
            <a:ext cx="84582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PGDTF Meeting </a:t>
            </a:r>
            <a:br>
              <a:rPr sz="4400"/>
            </a:br>
            <a:endParaRPr b="0" lang="en-US" sz="4400" spc="-1" strike="noStrike">
              <a:solidFill>
                <a:srgbClr val="000000"/>
              </a:solidFill>
              <a:latin typeface="Calibri"/>
            </a:endParaRPr>
          </a:p>
        </p:txBody>
      </p:sp>
      <p:sp>
        <p:nvSpPr>
          <p:cNvPr id="503" name=""/>
          <p:cNvSpPr txBox="1"/>
          <p:nvPr/>
        </p:nvSpPr>
        <p:spPr>
          <a:xfrm>
            <a:off x="388800" y="1066680"/>
            <a:ext cx="8461440" cy="5289840"/>
          </a:xfrm>
          <a:prstGeom prst="rect">
            <a:avLst/>
          </a:prstGeom>
          <a:noFill/>
          <a:ln w="0">
            <a:noFill/>
          </a:ln>
        </p:spPr>
        <p:txBody>
          <a:bodyPr anchor="t">
            <a:normAutofit fontScale="99000"/>
          </a:bodyPr>
          <a:p>
            <a:pPr marL="180360" indent="-180360">
              <a:lnSpc>
                <a:spcPct val="100000"/>
              </a:lnSpc>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usiness meeting was held on October 8</a:t>
            </a:r>
            <a:r>
              <a:rPr b="0" lang="en-US" sz="2000" spc="-1" strike="noStrike" baseline="30000">
                <a:solidFill>
                  <a:srgbClr val="000000"/>
                </a:solidFill>
                <a:latin typeface="Times New Roman"/>
                <a:ea typeface="Times New Roman"/>
              </a:rPr>
              <a:t>th </a:t>
            </a:r>
            <a:r>
              <a:rPr b="0" lang="en-US" sz="2000" spc="-1" strike="noStrike">
                <a:solidFill>
                  <a:srgbClr val="000000"/>
                </a:solidFill>
                <a:latin typeface="Times New Roman"/>
                <a:ea typeface="Times New Roman"/>
              </a:rPr>
              <a:t>,</a:t>
            </a:r>
            <a:r>
              <a:rPr b="0" lang="en-US" sz="2000" spc="-1" strike="noStrike" baseline="30000">
                <a:solidFill>
                  <a:srgbClr val="000000"/>
                </a:solidFill>
                <a:latin typeface="Times New Roman"/>
                <a:ea typeface="Times New Roman"/>
              </a:rPr>
              <a:t> </a:t>
            </a:r>
            <a:r>
              <a:rPr b="0" lang="en-US" sz="2000" spc="-1" strike="noStrike">
                <a:solidFill>
                  <a:srgbClr val="000000"/>
                </a:solidFill>
                <a:latin typeface="Times New Roman"/>
                <a:ea typeface="Times New Roman"/>
              </a:rPr>
              <a:t>2019</a:t>
            </a:r>
            <a:endParaRPr b="0" lang="en-US" sz="2000" spc="-1" strike="noStrike">
              <a:solidFill>
                <a:srgbClr val="000000"/>
              </a:solidFill>
              <a:latin typeface="Calibri"/>
            </a:endParaRPr>
          </a:p>
          <a:p>
            <a:pPr marL="180360" indent="-180360">
              <a:lnSpc>
                <a:spcPct val="10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iscussed GIC flow for 2019 GIC cases status</a:t>
            </a:r>
            <a:endParaRPr b="0" lang="en-US" sz="2000" spc="-1" strike="noStrike">
              <a:solidFill>
                <a:srgbClr val="000000"/>
              </a:solidFill>
              <a:latin typeface="Calibri"/>
            </a:endParaRPr>
          </a:p>
          <a:p>
            <a:pPr lvl="2" marL="870480" indent="-339480">
              <a:lnSpc>
                <a:spcPct val="10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ERCOT released the preliminary transformer Geomagnetically-Induced Current (GIC) flows and the power flow cases on October 18, 2019 on MIS and gave two weeks window for commenting. The commenting period was due November 1, 2019. </a:t>
            </a:r>
            <a:endParaRPr b="0" lang="en-US" sz="1700" spc="-1" strike="noStrike">
              <a:solidFill>
                <a:srgbClr val="000000"/>
              </a:solidFill>
              <a:latin typeface="Calibri"/>
            </a:endParaRPr>
          </a:p>
          <a:p>
            <a:pPr lvl="2" marL="870480" indent="-339480">
              <a:lnSpc>
                <a:spcPct val="10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Based on the report, there is no transformer above 75A GIC flow for the GMD Benchmark Event and one transformer above 85A for the Supplemental GMD Event. </a:t>
            </a:r>
            <a:endParaRPr b="0" lang="en-US" sz="1700" spc="-1" strike="noStrike">
              <a:solidFill>
                <a:srgbClr val="000000"/>
              </a:solidFill>
              <a:latin typeface="Calibri"/>
            </a:endParaRPr>
          </a:p>
          <a:p>
            <a:pPr marL="180360" indent="-180360">
              <a:lnSpc>
                <a:spcPct val="10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iscussed GMD Vulnerability Assessment activities</a:t>
            </a:r>
            <a:endParaRPr b="0" lang="en-US" sz="2000" spc="-1" strike="noStrike">
              <a:solidFill>
                <a:srgbClr val="000000"/>
              </a:solidFill>
              <a:latin typeface="Calibri"/>
            </a:endParaRPr>
          </a:p>
          <a:p>
            <a:pPr lvl="1" marL="735480" indent="-282960">
              <a:lnSpc>
                <a:spcPct val="10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Status of GMD Event outages submissions </a:t>
            </a:r>
            <a:endParaRPr b="0" lang="en-US" sz="1700" spc="-1" strike="noStrike">
              <a:solidFill>
                <a:srgbClr val="000000"/>
              </a:solidFill>
              <a:latin typeface="Calibri"/>
            </a:endParaRPr>
          </a:p>
          <a:p>
            <a:pPr lvl="2" marL="870480" indent="-33948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64% of  TSPs and 25% of REs responded to the ERCOT market notice for providing equipment outage due to GMD harmonics. ERCOT will send email reminder.</a:t>
            </a:r>
            <a:endParaRPr b="0" lang="en-US" sz="1700" spc="-1" strike="noStrike">
              <a:solidFill>
                <a:srgbClr val="000000"/>
              </a:solidFill>
              <a:latin typeface="Calibri"/>
            </a:endParaRPr>
          </a:p>
          <a:p>
            <a:pPr lvl="1" marL="735480" indent="-282960">
              <a:lnSpc>
                <a:spcPct val="10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Vulnerability Assessment Study approach for benchmark GMD Event</a:t>
            </a:r>
            <a:endParaRPr b="0" lang="en-US" sz="1700" spc="-1" strike="noStrike">
              <a:solidFill>
                <a:srgbClr val="000000"/>
              </a:solidFill>
              <a:latin typeface="Calibri"/>
            </a:endParaRPr>
          </a:p>
          <a:p>
            <a:pPr lvl="2" marL="870480" indent="-33948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ERCOT presented on the benchmark GMD vulnerability assessment approach. This approach will apply the transformer reactive VAR losses, equipment outages due to harmonics and transformer thermal assessment results and will assess the system response.</a:t>
            </a:r>
            <a:endParaRPr b="0" lang="en-US" sz="1700" spc="-1" strike="noStrike">
              <a:solidFill>
                <a:srgbClr val="000000"/>
              </a:solidFill>
              <a:latin typeface="Calibri"/>
            </a:endParaRPr>
          </a:p>
          <a:p>
            <a:pPr marL="180360" indent="-1803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Next PGDTF meeting: November 15, 2019 at the Met Center (WebEx available)</a:t>
            </a:r>
            <a:endParaRPr b="0" lang="en-US" sz="1800" spc="-1" strike="noStrike">
              <a:solidFill>
                <a:srgbClr val="000000"/>
              </a:solidFill>
              <a:latin typeface="Calibri"/>
            </a:endParaRPr>
          </a:p>
          <a:p>
            <a:pPr lvl="2" marL="870480" indent="-33948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735480" indent="-28296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180360" indent="-18036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80360" indent="-180360">
              <a:lnSpc>
                <a:spcPct val="10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80360" indent="-180360">
              <a:lnSpc>
                <a:spcPct val="10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80360" indent="-18036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80360" indent="-1803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0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53CA9-3330-4A16-8288-F0D0A5869BD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05" name="Footer Placeholder 6"/>
          <p:cNvSpPr/>
          <p:nvPr/>
        </p:nvSpPr>
        <p:spPr>
          <a:xfrm>
            <a:off x="2819520" y="6386400"/>
            <a:ext cx="28954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11/07/2019 ROS Meeting</a:t>
            </a:r>
            <a:endParaRPr b="0" lang="en-US" sz="1200" spc="-1" strike="noStrike">
              <a:solidFill>
                <a:srgbClr val="000000"/>
              </a:solidFill>
              <a:latin typeface="Arial"/>
            </a:endParaRPr>
          </a:p>
        </p:txBody>
      </p:sp>
      <p:sp>
        <p:nvSpPr>
          <p:cNvPr id="506" name="Straight Connector 6"/>
          <p:cNvSpPr/>
          <p:nvPr/>
        </p:nvSpPr>
        <p:spPr>
          <a:xfrm>
            <a:off x="457200" y="990720"/>
            <a:ext cx="8521560" cy="2880"/>
          </a:xfrm>
          <a:prstGeom prst="line">
            <a:avLst/>
          </a:prstGeom>
          <a:ln w="25560">
            <a:solidFill>
              <a:srgbClr val="4a7ebb"/>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190440" y="51912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s</a:t>
            </a:r>
            <a:endParaRPr b="0" lang="en-US" sz="4400" spc="-1" strike="noStrike">
              <a:solidFill>
                <a:srgbClr val="000000"/>
              </a:solidFill>
              <a:latin typeface="Calibri"/>
            </a:endParaRPr>
          </a:p>
        </p:txBody>
      </p:sp>
      <p:sp>
        <p:nvSpPr>
          <p:cNvPr id="508" name=""/>
          <p:cNvSpPr txBox="1"/>
          <p:nvPr/>
        </p:nvSpPr>
        <p:spPr>
          <a:xfrm>
            <a:off x="457200" y="1736280"/>
            <a:ext cx="7696080" cy="4179960"/>
          </a:xfrm>
          <a:prstGeom prst="rect">
            <a:avLst/>
          </a:prstGeom>
          <a:noFill/>
          <a:ln w="0">
            <a:noFill/>
          </a:ln>
        </p:spPr>
        <p:txBody>
          <a:bodyPr anchor="t">
            <a:normAutofit/>
          </a:bodyPr>
          <a:p>
            <a:pPr lvl="1" marL="4572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lvl="1" marL="45720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50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054C4-FA39-4EE0-937F-F54A5B0DAC1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10" name="Footer Placeholder 6"/>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1/07/2019 ROS Meeting</a:t>
            </a:r>
            <a:endParaRPr b="0" lang="en-US" sz="1200" spc="-1" strike="noStrike">
              <a:solidFill>
                <a:srgbClr val="000000"/>
              </a:solidFill>
              <a:latin typeface="Arial"/>
            </a:endParaRPr>
          </a:p>
        </p:txBody>
      </p:sp>
      <p:pic>
        <p:nvPicPr>
          <p:cNvPr id="511" name="Picture 2" descr="question-mark3a.jpg"/>
          <p:cNvPicPr/>
          <p:nvPr/>
        </p:nvPicPr>
        <p:blipFill>
          <a:blip r:embed="rId1"/>
          <a:stretch/>
        </p:blipFill>
        <p:spPr>
          <a:xfrm>
            <a:off x="3236760" y="2206800"/>
            <a:ext cx="2670480" cy="3315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2-26T14:40:13Z</dcterms:created>
  <dc:creator>Williams, Adrian</dc:creator>
  <dc:description/>
  <dc:language>en-US</dc:language>
  <cp:lastModifiedBy>s237448</cp:lastModifiedBy>
  <dcterms:modified xsi:type="dcterms:W3CDTF">2019-11-01T19:15:43Z</dcterms:modified>
  <cp:revision>521</cp:revision>
  <dc:subject/>
  <dc:title>PGDTF Update to RO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isual Markings Removed">
    <vt:lpwstr>No</vt:lpwstr>
  </property>
  <property fmtid="{D5CDD505-2E9C-101B-9397-08002B2CF9AE}" pid="3" name="bjDocumentLabelXML">
    <vt:lpwstr>&lt;?xml version="1.0" encoding="us-ascii"?&gt;&lt;sisl xmlns:xsi="http://www.w3.org/2001/XMLSchema-instance" xmlns:xsd="http://www.w3.org/2001/XMLSchema" sislVersion="0" policy="e9c0b8d7-bdb4-4fd3-b62a-f50327aaefce" origin="autoSelectedSuggestion" xmlns="http://w</vt:lpwstr>
  </property>
  <property fmtid="{D5CDD505-2E9C-101B-9397-08002B2CF9AE}" pid="4" name="bjDocumentLabelXML-0">
    <vt:lpwstr>ww.boldonjames.com/2008/01/sie/internal/label"&gt;&lt;element uid="936e22d5-45a7-4cb7-95ab-1aa8c7c88789" value="" /&gt;&lt;element uid="c64218ab-b8d1-40b6-a478-cb8be1e10ecc" value="" /&gt;&lt;/sisl&gt;</vt:lpwstr>
  </property>
  <property fmtid="{D5CDD505-2E9C-101B-9397-08002B2CF9AE}" pid="5" name="bjDocumentSecurityLabel">
    <vt:lpwstr>Uncategorized</vt:lpwstr>
  </property>
  <property fmtid="{D5CDD505-2E9C-101B-9397-08002B2CF9AE}" pid="6" name="bjSaver">
    <vt:lpwstr>2/FXmrNaN+biOnBF1Lp+9MxCcP/kNde0</vt:lpwstr>
  </property>
  <property fmtid="{D5CDD505-2E9C-101B-9397-08002B2CF9AE}" pid="7" name="docIndexRef">
    <vt:lpwstr>d8ebadff-d0da-4cf9-8a05-21e926d3e7c8</vt:lpwstr>
  </property>
</Properties>
</file>