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98A8-C170-4722-9B2F-A4EE1B563DF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8E2D3-B596-4296-A64B-1063692F84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D974B-314C-4D3F-A014-1E742B0735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13276-0DBB-4A9E-86D3-43DFB182DA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3FFD-557F-4027-861C-F075EF41B1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E6C7F-7853-4146-934D-24F85DE13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0D75D-0F60-4FD9-8CE9-EA151C6DD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2F6304-726F-4B63-98EA-8455D84C40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4278DD-35A4-4236-87DC-586F129B9E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D2F2D0-E1D3-4F83-9604-D8FA634203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B80098-30FE-4916-BCEA-F087841C61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DA496C-DE43-4AD5-8196-A810C7C371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E0674F-8090-4D7F-91AE-6FD8C3B43D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0BD6C3-1D77-44FD-A766-0CAB7F77DD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C57231-EF1B-4DF9-8F58-0BEA4B8143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7AD421-84A9-4145-A06B-A6358C96A9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E77B76D-1D46-4897-B5B4-5EC904A1A07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C7252-8A86-4516-B965-21054FA7E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087BC7-6DA9-4374-A889-100EF46C1E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CCC583-B812-48AA-A361-C20C4ADC26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80D5565-E7DC-4F6C-B51A-608416DAC2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47ACCF-B545-48C1-83AC-718C547D6B4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6C7AC0-1815-435E-AD24-BDE8FA60818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98FC8E-8394-4E5D-BA05-B2D9B7D588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930A21-0395-4B3F-976D-D893E57A0F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BF9833-93C8-4385-9AF8-506D897559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B74FAC-A92B-4CFC-AC87-B0E5CCEBF8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E0E35B5-67F8-47D4-AFB7-372F7B9E076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618EF-677B-4943-9973-754CD7D86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C53DF09-33DF-482E-B35A-82993B5991D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96C1EBE-36AD-4C12-928A-3877B5104D8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89558C-CFBC-4BFB-A9BD-A996CF37759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B1D75D-DD3D-4EF7-80C7-FA5FE0DFAF9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87BE59-E921-4A98-AAC6-31EC8AE9B8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EBF84FB-5E07-4160-AA9B-1745F79CD8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029FE1-913E-4245-90D1-89077171456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423AC6-18B8-4389-BC50-2F34E3E567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559C24-65B5-4CDF-A8DB-3FE1D54F3F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C933CD-7CF0-430E-9407-0A6A0E4A52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B58D4F-D533-43AD-92B3-A10F90A1D2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E39776-C371-4465-809E-4FC5D21337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42216B2-F33A-4C49-8AD4-2975A7C3456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DBE66A2-5819-4FFA-8B6C-A2F7990BEB8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B572286-755F-4874-B86C-958A162357C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AA800A-F2F9-405B-8929-598A54C6054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E4E4CA-BFA1-4F79-B9A6-078788B9BCA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AA530D-3779-44DC-9E05-2D1B015A74F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28D36F1-FF8B-4CD9-B567-A3B3C01E99A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1612173-FB9C-4323-8178-CF081DDEE12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4C4B466-7578-48F2-8822-A83AE8B2C9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EFDE2-DF3A-42BE-A2D4-C7121FCBB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579AEA-5AA9-4C3A-AB0C-6305C04DE4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404F752-ACED-4C6B-85C5-564D02B2BD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A572984-4DCA-454D-AA97-5180090546F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0F5D681-2681-43FD-AA05-4F399D9B435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CEC48BC-4ACA-4256-B97F-96040B189D7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DC75E-45C5-42A5-9E3A-2EFD57C9D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34D02-8C0B-4AAC-9EDD-6EC5913B2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3FE3A-E219-4B0F-8B54-EFC81320B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85CC9-89C2-49BD-8FED-6D5370B07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68BA2-9E28-4E2D-9446-9FB5846EC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CB75C-FA0B-4F1D-8326-6A5C5761F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68E57-09E5-4F48-8260-870E3F0DA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01EFB-6F99-4BA1-B390-EA909845F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AF15E-69C0-4423-AEA0-14A44BE24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99379F-B21A-4F55-9C88-08C2F0AFF4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37141F-F4F6-4469-A56C-72F19794C5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5B7344-01FF-4E49-B97D-A6BD0BDA82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4D8DDE-1D5E-48D7-8392-E9C7E84CA0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EDDD29-43B8-408D-802F-9BA7078B91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3E2E34-A52C-45EA-AB05-18119A44AD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3C3099-D39F-44F5-A038-42677D7C3A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84077-5E1A-4E1B-B12E-762C449A6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1FD21D-2823-42CA-8C46-7DEC1A70E1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5B1FD9-2414-4BBB-8860-1ED0DCF409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920C94-51E9-4C1A-95E0-99254DF780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0B4D69-B486-4855-BA37-18F489FEF0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3849E6-3827-41EA-9B74-2BDF562498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8137F9-6206-4C5B-A882-902B37F03C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E6869A-3B3B-437A-8F13-761E0387CC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1F4D06-539F-470D-8F52-303CB58E1D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BF1989-1B2A-4415-AB03-537CADE82E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C99F23-783B-4C28-832F-584AEBC27C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CE2E8-E7CF-4FC2-82C7-DBB2791EB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D6C921-4E3E-4B1D-8006-FA40652E3D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1AB955-2FE3-4B2E-96CF-C0065AAAAA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AD4F1C-F41B-46AA-A1F8-DC77C87C6A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18E661-38D6-427E-9667-D2C3CAA06F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A4755F-E40D-4B57-8E8D-4B23CF11F0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8EB0CA-09C0-43B8-B59F-B4670D021C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FB230F-9E1C-4DDE-A0D4-661DD3805E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C889F0-B981-44DA-B512-5004784043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835354-82EE-4C0F-AAF3-4E8A7E17AB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0887FE-F39C-413C-BF0A-1CCD96696B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97FC1-4333-4610-AD2C-B0E6DDCBE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B404B5-6554-4753-A51F-6FE28AD426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A08B4B-29B9-4361-A210-00999A800B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E3DFD5-FC2A-49E2-9EF1-BC65669861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879B20-E4FB-43C4-8E90-ACDEF0F17D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950744-10E8-4418-A5B8-12C983046D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05BC17-CB02-47F7-84D1-E2417D6271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41D2AA-46B4-4A12-A1DB-2A1B1ADDC1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358590-139A-40C0-9BF0-25E95F31F0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CB46CE-CDAB-4446-B327-B305EAF980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AC470C-6696-4FFD-8292-014ABF240C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1B49F-DE25-40A4-BA8C-964A71052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7760FA-68F7-4F84-B1A6-350D3D32E7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A9B1FD-A707-4F52-8CE7-4C87941AF3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DC1E4C-8FD0-495D-B3A3-61DB09F5FF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2C6850-9908-4D85-BAC0-BDF3808E58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35D910-EC43-45EF-86FA-BBD071C254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3BD33E-35BE-4D7A-A223-C223E13E0D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600192-88AA-4CDD-9D29-F6C7EAECD8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6E6998-70C1-46C0-B9F6-A7796D2C25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604A21-1CB9-48BB-8062-4858D52A0B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141316-5506-4B74-9600-F5FE7CBC60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8EE8C-8EFA-45CC-B43C-3C5A21AFA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8DA1C9-92A5-408F-9E65-E3EDD8BFB7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A6E89B-577C-421A-BFB1-E745F7827C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C3FDCA-9497-45F8-AAA9-8D8294A396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AF097D-9E0A-4FD1-8C60-905B215554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5B04DD-F88E-4299-A5C5-E25E511F19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E708D8-5B10-45F6-A840-90BD730C75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3702AB-0D69-4D3A-B2B8-F6614E43CE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6DF1FF-7C00-4841-AC63-365C77B4F8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19FB1E-7C19-4E26-9733-3A67E3859C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8063F4-0D59-4C5E-A0BC-0A3C298177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8E965-E5CD-4C72-9A67-BFDA534D0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2C1D4C-DF2C-49CB-B704-14435DB49C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A280E2-2B47-42FF-8256-0E7E4C0AED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D0D676-1DC5-451C-9717-C7F371489D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751CD6-43EA-4D8C-BAC7-EC3B9FC461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BA0093-658F-47E8-90DE-EDD3B6A01C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EBD13B-C53C-424A-9B46-1FFAC5E849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125551-B8F6-4A69-B686-2342A9CB7C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25D1DC-CDE2-4562-87BE-CFA4A19C59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60949D-0321-4F5E-A070-08BA632A5E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5DD414-3150-4D90-AE47-5DA90B9308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79C4C-9C9D-418E-A782-F6B102CDF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453A7D-3DBE-4EA8-8324-64444EFC46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B19371-ED64-4AEE-929E-BC5E9673DD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5C284B-018A-4A3E-A187-3C7EFEF98F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A66C89-1C18-4D04-96AC-58B2FFF79A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21DEDF-B642-4799-8E3B-4FE3C522EF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5173BA-2C18-41EF-8893-D96DE14E0D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F0BEFD-F617-4E54-89D8-D0B29F3BA5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5A13C0-7C0E-450F-AEAF-5D5504010F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443B50-3551-4BE9-8304-D90D4672E8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9FF4AE-D832-4330-8149-8E5915E02DA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2ADC-44EA-46ED-9894-B9F97C8FD854}"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a:t>
            </a:r>
            <a:fld id="{17A6C272-65D4-4927-8E5F-73AF727B24C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0F94F-4B58-4CCD-B5D9-05D116CED2EB}"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7DF3-B2A5-4760-A34B-A0EF2DCE9F5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59F0D-B1C6-4939-B646-2A934146AA86}"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8AD4B-E74A-4344-BA07-AADC6E1CA31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209DB-B1CF-49DA-8B66-7A7DD90AD9A5}"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C838E-D66F-4AB2-B569-FD3A623ABBE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027D0-21F7-478B-B3D7-F39E21503CE9}"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E304E-1DEC-4038-8323-9CDAC0EE961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9D9B2-10D2-413A-992D-1C803458D6CE}"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0D448-D7C8-4328-96D1-D2211451CC3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5C382-267B-4098-BC33-4B0413714DCE}"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7B1F-AA4E-49CD-BF54-79B8CE35A76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3F3E-DE15-4A3E-A8A8-A3631C9651E4}"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41ED-8337-4B17-806E-EE4207262C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51AEB-8B00-4ACD-B250-D8F0AA8838E8}"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4E163-84A0-40EB-BAE5-637EA0973E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8F00C-9CA5-4A85-818F-5D8353F2018F}"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8AC84-6940-4392-B5BB-71BAD3FE09F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8D1A6-3FDE-4090-BB0D-6832F31ED04B}"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7AE15-F5F7-4BC3-B975-7B27A319D9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5B844-C502-40DB-8166-3586E15BD96D}" type="datetime">
              <a:rPr b="0" lang="en-US" sz="1200" spc="-1" strike="noStrike">
                <a:solidFill>
                  <a:srgbClr val="898989"/>
                </a:solidFill>
                <a:latin typeface="Calibri"/>
              </a:rPr>
              <a:t>07/29/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C2CEB-9F3D-41FB-8821-CE6D3558757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49080" y="1143000"/>
            <a:ext cx="70866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00"/>
                </a:solidFill>
                <a:latin typeface="Times New Roman"/>
                <a:ea typeface="Times New Roman"/>
              </a:rPr>
              <a:t>Planning Geomagnetic Disturbance Task Force (PGDTF)</a:t>
            </a:r>
            <a:br>
              <a:rPr sz="3600"/>
            </a:br>
            <a:r>
              <a:rPr b="0" lang="en-US" sz="3600" spc="-1" strike="noStrike">
                <a:solidFill>
                  <a:srgbClr val="000000"/>
                </a:solidFill>
                <a:latin typeface="Times New Roman"/>
                <a:ea typeface="Times New Roman"/>
              </a:rPr>
              <a:t> Update to ROS</a:t>
            </a:r>
            <a:br>
              <a:rPr sz="3600"/>
            </a:br>
            <a:endParaRPr b="0" lang="en-US" sz="3600" spc="-1" strike="noStrike">
              <a:solidFill>
                <a:srgbClr val="000000"/>
              </a:solidFill>
              <a:latin typeface="Calibri"/>
            </a:endParaRPr>
          </a:p>
        </p:txBody>
      </p:sp>
      <p:sp>
        <p:nvSpPr>
          <p:cNvPr id="500" name="PlaceHolder 2"/>
          <p:cNvSpPr>
            <a:spLocks noGrp="1"/>
          </p:cNvSpPr>
          <p:nvPr>
            <p:ph type="subTitle"/>
          </p:nvPr>
        </p:nvSpPr>
        <p:spPr>
          <a:xfrm>
            <a:off x="1371600" y="2895480"/>
            <a:ext cx="6400800" cy="1524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Times New Roman"/>
                <a:ea typeface="Times New Roman"/>
              </a:rPr>
              <a:t>September 05, 2019</a:t>
            </a:r>
            <a:endParaRPr b="0" lang="en-US" sz="22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ea typeface="Times New Roman"/>
              </a:rPr>
              <a:t>Aster Amahatsion </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ea typeface="Times New Roman"/>
              </a:rPr>
              <a:t>2019 PGDTF Chair</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 </a:t>
            </a:r>
            <a:endParaRPr b="0" lang="en-US" sz="3200" spc="-1" strike="noStrike">
              <a:solidFill>
                <a:srgbClr val="000000"/>
              </a:solidFill>
              <a:latin typeface="Calibri"/>
            </a:endParaRPr>
          </a:p>
        </p:txBody>
      </p:sp>
      <p:sp>
        <p:nvSpPr>
          <p:cNvPr id="5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16E83-1FD3-40B6-8550-0ADC1C2F5C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304920"/>
            <a:ext cx="84582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GDTF Meeting </a:t>
            </a:r>
            <a:br>
              <a:rPr sz="4400"/>
            </a:br>
            <a:endParaRPr b="0" lang="en-US" sz="4400" spc="-1" strike="noStrike">
              <a:solidFill>
                <a:srgbClr val="000000"/>
              </a:solidFill>
              <a:latin typeface="Calibri"/>
            </a:endParaRPr>
          </a:p>
        </p:txBody>
      </p:sp>
      <p:sp>
        <p:nvSpPr>
          <p:cNvPr id="503" name=""/>
          <p:cNvSpPr txBox="1"/>
          <p:nvPr/>
        </p:nvSpPr>
        <p:spPr>
          <a:xfrm>
            <a:off x="368280" y="1195200"/>
            <a:ext cx="8461440" cy="5289480"/>
          </a:xfrm>
          <a:prstGeom prst="rect">
            <a:avLst/>
          </a:prstGeom>
          <a:noFill/>
          <a:ln w="0">
            <a:noFill/>
          </a:ln>
        </p:spPr>
        <p:txBody>
          <a:bodyPr anchor="t">
            <a:normAutofit/>
          </a:bodyPr>
          <a:p>
            <a:pPr marL="341280" indent="-341280">
              <a:lnSpc>
                <a:spcPct val="10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meeting was held on August 13</a:t>
            </a:r>
            <a:r>
              <a:rPr b="0" lang="en-US" sz="2000" spc="-1" strike="noStrike" baseline="30000">
                <a:solidFill>
                  <a:srgbClr val="000000"/>
                </a:solidFill>
                <a:latin typeface="Times New Roman"/>
                <a:ea typeface="Times New Roman"/>
              </a:rPr>
              <a:t>th </a:t>
            </a:r>
            <a:r>
              <a:rPr b="0" lang="en-US" sz="2000" spc="-1" strike="noStrike">
                <a:solidFill>
                  <a:srgbClr val="000000"/>
                </a:solidFill>
                <a:latin typeface="Times New Roman"/>
                <a:ea typeface="Times New Roman"/>
              </a:rPr>
              <a:t>,</a:t>
            </a:r>
            <a:r>
              <a:rPr b="0" lang="en-US" sz="2000" spc="-1" strike="noStrike" baseline="30000">
                <a:solidFill>
                  <a:srgbClr val="000000"/>
                </a:solidFill>
                <a:latin typeface="Times New Roman"/>
                <a:ea typeface="Times New Roman"/>
              </a:rPr>
              <a:t> </a:t>
            </a:r>
            <a:r>
              <a:rPr b="0" lang="en-US" sz="2000" spc="-1" strike="noStrike">
                <a:solidFill>
                  <a:srgbClr val="000000"/>
                </a:solidFill>
                <a:latin typeface="Times New Roman"/>
                <a:ea typeface="Times New Roman"/>
              </a:rPr>
              <a:t>2019</a:t>
            </a:r>
            <a:endParaRPr b="0" lang="en-US" sz="2000" spc="-1" strike="noStrike">
              <a:solidFill>
                <a:srgbClr val="000000"/>
              </a:solidFill>
              <a:latin typeface="Calibri"/>
            </a:endParaRPr>
          </a:p>
          <a:p>
            <a:pPr marL="341280" indent="-341280">
              <a:lnSpc>
                <a:spcPct val="10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cussed Federal and State activities regarding GMD</a:t>
            </a:r>
            <a:endParaRPr b="0" lang="en-US" sz="2000" spc="-1" strike="noStrike">
              <a:solidFill>
                <a:srgbClr val="000000"/>
              </a:solidFill>
              <a:latin typeface="Calibri"/>
            </a:endParaRPr>
          </a:p>
          <a:p>
            <a:pPr lvl="1" marL="685800" indent="-28584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re was industry webinar by the NERC Standard Drafting Team on the modification of TPL-007-3 standard.</a:t>
            </a:r>
            <a:endParaRPr b="0" lang="en-US" sz="1600" spc="-1" strike="noStrike">
              <a:solidFill>
                <a:srgbClr val="000000"/>
              </a:solidFill>
              <a:latin typeface="Calibri"/>
            </a:endParaRPr>
          </a:p>
          <a:p>
            <a:pPr lvl="1" marL="685800" indent="-28584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PRI conducted a workshop on August 13, 2019 in Chicago Illinois and presented on the status of technical reports and tools for GMD vulnerability assessment.</a:t>
            </a:r>
            <a:endParaRPr b="0" lang="en-US" sz="1600" spc="-1" strike="noStrike">
              <a:solidFill>
                <a:srgbClr val="000000"/>
              </a:solidFill>
              <a:latin typeface="Calibri"/>
            </a:endParaRPr>
          </a:p>
          <a:p>
            <a:pPr lvl="1" marL="685800" indent="-28584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ERC Geomagnetic Task Force met on August 14, 2019 in Chicago Illinois and presented on topics in GMD research. </a:t>
            </a:r>
            <a:endParaRPr b="0" lang="en-US" sz="1600" spc="-1" strike="noStrike">
              <a:solidFill>
                <a:srgbClr val="000000"/>
              </a:solidFill>
              <a:latin typeface="Calibri"/>
            </a:endParaRPr>
          </a:p>
          <a:p>
            <a:pPr marL="341280" indent="-3412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cussed removal of the Gray Boxing of the GMD related sections from Planning Guide due to PGRR057 and PGRR070.</a:t>
            </a:r>
            <a:endParaRPr b="0" lang="en-US" sz="2000" spc="-1" strike="noStrike">
              <a:solidFill>
                <a:srgbClr val="000000"/>
              </a:solidFill>
              <a:latin typeface="Calibri"/>
            </a:endParaRPr>
          </a:p>
          <a:p>
            <a:pPr marL="341280" indent="-341280">
              <a:lnSpc>
                <a:spcPct val="100000"/>
              </a:lnSpc>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IC 2022 SSWG summer peak/min case updates</a:t>
            </a:r>
            <a:endParaRPr b="0" lang="en-US" sz="2000" spc="-1" strike="noStrike">
              <a:solidFill>
                <a:srgbClr val="000000"/>
              </a:solidFill>
              <a:latin typeface="Calibri"/>
            </a:endParaRPr>
          </a:p>
          <a:p>
            <a:pPr lvl="1" marL="685800" indent="-285840">
              <a:lnSpc>
                <a:spcPct val="15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RCOT is working on data issues including incorrect station coordinates, missing Ground Grid Resistance and buses not assigned to a substation. ERCOT is reaching to TSPs and REs to update the station coordinates and PGDTF agreed to use default values for GGRs when the actual value is not available.</a:t>
            </a:r>
            <a:endParaRPr b="0" lang="en-US" sz="1600" spc="-1" strike="noStrike">
              <a:solidFill>
                <a:srgbClr val="000000"/>
              </a:solidFill>
              <a:latin typeface="Calibri"/>
            </a:endParaRPr>
          </a:p>
          <a:p>
            <a:pPr lvl="1" marL="68580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1280" indent="-3412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24CC4-C3D8-416B-9646-4466CC3305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05" name="Footer Placeholder 6"/>
          <p:cNvSpPr/>
          <p:nvPr/>
        </p:nvSpPr>
        <p:spPr>
          <a:xfrm>
            <a:off x="2819520" y="620712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09/05/2019 ROS Meeting</a:t>
            </a:r>
            <a:endParaRPr b="0" lang="en-US" sz="1200" spc="-1" strike="noStrike">
              <a:solidFill>
                <a:srgbClr val="000000"/>
              </a:solidFill>
              <a:latin typeface="Arial"/>
            </a:endParaRPr>
          </a:p>
        </p:txBody>
      </p:sp>
      <p:sp>
        <p:nvSpPr>
          <p:cNvPr id="506" name="Straight Connector 6"/>
          <p:cNvSpPr/>
          <p:nvPr/>
        </p:nvSpPr>
        <p:spPr>
          <a:xfrm>
            <a:off x="457200" y="990720"/>
            <a:ext cx="8521560" cy="2880"/>
          </a:xfrm>
          <a:prstGeom prst="line">
            <a:avLst/>
          </a:prstGeom>
          <a:ln w="25560">
            <a:solidFill>
              <a:srgbClr val="4a7ebb"/>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304560" y="1247400"/>
            <a:ext cx="8762760" cy="5365800"/>
          </a:xfrm>
          <a:prstGeom prst="rect">
            <a:avLst/>
          </a:prstGeom>
          <a:noFill/>
          <a:ln w="0">
            <a:noFill/>
          </a:ln>
        </p:spPr>
        <p:txBody>
          <a:bodyPr anchor="t">
            <a:normAutofit/>
          </a:bodyPr>
          <a:p>
            <a:pPr marL="344520" indent="-344520">
              <a:lnSpc>
                <a:spcPct val="100000"/>
              </a:lnSpc>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cussed summary of GIC flow in 2022 GIC Cases</a:t>
            </a:r>
            <a:endParaRPr b="0" lang="en-US" sz="2000" spc="-1" strike="noStrike">
              <a:solidFill>
                <a:srgbClr val="000000"/>
              </a:solidFill>
              <a:latin typeface="Calibri"/>
            </a:endParaRPr>
          </a:p>
          <a:p>
            <a:pPr lvl="1" marL="743040" indent="-285840">
              <a:lnSpc>
                <a:spcPct val="100000"/>
              </a:lnSpc>
              <a:spcBef>
                <a:spcPts val="451"/>
              </a:spcBef>
              <a:buClr>
                <a:srgbClr val="000000"/>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 the supplemental GIC flow, ERCOT tested the two options suggested by the NERC GMD Planning Guide. They are applying the supplemental geoelectric field of 12 V/km scaled by  local </a:t>
            </a:r>
            <a:r>
              <a:rPr b="0" lang="el-GR" sz="1800" spc="-1" strike="noStrike">
                <a:solidFill>
                  <a:srgbClr val="000000"/>
                </a:solidFill>
                <a:latin typeface="Times New Roman"/>
                <a:ea typeface="Times New Roman"/>
              </a:rPr>
              <a:t>β</a:t>
            </a:r>
            <a:r>
              <a:rPr b="0" lang="en-US" sz="1800" spc="-1" strike="noStrike">
                <a:solidFill>
                  <a:srgbClr val="000000"/>
                </a:solidFill>
                <a:latin typeface="Times New Roman"/>
                <a:ea typeface="Times New Roman"/>
              </a:rPr>
              <a:t> and </a:t>
            </a:r>
            <a:r>
              <a:rPr b="0" lang="el-GR" sz="1800" spc="-1" strike="noStrike">
                <a:solidFill>
                  <a:srgbClr val="000000"/>
                </a:solidFill>
                <a:latin typeface="Times New Roman"/>
                <a:ea typeface="Times New Roman"/>
              </a:rPr>
              <a:t>α</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or the whole ERCOT footprint and the moving box option where 12 V/km is applied to a box size of 100 km by 500 km and 8 V/km out side of the box both scaled by local </a:t>
            </a:r>
            <a:r>
              <a:rPr b="0" lang="el-GR" sz="1800" spc="-1" strike="noStrike">
                <a:solidFill>
                  <a:srgbClr val="000000"/>
                </a:solidFill>
                <a:latin typeface="Times New Roman"/>
                <a:ea typeface="Times New Roman"/>
              </a:rPr>
              <a:t>β</a:t>
            </a:r>
            <a:r>
              <a:rPr b="0" lang="en-US" sz="1800" spc="-1" strike="noStrike">
                <a:solidFill>
                  <a:srgbClr val="000000"/>
                </a:solidFill>
                <a:latin typeface="Times New Roman"/>
                <a:ea typeface="Times New Roman"/>
              </a:rPr>
              <a:t> and </a:t>
            </a:r>
            <a:r>
              <a:rPr b="0" lang="el-GR" sz="1800" spc="-1" strike="noStrike">
                <a:solidFill>
                  <a:srgbClr val="000000"/>
                </a:solidFill>
                <a:latin typeface="Times New Roman"/>
                <a:ea typeface="Times New Roman"/>
              </a:rPr>
              <a:t>α</a:t>
            </a: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The  maximum effective GIC flows were very similar for the two options and ERCOT will apply the 12 V/km to the whole ERCOT footprint. </a:t>
            </a:r>
            <a:endParaRPr b="0" lang="en-US" sz="1800" spc="-1" strike="noStrike">
              <a:solidFill>
                <a:srgbClr val="000000"/>
              </a:solidFill>
              <a:latin typeface="Calibri"/>
            </a:endParaRPr>
          </a:p>
          <a:p>
            <a:pPr lvl="1" marL="743040" indent="-285840">
              <a:lnSpc>
                <a:spcPct val="100000"/>
              </a:lnSpc>
              <a:spcBef>
                <a:spcPts val="451"/>
              </a:spcBef>
              <a:spcAft>
                <a:spcPts val="601"/>
              </a:spcAft>
              <a:buClr>
                <a:srgbClr val="000000"/>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TI released new PSSE V34.6 and the GIC flows differed significantly from the previous PSSE V34.5.1. ERCOT has run additional GIC analysis with Power World and found that the results are more comparable with results from PSSE V34.5.1 and will use PSSE V34.5.1.</a:t>
            </a:r>
            <a:endParaRPr b="0" lang="en-US" sz="1800" spc="-1" strike="noStrike">
              <a:solidFill>
                <a:srgbClr val="000000"/>
              </a:solidFill>
              <a:latin typeface="Calibri"/>
            </a:endParaRPr>
          </a:p>
          <a:p>
            <a:pPr marL="344520" indent="-344520">
              <a:lnSpc>
                <a:spcPct val="100000"/>
              </a:lnSpc>
              <a:spcAft>
                <a:spcPts val="300"/>
              </a:spcAft>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cussed on commenting on NERC Modifications to TPL-007-3 standard</a:t>
            </a:r>
            <a:endParaRPr b="0" lang="en-US" sz="2000" spc="-1" strike="noStrike">
              <a:solidFill>
                <a:srgbClr val="000000"/>
              </a:solidFill>
              <a:latin typeface="Calibri"/>
            </a:endParaRPr>
          </a:p>
          <a:p>
            <a:pPr lvl="1" marL="743040" indent="-285840">
              <a:lnSpc>
                <a:spcPct val="100000"/>
              </a:lnSpc>
              <a:spcAft>
                <a:spcPts val="300"/>
              </a:spcAft>
              <a:buClr>
                <a:srgbClr val="000000"/>
              </a:buClr>
              <a:buFont typeface="Wingdings"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omment period for TPL-007-4 is open through 8 p.m. Eastern, September 9, 2019. ERCOT, TSPs and REs will submit comments separately.</a:t>
            </a:r>
            <a:endParaRPr b="0" lang="en-US" sz="1800" spc="-1" strike="noStrike">
              <a:solidFill>
                <a:srgbClr val="000000"/>
              </a:solidFill>
              <a:latin typeface="Calibri"/>
            </a:endParaRPr>
          </a:p>
          <a:p>
            <a:pPr marL="344520" indent="-344520">
              <a:lnSpc>
                <a:spcPct val="100000"/>
              </a:lnSpc>
              <a:spcBef>
                <a:spcPts val="451"/>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ext PGDTF meeting: September 12 at the Met Center (WebEx available)</a:t>
            </a:r>
            <a:endParaRPr b="0" lang="en-US" sz="1800" spc="-1" strike="noStrike">
              <a:solidFill>
                <a:srgbClr val="000000"/>
              </a:solidFill>
              <a:latin typeface="Calibri"/>
            </a:endParaRPr>
          </a:p>
          <a:p>
            <a:pPr marL="344520" indent="-344520">
              <a:lnSpc>
                <a:spcPct val="100000"/>
              </a:lnSpc>
              <a:spcBef>
                <a:spcPts val="451"/>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4520" indent="-344520">
              <a:lnSpc>
                <a:spcPct val="150000"/>
              </a:lnSpc>
              <a:spcAft>
                <a:spcPts val="300"/>
              </a:spcAft>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882A5-6839-41AC-A613-ACF63222BC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09" name="Footer Placeholder 6"/>
          <p:cNvSpPr/>
          <p:nvPr/>
        </p:nvSpPr>
        <p:spPr>
          <a:xfrm>
            <a:off x="3048120" y="624852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09/05/2019 ROS Meeting</a:t>
            </a:r>
            <a:endParaRPr b="0" lang="en-US" sz="1200" spc="-1" strike="noStrike">
              <a:solidFill>
                <a:srgbClr val="000000"/>
              </a:solidFill>
              <a:latin typeface="Arial"/>
            </a:endParaRPr>
          </a:p>
        </p:txBody>
      </p:sp>
      <p:sp>
        <p:nvSpPr>
          <p:cNvPr id="510" name="PlaceHolder 1"/>
          <p:cNvSpPr>
            <a:spLocks noGrp="1"/>
          </p:cNvSpPr>
          <p:nvPr>
            <p:ph type="title"/>
          </p:nvPr>
        </p:nvSpPr>
        <p:spPr>
          <a:xfrm>
            <a:off x="512280" y="380520"/>
            <a:ext cx="84582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GDTF Meeting </a:t>
            </a:r>
            <a:endParaRPr b="0" lang="en-US" sz="4400" spc="-1" strike="noStrike">
              <a:solidFill>
                <a:srgbClr val="000000"/>
              </a:solidFill>
              <a:latin typeface="Calibri"/>
            </a:endParaRPr>
          </a:p>
        </p:txBody>
      </p:sp>
      <p:sp>
        <p:nvSpPr>
          <p:cNvPr id="511" name="Straight Connector 8"/>
          <p:cNvSpPr/>
          <p:nvPr/>
        </p:nvSpPr>
        <p:spPr>
          <a:xfrm>
            <a:off x="380880" y="1139760"/>
            <a:ext cx="8520120" cy="3240"/>
          </a:xfrm>
          <a:prstGeom prst="line">
            <a:avLst/>
          </a:prstGeom>
          <a:ln w="25560">
            <a:solidFill>
              <a:srgbClr val="4a7ebb"/>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90440" y="5191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513" name=""/>
          <p:cNvSpPr txBox="1"/>
          <p:nvPr/>
        </p:nvSpPr>
        <p:spPr>
          <a:xfrm>
            <a:off x="457200" y="1736280"/>
            <a:ext cx="7696080" cy="4179960"/>
          </a:xfrm>
          <a:prstGeom prst="rect">
            <a:avLst/>
          </a:prstGeom>
          <a:noFill/>
          <a:ln w="0">
            <a:noFill/>
          </a:ln>
        </p:spPr>
        <p:txBody>
          <a:bodyPr anchor="t">
            <a:normAutofit/>
          </a:bodyPr>
          <a:p>
            <a:pPr lvl="1" marL="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DB0DA-13FE-4594-BE3F-D6C49BD1F4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15"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9/05/2019 ROS Meeting</a:t>
            </a:r>
            <a:endParaRPr b="0" lang="en-US" sz="1200" spc="-1" strike="noStrike">
              <a:solidFill>
                <a:srgbClr val="000000"/>
              </a:solidFill>
              <a:latin typeface="Arial"/>
            </a:endParaRPr>
          </a:p>
        </p:txBody>
      </p:sp>
      <p:pic>
        <p:nvPicPr>
          <p:cNvPr id="516" name="Picture 2" descr="question-mark3a.jpg"/>
          <p:cNvPicPr/>
          <p:nvPr/>
        </p:nvPicPr>
        <p:blipFill>
          <a:blip r:embed="rId1"/>
          <a:stretch/>
        </p:blipFill>
        <p:spPr>
          <a:xfrm>
            <a:off x="3236760" y="2206800"/>
            <a:ext cx="2670480" cy="331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14:40:13Z</dcterms:created>
  <dc:creator>Williams, Adrian</dc:creator>
  <dc:description/>
  <dc:language>en-US</dc:language>
  <cp:lastModifiedBy>s237448</cp:lastModifiedBy>
  <dcterms:modified xsi:type="dcterms:W3CDTF">2019-08-30T18:17:55Z</dcterms:modified>
  <cp:revision>502</cp:revision>
  <dc:subject/>
  <dc:title>PGDTF Update to RO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isual Markings Removed">
    <vt:lpwstr>No</vt:lpwstr>
  </property>
  <property fmtid="{D5CDD505-2E9C-101B-9397-08002B2CF9AE}" pid="3" name="bjDocumentLabelXML">
    <vt:lpwstr>&lt;?xml version="1.0" encoding="us-ascii"?&gt;&lt;sisl xmlns:xsi="http://www.w3.org/2001/XMLSchema-instance" xmlns:xsd="http://www.w3.org/2001/XMLSchema" sislVersion="0" policy="e9c0b8d7-bdb4-4fd3-b62a-f50327aaefce" origin="autoSelectedSuggestion" xmlns="http://w</vt:lpwstr>
  </property>
  <property fmtid="{D5CDD505-2E9C-101B-9397-08002B2CF9AE}" pid="4" name="bjDocumentLabelXML-0">
    <vt:lpwstr>ww.boldonjames.com/2008/01/sie/internal/label"&gt;&lt;element uid="936e22d5-45a7-4cb7-95ab-1aa8c7c88789" value="" /&gt;&lt;element uid="c64218ab-b8d1-40b6-a478-cb8be1e10ecc" value="" /&gt;&lt;/sisl&gt;</vt:lpwstr>
  </property>
  <property fmtid="{D5CDD505-2E9C-101B-9397-08002B2CF9AE}" pid="5" name="bjDocumentSecurityLabel">
    <vt:lpwstr>Uncategorized</vt:lpwstr>
  </property>
  <property fmtid="{D5CDD505-2E9C-101B-9397-08002B2CF9AE}" pid="6" name="bjSaver">
    <vt:lpwstr>2/FXmrNaN+biOnBF1Lp+9MxCcP/kNde0</vt:lpwstr>
  </property>
  <property fmtid="{D5CDD505-2E9C-101B-9397-08002B2CF9AE}" pid="7" name="docIndexRef">
    <vt:lpwstr>d8ebadff-d0da-4cf9-8a05-21e926d3e7c8</vt:lpwstr>
  </property>
</Properties>
</file>