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4142880" y="0"/>
            <a:ext cx="317052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5040" rIns="9504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12024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Arial"/>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6CBA7A2-3985-43D3-9FBA-793E634F35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E158C07-C525-4C46-83C6-643F059E1B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6" name="PlaceHolder 1"/>
          <p:cNvSpPr>
            <a:spLocks noGrp="1"/>
          </p:cNvSpPr>
          <p:nvPr>
            <p:ph type="sldImg"/>
          </p:nvPr>
        </p:nvSpPr>
        <p:spPr>
          <a:xfrm>
            <a:off x="1258920" y="720720"/>
            <a:ext cx="4797360" cy="359892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83B5E43-569C-40F5-80A1-8DB661A0906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9" name="PlaceHolder 1"/>
          <p:cNvSpPr>
            <a:spLocks noGrp="1"/>
          </p:cNvSpPr>
          <p:nvPr>
            <p:ph type="sldImg"/>
          </p:nvPr>
        </p:nvSpPr>
        <p:spPr>
          <a:xfrm>
            <a:off x="1258920" y="720720"/>
            <a:ext cx="4797360" cy="3598920"/>
          </a:xfrm>
          <a:prstGeom prst="rect">
            <a:avLst/>
          </a:prstGeom>
          <a:ln w="0">
            <a:noFill/>
          </a:ln>
        </p:spPr>
      </p:sp>
      <p:sp>
        <p:nvSpPr>
          <p:cNvPr id="1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2B3A736-3539-4408-9ACF-EC2D69FE818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2" name="PlaceHolder 1"/>
          <p:cNvSpPr>
            <a:spLocks noGrp="1"/>
          </p:cNvSpPr>
          <p:nvPr>
            <p:ph type="sldImg"/>
          </p:nvPr>
        </p:nvSpPr>
        <p:spPr>
          <a:xfrm>
            <a:off x="1258920" y="720720"/>
            <a:ext cx="4797360" cy="359892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32A6E5D-E00C-4BB1-BCA2-80F31FE86A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5" name="PlaceHolder 1"/>
          <p:cNvSpPr>
            <a:spLocks noGrp="1"/>
          </p:cNvSpPr>
          <p:nvPr>
            <p:ph type="sldImg"/>
          </p:nvPr>
        </p:nvSpPr>
        <p:spPr>
          <a:xfrm>
            <a:off x="1258920" y="720720"/>
            <a:ext cx="4797360" cy="359892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C5BAD29-3B0A-458E-86E2-783C86A5442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8" name="PlaceHolder 1"/>
          <p:cNvSpPr>
            <a:spLocks noGrp="1"/>
          </p:cNvSpPr>
          <p:nvPr>
            <p:ph type="sldImg"/>
          </p:nvPr>
        </p:nvSpPr>
        <p:spPr>
          <a:xfrm>
            <a:off x="1258920" y="720720"/>
            <a:ext cx="4797360" cy="359892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23AA8-C384-49B9-9D71-FC384DB3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EBEBE-2152-4280-BE0F-1632289B1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98A88-67AB-4A6A-B527-4B0D8F464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240DFA-4AF8-463B-8D17-8186C8F5A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E460C-EAB9-42E8-9246-340CF1C49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6DFDD-01DA-4AF0-AEAB-4BB4BA89F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B3F57-C9D3-449C-A23D-E4B21E01A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A63D4-3557-482D-8DA4-1A76898B1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AAD869-AC6F-4ADA-9249-FC9EF99BB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A3E9B-FB3A-456A-9C56-0C01D65E4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94E45-A4F8-48F5-94A3-CBC0C0AEB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AD6C4-1570-478D-9829-B62BF617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C4020-B9CA-4800-910F-87EA9AE3F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BE07E-13DB-441A-BCA7-66D02B82B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89269-865D-49DA-9007-AF215140E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0B31BA-BFB9-4783-B906-F074403E4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00C8D-A910-49C2-9A9C-064DC4F77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6CDB8-2E35-46E4-8984-E69403087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10AF1-BC3F-445E-AD09-99F5F3992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63658-AA49-4D09-80F5-EEEE0941D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B4238-8C97-405D-BE9B-B0C5C78F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88BB6-3C07-43A8-AC77-67C6D1C8F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A761-7B72-45F2-9633-378CF0A31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3D201-9F60-4DFD-AEBA-9AB58FC86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y 24, 2019</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47A44-0684-4263-BCEA-733F5C209E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uly 24, 2019</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B5D7F-1DE7-4903-864E-F29654A57A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ams@crescentpower.net"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685440"/>
            <a:ext cx="807696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9900"/>
                </a:solidFill>
                <a:latin typeface="Garamond"/>
              </a:rPr>
              <a:t>Maintaining Participation Factors as an Option</a:t>
            </a:r>
            <a:endParaRPr b="0" lang="en-US" sz="4000" spc="-1" strike="noStrike">
              <a:solidFill>
                <a:srgbClr val="999900"/>
              </a:solidFill>
              <a:latin typeface="Garamond"/>
            </a:endParaRPr>
          </a:p>
        </p:txBody>
      </p:sp>
      <p:sp>
        <p:nvSpPr>
          <p:cNvPr id="98" name="PlaceHolder 2"/>
          <p:cNvSpPr>
            <a:spLocks noGrp="1"/>
          </p:cNvSpPr>
          <p:nvPr>
            <p:ph type="subTitle"/>
          </p:nvPr>
        </p:nvSpPr>
        <p:spPr>
          <a:xfrm>
            <a:off x="609480" y="3270240"/>
            <a:ext cx="7848720" cy="220968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ms Siddiqi, Ph.D.</a:t>
            </a:r>
            <a:endParaRPr b="0" lang="en-US" sz="3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512) 619-3532</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Verdana"/>
                <a:hlinkClick r:id="rId1"/>
              </a:rPr>
              <a:t>shams@crescentpower.net</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AC Meeting</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uly 24, 2019</a:t>
            </a:r>
            <a:endParaRPr b="0" lang="en-US" sz="2000" spc="-1" strike="noStrike">
              <a:solidFill>
                <a:srgbClr val="000000"/>
              </a:solidFill>
              <a:latin typeface="Verdana"/>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y 24, 2019</a:t>
            </a:r>
            <a:endParaRPr b="0" lang="en-US" sz="1000" spc="-1" strike="noStrike">
              <a:solidFill>
                <a:srgbClr val="000000"/>
              </a:solidFill>
              <a:latin typeface="Verdana"/>
            </a:endParaRPr>
          </a:p>
        </p:txBody>
      </p:sp>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3CB1-121D-47A4-B241-EAD02E38A12E}"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articipation Factors (PFs)</a:t>
            </a:r>
            <a:endParaRPr b="0" lang="en-US" sz="4400" spc="-1" strike="noStrike">
              <a:solidFill>
                <a:srgbClr val="999900"/>
              </a:solidFill>
              <a:latin typeface="Garamond"/>
            </a:endParaRPr>
          </a:p>
        </p:txBody>
      </p:sp>
      <p:sp>
        <p:nvSpPr>
          <p:cNvPr id="102"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P 6.5.5.2(q) “Reg-Up and Reg-Down participation factors represent how a QSE is planning to deploy the Ancillary Service energy on a percentage basis to specific qualified Resource(s).”  </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Fs are used solely in real-time monitoring, GREDP, and Base Point Deviation calculations for Resources providing RUS and RDS – they have NO impact on SCED RTC outcomes or LFC deployment instruction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award of Ancillary Services every SCED interval by RTC is NOT impacted by using either no PFs or QSE-specified PF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 the future, most RUS and RDS will be provided by energy storage.</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Fs become very important tools to manage storage levels in deploying RUS and RDS for portfolios with storage resources since LFC has no other mechanism to account for storage level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LFC does NOT take into account congestion or economics in deploying RUS/RDS energy, allowing for PFs results in more economical and efficient RUS/RDS energy deployment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NO reliability concerns with current PFs and maintaining PF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taining PFs as an option allows QSEs to use PFs if required</a:t>
            </a:r>
            <a:endParaRPr b="0" lang="en-US" sz="1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y 24, 2019</a:t>
            </a:r>
            <a:endParaRPr b="0" lang="en-US" sz="1000" spc="-1" strike="noStrike">
              <a:solidFill>
                <a:srgbClr val="000000"/>
              </a:solidFill>
              <a:latin typeface="Verdana"/>
            </a:endParaRPr>
          </a:p>
        </p:txBody>
      </p:sp>
      <p:sp>
        <p:nvSpPr>
          <p:cNvPr id="1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9927-9DDD-42B8-8924-C8721FBA5D25}"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Maintaining PF as an Option</a:t>
            </a:r>
            <a:endParaRPr b="0" lang="en-US" sz="4400" spc="-1" strike="noStrike">
              <a:solidFill>
                <a:srgbClr val="999900"/>
              </a:solidFill>
              <a:latin typeface="Garamond"/>
            </a:endParaRPr>
          </a:p>
        </p:txBody>
      </p:sp>
      <p:sp>
        <p:nvSpPr>
          <p:cNvPr id="106"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TC and LFC would function exactly as described in the ERCOT proposal.</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SEs have the option of telemetering PFs – for all QSEs not exercising this option, there is no change to the ERCOT proposal (this can be implemented as default PFs proportional to awarded quantitie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QSEs that telemeter PFs, since there is a 8-45 second communication delay in ERCOT accepting telemetered PFs after each RTC run that are aligned with the RTC awards, the first few LFC cycles after each RTC run until aligned PFs are accepted by ERCOT, the QSE resources will be deployed and performance measured based on the exact LFC deployment (as in the ERCOT proposal).</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nce the aligned PFs have been accepted by ERCOT after each RTC run and until the next RTC run, real-time resource performance monitoring, GREDP, Base Point Deviation, etc. will all be measured using LFC deployments adjusted for telemetered PFs.</a:t>
            </a:r>
            <a:endParaRPr b="0" lang="en-US" sz="1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y 24, 2019</a:t>
            </a:r>
            <a:endParaRPr b="0" lang="en-US" sz="1000" spc="-1" strike="noStrike">
              <a:solidFill>
                <a:srgbClr val="000000"/>
              </a:solidFill>
              <a:latin typeface="Verdana"/>
            </a:endParaRPr>
          </a:p>
        </p:txBody>
      </p:sp>
      <p:sp>
        <p:nvSpPr>
          <p:cNvPr id="10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280B-46CB-41E4-BBA2-E25E848D40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Example of PF Usefulness</a:t>
            </a:r>
            <a:endParaRPr b="0" lang="en-US" sz="4400" spc="-1" strike="noStrike">
              <a:solidFill>
                <a:srgbClr val="999900"/>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mpressed Air Energy Storage (CAES) is registered both as a Generation Resource (GR) and Controllable Load Resource (CLR) and can provide AS both as GR and CLR at the same time – when awarded RUS for both, it’s more efficient to deploy RUS as CLR avoiding roundtrip losses &amp; gas burn – i.e. PF 0.1 on GR and 0.9 on CLR</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QSE portfolio of 2-hour storage resources at various POIs having 2-hr, 1-hr, and 5-min storage levels awarded RUS on all can manage RUS deployment by specifying PFs of say 0.6, 0.3, and 0.1, respectively. For RDS, PFs could be 0.1, 0.3, 0.6, respectively.</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Fs allow these resources to manage their storage levels and thereby be able to continuously provide RUS/RDS – otherwise the storage resource with 5-min storage providing RUS for a 5-min RTC interval would likely not be able to provide RUS for the next 5-min RTC interval</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intaining PFs under RTC as proposed here requires essentially the same real-time resource monitoring, GREDP, and Base Point Deviation calculations as are done today – No LFC performance concerns since LFC is not impacted</a:t>
            </a:r>
            <a:endParaRPr b="0" lang="en-US" sz="1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uly 24, 2019</a:t>
            </a:r>
            <a:endParaRPr b="0" lang="en-US" sz="1000" spc="-1" strike="noStrike">
              <a:solidFill>
                <a:srgbClr val="000000"/>
              </a:solidFill>
              <a:latin typeface="Verdana"/>
            </a:endParaRPr>
          </a:p>
        </p:txBody>
      </p:sp>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D04C-931C-48A4-9979-E67148DBEF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lusion: Maintain PF under RTC</a:t>
            </a:r>
            <a:endParaRPr b="0" lang="en-US" sz="4400" spc="-1" strike="noStrike">
              <a:solidFill>
                <a:srgbClr val="999900"/>
              </a:solidFill>
              <a:latin typeface="Garamond"/>
            </a:endParaRPr>
          </a:p>
        </p:txBody>
      </p:sp>
      <p:sp>
        <p:nvSpPr>
          <p:cNvPr id="114" name="PlaceHolder 2"/>
          <p:cNvSpPr>
            <a:spLocks noGrp="1"/>
          </p:cNvSpPr>
          <p:nvPr>
            <p:ph/>
          </p:nvPr>
        </p:nvSpPr>
        <p:spPr>
          <a:xfrm>
            <a:off x="457200" y="1447560"/>
            <a:ext cx="8229600" cy="4530600"/>
          </a:xfrm>
          <a:prstGeom prst="rect">
            <a:avLst/>
          </a:prstGeom>
          <a:noFill/>
          <a:ln w="0">
            <a:noFill/>
          </a:ln>
        </p:spPr>
        <p:txBody>
          <a:bodyPr anchor="t">
            <a:normAutofit/>
          </a:bodyPr>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intain PFs as an Option under RTC </a:t>
            </a:r>
            <a:r>
              <a:rPr b="0" lang="en-US" sz="1600" spc="-1" strike="noStrike">
                <a:solidFill>
                  <a:srgbClr val="000000"/>
                </a:solidFill>
                <a:latin typeface="Verdana"/>
              </a:rPr>
              <a:t>– maintaining PFs costs close to nothing but, once eliminated, it would be costly to reintroduce PFs </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Fs would be optional - default if no PFs are telemetered is exactly deployment amounts coming from LFC</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PFs are not used, then RUS/RDS deployments are exactly what comes from LFC and no design change is needed</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ith Energy Storage likely to provide the bulk of RUS/RDS capacity, PFs are likely to become vital tools to manage storage levels and continuously provide RUS/RD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are many other reasons to maintain PFs including differentials in ramp rates, congestion prices, marginal production costs, etc. and managing through transitions for coal and combined cycle plants</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 is no compelling reason to eliminate PFs </a:t>
            </a:r>
            <a:endParaRPr b="0" lang="en-US" sz="1600" spc="-1" strike="noStrike">
              <a:solidFill>
                <a:srgbClr val="000000"/>
              </a:solidFill>
              <a:latin typeface="Verdana"/>
            </a:endParaRPr>
          </a:p>
          <a:p>
            <a:pPr marL="345960" indent="-285480">
              <a:lnSpc>
                <a:spcPct val="95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nce this is a complex issue that has significant stakeholder support and that may be difficult for TAC to decipher from a short presentation, TAC could direct ERCOT and stakeholders to work on an implementation of this concept acceptable to all</a:t>
            </a:r>
            <a:endParaRPr b="0" lang="en-US" sz="1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3T21:38:03Z</dcterms:created>
  <dc:creator>ssiddiqi</dc:creator>
  <dc:description/>
  <dc:language>en-US</dc:language>
  <cp:lastModifiedBy>Shams Siddiqi</cp:lastModifiedBy>
  <dcterms:modified xsi:type="dcterms:W3CDTF">2019-07-17T15:46:55Z</dcterms:modified>
  <cp:revision>200</cp:revision>
  <dc:subject/>
  <dc:title>Locational Marginal Pricing: The Texas Nodal Market</dc:title>
</cp:coreProperties>
</file>