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9B673-0BF7-4212-A377-F34CCEECB4E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FD481-33A1-482A-A616-E84ED3D3D7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03644-0D4A-4DA7-A63B-D868EED588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47ABA-D4F0-49B2-B33C-B243D19CF0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94946-5A1A-4B6E-8A6D-117D732C6E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267A4-5C13-4CE1-91B8-E1E5F746FA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32D4C-E262-45C7-B78A-B28234E0D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8CE77-D593-44FF-8CE7-509E33A72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61E26D-9A65-49A7-BC31-0940B3D3C4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C88CB8-E3BA-4CE4-BA64-BB66B8AECB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625438-E286-4691-83FB-366DFF2DC8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CC7E32-D431-47F4-80E4-693DAF4699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5A1436-9B76-4980-8DA1-B39DCCEA1D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CEC5B7-85B6-4F18-8668-74C9F917C4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C60D4B-0C91-4353-9A73-749F679721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2DC15F-CD5E-4824-910B-E02CC9559D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E42AD3-AAE1-4CBE-BCE2-D519BCE721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DB4D697-FAC1-48FA-9EDE-C5D5C080003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EB423-E378-45AC-9E2A-29884032A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32FFD09-18B6-449F-979A-7ACA51711B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E72DF3-427B-4FC6-B5AB-EFE933A31D5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31C6CB-FC88-4509-AD26-E5D99137557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0A9EE0A-DA10-49F4-ABB2-3204099FA5E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9E6591-0118-4A6F-9F41-F99065575A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848497-12F6-48F2-ACA1-EA81B7E0BF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9A2D57-B274-4465-B101-5955AAB92B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3BE36B-1DA1-4292-A916-A532B2E81F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AD1342B-DC89-470D-A301-905293EF661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4DDF265-05AB-4693-9001-FCFD07412A8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9F0F5-9554-4F3E-8A3F-F3D50B7F2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CB7358D-A9D8-4294-A211-D1FA1AF8401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851B881-51D6-4D1F-A9DB-D949D7A24C7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4EBC7B-99FE-431F-8CA3-CF63AA2AAA8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C868C0C-A020-4AAB-AF11-210AF7B0EB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2D8FAC9-2E37-4DD6-A41A-9B1630626E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DF23C8A-BCDB-4CBE-997E-BC5F0586EFC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8E7C9E-31E6-4911-A078-9D5CA1CDE05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5F237B-9533-4717-AD34-B2A806A540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2A390B-4480-4757-9716-8041D95A7E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B272D2-E31E-483B-8FCE-59B023A4F3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795A28-D68B-43ED-847D-1D4CB698CD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074260-58E8-469F-84DF-2D729C73E43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84FA683-7486-4DEF-B641-A4C26BB4E35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32CE787-DE37-4667-B5AD-F3473630F38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C478824-27A6-4744-B04D-724CCB5DC2D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D226348-7675-46B3-A73D-0918FB0BAC9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A0013E0-FBC6-4691-94DC-A03836860A8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00726A3-2201-451D-A2B4-CCE018CEF0E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5EC5C0F-8434-49BC-9996-792EFFC1E08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CBF73C6-23F0-40A3-BA20-DE9D6C38F7D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3942823-EF88-4F11-B4A7-EDFFA77F3A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7F4A17-66DB-4E7D-A7A5-3B472975C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8AB619-02C8-441F-B6C4-B14F73B667A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79B863-8442-4806-8791-2F092F2864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89BFE56-9C2C-4D25-9FB5-020442CE866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26809E7-D0CB-4637-B072-C9D63471A10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3A14173-9F56-49CF-9B8C-50F21A4AC70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8FABF-80CF-4730-8E95-A654A1E65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59A35-8A1E-4BE3-93A2-2DEC46AC4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A5C91-EAD5-4DDC-896A-BF5CFCFA4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99626-D90C-4F1F-BF12-72AF0EAE0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2E382-D701-4BE1-80E1-63B80D590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958B9-A8D4-4211-AB2B-543C1B134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2CFB3-3B0C-4F42-B383-522594490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237BA-13C6-4D08-B651-F8FBD8F0E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FEB9B7-00C4-44DD-901D-EE547BCF7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37FAEE-41F6-497A-921C-CB1F635134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734F77-6090-455D-B8BB-EFAE4E00F5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F80D03-2553-42AD-9171-050E1E8A03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5F9D13-B275-4941-87C5-A654919A53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1F3F95-892C-41AA-A68F-E8BCC0DF79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9BC9CE-C603-436A-86E5-3286B918F4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2860BE-ABA0-49BA-9FAF-53B7CFE51F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87FC2-8B26-4286-9D79-E6EBD2B72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AA1F65-1D4B-4370-AFD8-B91602B739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86DB95-8AF1-42F1-B7F8-0B9E9E59BF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6259DD-22C6-4760-8315-9C54615DF2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22792F-785C-4D86-AEB2-8A8AFFB24F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D0A4D8-0218-4821-9168-997968EE60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85EFFB-FEFF-4DC0-A940-41FEBDF2AF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AD2640-7AB0-4A34-8EE8-4954985F7D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40DA68-37B1-4A34-9839-59FEE25778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DF3B3C-F2DA-466A-A73F-02F0434891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96DE30-03C7-43D8-ABA6-97A33BE4E3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D14B7-2545-44A1-AE02-DD278A35C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6CA875-DFA1-4E10-93DD-073A2B94D1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A22847-F418-44C7-A2BA-C3EBF323C5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C16A48-60A2-41C2-A32A-FCC0CCDF0E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9927EC-E674-4155-8310-1BF371A329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E1C90D-4B06-4F6F-85E6-F4A45B8F5E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0014FA-7477-4282-B4CF-1BE8839857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F4ED0A-3870-4932-97EE-26AC2C70D7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FAFD69-AB5A-41DC-8B51-ABCD401FAE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693B24-6DB7-4297-B518-DE541CF648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A71062-DEB3-477E-A8FB-D1D238034B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2A6B7-7C27-4CE0-A75C-0FCF579C3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F8D94B-E65B-491A-8D7D-0CA4AB4AD7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5F0FE3-3B2F-4494-8C49-679D3DA302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4F2A3E-BDEB-488D-817E-C954894EF7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60E374-EBC7-4CEC-ACB6-3FA3A3468E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D5B627-46CB-433F-B17B-0A87652BD7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429F16-038D-4F17-AC79-8848221C0A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A412F6-F9BC-421B-B473-6BF5DA0FD3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1679E4-0123-480C-A3AE-6D214163B9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403E3F-2CFC-49EB-8DFE-E478544612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68F4FE-BC2D-42B4-B52B-D30C1EF28C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A2AA1-E490-4C00-A3DA-5AEA506BF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4EEBAE-ED7F-40AE-8AD6-D6670C7883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6C9258-BE5A-405C-B8A5-FFEB33EC8C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BFD382-4EFB-47BB-BA97-3B0CC368F1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91C1BF-0469-45D6-8222-E1367FC8FD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0E0AF4-B953-46AD-B506-6625402BE8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30B6E6-DBF7-40A2-AAFC-4BB3C9E646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AD0D27-15D4-46F8-8BDE-7AD81D015F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EEA39B-3821-421F-843D-C6CF18EF03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48C625-0807-4175-B0EA-255A0B03C3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E4E017-3EFD-4284-947D-541AC67527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6B7AF-CD84-4C4B-BFE2-20F03AF9C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3DB774-E214-4E5F-83BD-B70521FE55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D81398-C0B9-41E7-9F48-A8C195B951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D76FE2-AE1D-4484-B0A1-6BD0533AA0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655599-D769-40AA-B56F-57392FA9F6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FA824E-EEED-445E-A2EB-BB01E940C2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5044EA-94FD-4FBB-9C0C-E3E592E06D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4EF55F-6B40-4B68-8859-57118D5AFA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94B498-7B9E-47DA-BB44-E72773580D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44D0D4-85CE-4A4D-AB53-55357B8175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019E71-C091-47E8-9AA9-686B537128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F0738-B492-49DF-8210-E08A493CF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CA7667-2ABE-4058-83B3-677F89392A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E7CB8E-1B5E-4BFA-A858-E34B24BDCC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CBC140-544C-41D2-945C-B84B4BA009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A528C5-E657-46CB-B984-363626E71A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42B37A-7087-44D2-8F08-5544572EBA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C08B09-CE90-406B-BEB1-564FD1ED03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785611-DA07-422F-8AC6-BD440F0EF5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DDAEA7-70DC-424E-BCE6-94A8F9A9E7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B54464-F0A0-485D-9744-B798D02274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15BBA2-6E76-4722-BF97-FBC427C245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DCCD7-8F0F-48D7-A773-829B39F85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0A1587-0979-44BB-B086-539A527CFF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BB7057-5BCB-4B45-980F-5A82D2F687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FAFE34-55F6-46D5-9095-D02CF6C943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E5BC4B-9D7D-4F02-943F-26B3986071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A573DF-C313-48F1-8C73-7C61014AD4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3F95E45-AD4C-40F8-9A24-EF59109529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B2DF36-C37E-4F6F-BBD8-F2A655BCFA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F7D093-A7D6-4F56-90EA-08D5AC17B7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B35C83-67E4-4129-816F-2A89631857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0E7E36-0EA1-4FF6-98A1-802BB26554A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C50D0-A5BE-4576-87E0-BEB87898E410}"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a:t>
            </a:r>
            <a:fld id="{091F2A61-FA97-4529-ABC3-FF65933D132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328E6-7FC9-4E7F-8C60-1C4BCAC61F04}"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17EF3-716C-40B1-B9AF-9417CC6C67B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4846A-1B21-48BD-8CE1-9C0B8BF30512}"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3A19F-B4E0-4952-B214-C8ACFA5CBDC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35F9F-B8A2-415E-84B5-CC46C130D0C3}"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DA1CC-2511-45DC-B583-83D1ED523CB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7D682-FF76-4926-871B-3761F50E2377}"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F40ED-816E-483A-A304-699EFE2962A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E19B0-9523-4FF0-A35C-767814C1D893}"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7D575-E078-434C-A903-200430821C9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AF8E-594F-495D-BADB-A7C8F442B50D}"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A47C6-1886-44F4-B2A4-0DC887CE473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879A5-E556-4E23-8880-040D08E0B46B}"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F8BEF-DA6A-4DEA-88F5-B780FABEFCA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6FB00-97A4-436C-8D8E-A1B80925DFD1}"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6E777-F973-4305-AB80-463437B71B5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897FC-9248-42CE-A5A9-1ED36A9C2996}"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16ED1-60D4-44F4-8473-D7A432C779D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ED198-155F-4595-A4B4-B24553B4EFD7}"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D4007-1812-4DCE-A225-9594FE3467D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AAA6-41EA-499F-9DC3-B64C2208A5EA}"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CA164-3D4E-4215-83B9-E6BC9C0C60C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49080" y="1143000"/>
            <a:ext cx="70866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00"/>
                </a:solidFill>
                <a:latin typeface="Times New Roman"/>
                <a:ea typeface="Times New Roman"/>
              </a:rPr>
              <a:t>Planning Geomagnetic Disturbance Task Force (PGDTF)</a:t>
            </a:r>
            <a:br>
              <a:rPr sz="3600"/>
            </a:br>
            <a:r>
              <a:rPr b="0" lang="en-US" sz="3600" spc="-1" strike="noStrike">
                <a:solidFill>
                  <a:srgbClr val="000000"/>
                </a:solidFill>
                <a:latin typeface="Times New Roman"/>
                <a:ea typeface="Times New Roman"/>
              </a:rPr>
              <a:t> Update to ROS</a:t>
            </a:r>
            <a:br>
              <a:rPr sz="3600"/>
            </a:br>
            <a:endParaRPr b="0" lang="en-US" sz="3600" spc="-1" strike="noStrike">
              <a:solidFill>
                <a:srgbClr val="000000"/>
              </a:solidFill>
              <a:latin typeface="Calibri"/>
            </a:endParaRPr>
          </a:p>
        </p:txBody>
      </p:sp>
      <p:sp>
        <p:nvSpPr>
          <p:cNvPr id="500" name="PlaceHolder 2"/>
          <p:cNvSpPr>
            <a:spLocks noGrp="1"/>
          </p:cNvSpPr>
          <p:nvPr>
            <p:ph type="subTitle"/>
          </p:nvPr>
        </p:nvSpPr>
        <p:spPr>
          <a:xfrm>
            <a:off x="1371600" y="2895480"/>
            <a:ext cx="6400800" cy="15242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Times New Roman"/>
                <a:ea typeface="Times New Roman"/>
              </a:rPr>
              <a:t>July 11, 2019</a:t>
            </a:r>
            <a:endParaRPr b="0" lang="en-US" sz="22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ea typeface="Times New Roman"/>
              </a:rPr>
              <a:t>Aster Amahatsion </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ea typeface="Times New Roman"/>
              </a:rPr>
              <a:t>2019 PGDTF Chair</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 </a:t>
            </a:r>
            <a:endParaRPr b="0" lang="en-US" sz="3200" spc="-1" strike="noStrike">
              <a:solidFill>
                <a:srgbClr val="000000"/>
              </a:solidFill>
              <a:latin typeface="Calibri"/>
            </a:endParaRPr>
          </a:p>
        </p:txBody>
      </p:sp>
      <p:sp>
        <p:nvSpPr>
          <p:cNvPr id="50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B452D-EB18-4030-8829-B5AA4C5F6A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304920"/>
            <a:ext cx="84582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GDTF Meeting </a:t>
            </a:r>
            <a:br>
              <a:rPr sz="4400"/>
            </a:br>
            <a:endParaRPr b="0" lang="en-US" sz="4400" spc="-1" strike="noStrike">
              <a:solidFill>
                <a:srgbClr val="000000"/>
              </a:solidFill>
              <a:latin typeface="Calibri"/>
            </a:endParaRPr>
          </a:p>
        </p:txBody>
      </p:sp>
      <p:sp>
        <p:nvSpPr>
          <p:cNvPr id="503" name=""/>
          <p:cNvSpPr txBox="1"/>
          <p:nvPr/>
        </p:nvSpPr>
        <p:spPr>
          <a:xfrm>
            <a:off x="341280" y="1266480"/>
            <a:ext cx="8461440" cy="5289480"/>
          </a:xfrm>
          <a:prstGeom prst="rect">
            <a:avLst/>
          </a:prstGeom>
          <a:noFill/>
          <a:ln w="0">
            <a:noFill/>
          </a:ln>
        </p:spPr>
        <p:txBody>
          <a:bodyPr anchor="t">
            <a:normAutofit/>
          </a:bodyPr>
          <a:p>
            <a:pPr marL="341280" indent="-3412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meeting was held on June 11</a:t>
            </a:r>
            <a:r>
              <a:rPr b="0" lang="en-US" sz="2000" spc="-1" strike="noStrike" baseline="30000">
                <a:solidFill>
                  <a:srgbClr val="000000"/>
                </a:solidFill>
                <a:latin typeface="Times New Roman"/>
                <a:ea typeface="Times New Roman"/>
              </a:rPr>
              <a:t>th </a:t>
            </a:r>
            <a:r>
              <a:rPr b="0" lang="en-US" sz="2000" spc="-1" strike="noStrike">
                <a:solidFill>
                  <a:srgbClr val="000000"/>
                </a:solidFill>
                <a:latin typeface="Times New Roman"/>
                <a:ea typeface="Times New Roman"/>
              </a:rPr>
              <a:t>,</a:t>
            </a:r>
            <a:r>
              <a:rPr b="0" lang="en-US" sz="2000" spc="-1" strike="noStrike" baseline="30000">
                <a:solidFill>
                  <a:srgbClr val="000000"/>
                </a:solidFill>
                <a:latin typeface="Times New Roman"/>
                <a:ea typeface="Times New Roman"/>
              </a:rPr>
              <a:t> </a:t>
            </a:r>
            <a:r>
              <a:rPr b="0" lang="en-US" sz="2000" spc="-1" strike="noStrike">
                <a:solidFill>
                  <a:srgbClr val="000000"/>
                </a:solidFill>
                <a:latin typeface="Times New Roman"/>
                <a:ea typeface="Times New Roman"/>
              </a:rPr>
              <a:t>2019</a:t>
            </a:r>
            <a:endParaRPr b="0" lang="en-US" sz="2000" spc="-1" strike="noStrike">
              <a:solidFill>
                <a:srgbClr val="000000"/>
              </a:solidFill>
              <a:latin typeface="Calibri"/>
            </a:endParaRPr>
          </a:p>
          <a:p>
            <a:pPr marL="341280" indent="-3412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scussed Federal and State activities regarding GMD</a:t>
            </a:r>
            <a:endParaRPr b="0" lang="en-US" sz="2000" spc="-1" strike="noStrike">
              <a:solidFill>
                <a:srgbClr val="000000"/>
              </a:solidFill>
              <a:latin typeface="Calibri"/>
            </a:endParaRPr>
          </a:p>
          <a:p>
            <a:pPr lvl="1" marL="685800" indent="-28584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PL-007-4 is currently being drafted, the new revision will add one more requirement to the standard. The new requirement deals with development and implantation of corrective action plans to mitigate assessed supplemental GMD event vulnerabilities. </a:t>
            </a:r>
            <a:endParaRPr b="0" lang="en-US" sz="1600" spc="-1" strike="noStrike">
              <a:solidFill>
                <a:srgbClr val="000000"/>
              </a:solidFill>
              <a:latin typeface="Calibri"/>
            </a:endParaRPr>
          </a:p>
          <a:p>
            <a:pPr lvl="1" marL="685800" indent="-28584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1280" indent="-3412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IC 2022 SSWG summer peak/min case building update</a:t>
            </a:r>
            <a:endParaRPr b="0" lang="en-US" sz="2000" spc="-1" strike="noStrike">
              <a:solidFill>
                <a:srgbClr val="000000"/>
              </a:solidFill>
              <a:latin typeface="Calibri"/>
            </a:endParaRPr>
          </a:p>
          <a:p>
            <a:pPr lvl="1" marL="685800" indent="-285840">
              <a:lnSpc>
                <a:spcPct val="15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RCOT presented on the 2019 GIC model building status</a:t>
            </a:r>
            <a:endParaRPr b="0" lang="en-US" sz="1600" spc="-1" strike="noStrike">
              <a:solidFill>
                <a:srgbClr val="000000"/>
              </a:solidFill>
              <a:latin typeface="Calibri"/>
            </a:endParaRPr>
          </a:p>
          <a:p>
            <a:pPr lvl="1" marL="685800" indent="-285840">
              <a:lnSpc>
                <a:spcPct val="15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SPs and ERCOT went through modeling data issues </a:t>
            </a:r>
            <a:endParaRPr b="0" lang="en-US" sz="1600" spc="-1" strike="noStrike">
              <a:solidFill>
                <a:srgbClr val="000000"/>
              </a:solidFill>
              <a:latin typeface="Calibri"/>
            </a:endParaRPr>
          </a:p>
          <a:p>
            <a:pPr lvl="1" marL="685800" indent="-285840">
              <a:lnSpc>
                <a:spcPct val="15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odelling data update for the GIC model  was ended on 07/05/2019</a:t>
            </a:r>
            <a:endParaRPr b="0" lang="en-US" sz="1600" spc="-1" strike="noStrike">
              <a:solidFill>
                <a:srgbClr val="000000"/>
              </a:solidFill>
              <a:latin typeface="Calibri"/>
            </a:endParaRPr>
          </a:p>
          <a:p>
            <a:pPr lvl="1" marL="68580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68580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1280" indent="-3412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8FDE7-8A1F-4580-9B7D-20676915D7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05"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7/11/2019 ROS Meeting</a:t>
            </a:r>
            <a:endParaRPr b="0" lang="en-US" sz="1200" spc="-1" strike="noStrike">
              <a:solidFill>
                <a:srgbClr val="000000"/>
              </a:solidFill>
              <a:latin typeface="Arial"/>
            </a:endParaRPr>
          </a:p>
        </p:txBody>
      </p:sp>
      <p:sp>
        <p:nvSpPr>
          <p:cNvPr id="506" name="Straight Connector 6"/>
          <p:cNvSpPr/>
          <p:nvPr/>
        </p:nvSpPr>
        <p:spPr>
          <a:xfrm>
            <a:off x="457200" y="990720"/>
            <a:ext cx="8521560" cy="2880"/>
          </a:xfrm>
          <a:prstGeom prst="line">
            <a:avLst/>
          </a:prstGeom>
          <a:ln w="25560">
            <a:solidFill>
              <a:srgbClr val="4a7ebb"/>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152280" y="1196640"/>
            <a:ext cx="8839440" cy="5365800"/>
          </a:xfrm>
          <a:prstGeom prst="rect">
            <a:avLst/>
          </a:prstGeom>
          <a:noFill/>
          <a:ln w="0">
            <a:noFill/>
          </a:ln>
        </p:spPr>
        <p:txBody>
          <a:bodyPr anchor="t">
            <a:normAutofit/>
          </a:bodyPr>
          <a:p>
            <a:pPr marL="341280" indent="-3412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ea typeface="Times New Roman"/>
              </a:rPr>
              <a:t>Discussed NERC TPL-007-3 Requirments R11 and R12</a:t>
            </a:r>
            <a:endParaRPr b="0" lang="en-US" sz="2200" spc="-1" strike="noStrike">
              <a:solidFill>
                <a:srgbClr val="000000"/>
              </a:solidFill>
              <a:latin typeface="Calibri"/>
            </a:endParaRPr>
          </a:p>
          <a:p>
            <a:pPr lvl="1" marL="982800" indent="-343080">
              <a:lnSpc>
                <a:spcPct val="100000"/>
              </a:lnSpc>
              <a:spcBef>
                <a:spcPts val="601"/>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quirements R11 and R12 are for implementing a process to obtain GIC and  geomagnetic field data from at least one GIC monitor and one magnetometer located in the Planning Coordinator's  area respectively. The data are required for model validation and situational awareness.</a:t>
            </a:r>
            <a:endParaRPr b="0" lang="en-US" sz="2200" spc="-1" strike="noStrike">
              <a:solidFill>
                <a:srgbClr val="000000"/>
              </a:solidFill>
              <a:latin typeface="Calibri"/>
            </a:endParaRPr>
          </a:p>
          <a:p>
            <a:pPr lvl="1" marL="982800" indent="-343080">
              <a:lnSpc>
                <a:spcPct val="100000"/>
              </a:lnSpc>
              <a:spcBef>
                <a:spcPts val="601"/>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compliance dead line for these requirements is July 01, 2021</a:t>
            </a:r>
            <a:endParaRPr b="0" lang="en-US" sz="2200" spc="-1" strike="noStrike">
              <a:solidFill>
                <a:srgbClr val="000000"/>
              </a:solidFill>
              <a:latin typeface="Calibri"/>
            </a:endParaRPr>
          </a:p>
          <a:p>
            <a:pPr lvl="1" marL="982800" indent="-343080">
              <a:lnSpc>
                <a:spcPct val="100000"/>
              </a:lnSpc>
              <a:spcBef>
                <a:spcPts val="601"/>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RCOT will start drafting the process in the first quarter of 2020</a:t>
            </a:r>
            <a:endParaRPr b="0" lang="en-US" sz="2200" spc="-1" strike="noStrike">
              <a:solidFill>
                <a:srgbClr val="000000"/>
              </a:solidFill>
              <a:latin typeface="Calibri"/>
            </a:endParaRPr>
          </a:p>
          <a:p>
            <a:pPr lvl="1" marL="982800" indent="-343080">
              <a:lnSpc>
                <a:spcPct val="100000"/>
              </a:lnSpc>
              <a:spcBef>
                <a:spcPts val="601"/>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vailability of the monitors in ERCOT</a:t>
            </a:r>
            <a:endParaRPr b="0" lang="en-US" sz="2200" spc="-1" strike="noStrike">
              <a:solidFill>
                <a:srgbClr val="000000"/>
              </a:solidFill>
              <a:latin typeface="Calibri"/>
            </a:endParaRPr>
          </a:p>
          <a:p>
            <a:pPr lvl="2" marL="1325520" indent="-285840">
              <a:lnSpc>
                <a:spcPct val="100000"/>
              </a:lnSpc>
              <a:spcBef>
                <a:spcPts val="601"/>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me TSPs have installed GIC monitors in their transformer neutrals</a:t>
            </a:r>
            <a:endParaRPr b="0" lang="en-US" sz="2000" spc="-1" strike="noStrike">
              <a:solidFill>
                <a:srgbClr val="000000"/>
              </a:solidFill>
              <a:latin typeface="Calibri"/>
            </a:endParaRPr>
          </a:p>
          <a:p>
            <a:pPr lvl="2" marL="1325520" indent="-285840">
              <a:lnSpc>
                <a:spcPct val="100000"/>
              </a:lnSpc>
              <a:spcBef>
                <a:spcPts val="601"/>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exas A&amp;M are installing magnetometers  </a:t>
            </a:r>
            <a:endParaRPr b="0" lang="en-US" sz="2000" spc="-1" strike="noStrike">
              <a:solidFill>
                <a:srgbClr val="000000"/>
              </a:solidFill>
              <a:latin typeface="Calibri"/>
            </a:endParaRPr>
          </a:p>
          <a:p>
            <a:pPr lvl="1" marL="982800" indent="-343080">
              <a:lnSpc>
                <a:spcPct val="100000"/>
              </a:lnSpc>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7/11/2019 ROS Meeting </a:t>
            </a:r>
            <a:endParaRPr b="0" lang="en-US" sz="1200" spc="-1" strike="noStrike">
              <a:solidFill>
                <a:srgbClr val="000000"/>
              </a:solidFill>
              <a:latin typeface="Arial"/>
            </a:endParaRPr>
          </a:p>
        </p:txBody>
      </p:sp>
      <p:sp>
        <p:nvSpPr>
          <p:cNvPr id="5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7DFC1-B6E4-4D96-9D43-CFB21884E7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10" name="PlaceHolder 1"/>
          <p:cNvSpPr>
            <a:spLocks noGrp="1"/>
          </p:cNvSpPr>
          <p:nvPr>
            <p:ph type="title"/>
          </p:nvPr>
        </p:nvSpPr>
        <p:spPr>
          <a:xfrm>
            <a:off x="542520" y="380520"/>
            <a:ext cx="84582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GDTF Meeting </a:t>
            </a:r>
            <a:br>
              <a:rPr sz="4400"/>
            </a:br>
            <a:endParaRPr b="0" lang="en-US" sz="4400" spc="-1" strike="noStrike">
              <a:solidFill>
                <a:srgbClr val="000000"/>
              </a:solidFill>
              <a:latin typeface="Calibri"/>
            </a:endParaRPr>
          </a:p>
        </p:txBody>
      </p:sp>
      <p:sp>
        <p:nvSpPr>
          <p:cNvPr id="511" name="Straight Connector 6"/>
          <p:cNvSpPr/>
          <p:nvPr/>
        </p:nvSpPr>
        <p:spPr>
          <a:xfrm>
            <a:off x="542880" y="911160"/>
            <a:ext cx="8520120" cy="3240"/>
          </a:xfrm>
          <a:prstGeom prst="line">
            <a:avLst/>
          </a:prstGeom>
          <a:ln w="25560">
            <a:solidFill>
              <a:srgbClr val="4a7ebb"/>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81000" y="1491840"/>
            <a:ext cx="9067680" cy="5365800"/>
          </a:xfrm>
          <a:prstGeom prst="rect">
            <a:avLst/>
          </a:prstGeom>
          <a:noFill/>
          <a:ln w="0">
            <a:noFill/>
          </a:ln>
        </p:spPr>
        <p:txBody>
          <a:bodyPr anchor="t">
            <a:normAutofit/>
          </a:bodyPr>
          <a:p>
            <a:pPr marL="457200" indent="-342720">
              <a:lnSpc>
                <a:spcPct val="100000"/>
              </a:lnSpc>
              <a:spcAft>
                <a:spcPts val="300"/>
              </a:spcAft>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ing ROS approved methodology for assessing GMD impacts on power systems</a:t>
            </a:r>
            <a:endParaRPr b="0" lang="en-US" sz="2400" spc="-1" strike="noStrike">
              <a:solidFill>
                <a:srgbClr val="000000"/>
              </a:solidFill>
              <a:latin typeface="Calibri"/>
            </a:endParaRPr>
          </a:p>
          <a:p>
            <a:pPr lvl="1" marL="857160" indent="-342720">
              <a:lnSpc>
                <a:spcPct val="100000"/>
              </a:lnSpc>
              <a:spcAft>
                <a:spcPts val="300"/>
              </a:spcAft>
              <a:buClr>
                <a:srgbClr val="000000"/>
              </a:buClr>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d workshop on GMD Harmonics Impacts on Protection System on May meeting, the presenters include industry experts from EPRI, SEL, IEEE working group, Brazos Electric and also TSPs sharing their approach on development of potential GMD Events </a:t>
            </a:r>
            <a:endParaRPr b="0" lang="en-US" sz="2000" spc="-1" strike="noStrike">
              <a:solidFill>
                <a:srgbClr val="000000"/>
              </a:solidFill>
              <a:latin typeface="Calibri"/>
            </a:endParaRPr>
          </a:p>
          <a:p>
            <a:pPr lvl="1" marL="857160" indent="-342720">
              <a:lnSpc>
                <a:spcPct val="100000"/>
              </a:lnSpc>
              <a:spcAft>
                <a:spcPts val="300"/>
              </a:spcAft>
              <a:buClr>
                <a:srgbClr val="000000"/>
              </a:buClr>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GDTF drafted and reviewed the methodology</a:t>
            </a:r>
            <a:endParaRPr b="0" lang="en-US" sz="2000" spc="-1" strike="noStrike">
              <a:solidFill>
                <a:srgbClr val="000000"/>
              </a:solidFill>
              <a:latin typeface="Calibri"/>
            </a:endParaRPr>
          </a:p>
          <a:p>
            <a:pPr lvl="1" marL="857160" indent="-342720">
              <a:lnSpc>
                <a:spcPct val="100000"/>
              </a:lnSpc>
              <a:spcAft>
                <a:spcPts val="300"/>
              </a:spcAft>
              <a:buClr>
                <a:srgbClr val="000000"/>
              </a:buClr>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Protection Working Group will also review the draft in their July meeting</a:t>
            </a:r>
            <a:endParaRPr b="0" lang="en-US" sz="2000" spc="-1" strike="noStrike">
              <a:solidFill>
                <a:srgbClr val="000000"/>
              </a:solidFill>
              <a:latin typeface="Calibri"/>
            </a:endParaRPr>
          </a:p>
          <a:p>
            <a:pPr marL="457200" indent="-342720">
              <a:lnSpc>
                <a:spcPct val="100000"/>
              </a:lnSpc>
              <a:spcBef>
                <a:spcPts val="451"/>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342720">
              <a:lnSpc>
                <a:spcPct val="100000"/>
              </a:lnSpc>
              <a:spcBef>
                <a:spcPts val="451"/>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342720">
              <a:lnSpc>
                <a:spcPct val="100000"/>
              </a:lnSpc>
              <a:spcBef>
                <a:spcPts val="451"/>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ext PGDTF meeting: July 17 at the Met Center (WebEx available)</a:t>
            </a:r>
            <a:endParaRPr b="0" lang="en-US" sz="1800" spc="-1" strike="noStrike">
              <a:solidFill>
                <a:srgbClr val="000000"/>
              </a:solidFill>
              <a:latin typeface="Calibri"/>
            </a:endParaRPr>
          </a:p>
          <a:p>
            <a:pPr marL="457200" indent="-342720">
              <a:lnSpc>
                <a:spcPct val="100000"/>
              </a:lnSpc>
              <a:spcBef>
                <a:spcPts val="451"/>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342720">
              <a:lnSpc>
                <a:spcPct val="150000"/>
              </a:lnSpc>
              <a:spcAft>
                <a:spcPts val="300"/>
              </a:spcAft>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6A98B-D8AB-4869-B4B1-FEFC84DD6E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14"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7/11/2019 ROS Meeting</a:t>
            </a:r>
            <a:endParaRPr b="0" lang="en-US" sz="1200" spc="-1" strike="noStrike">
              <a:solidFill>
                <a:srgbClr val="000000"/>
              </a:solidFill>
              <a:latin typeface="Arial"/>
            </a:endParaRPr>
          </a:p>
        </p:txBody>
      </p:sp>
      <p:sp>
        <p:nvSpPr>
          <p:cNvPr id="515" name="PlaceHolder 1"/>
          <p:cNvSpPr>
            <a:spLocks noGrp="1"/>
          </p:cNvSpPr>
          <p:nvPr>
            <p:ph type="title"/>
          </p:nvPr>
        </p:nvSpPr>
        <p:spPr>
          <a:xfrm>
            <a:off x="512280" y="380520"/>
            <a:ext cx="84582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GDTF Meeting </a:t>
            </a:r>
            <a:endParaRPr b="0" lang="en-US" sz="4400" spc="-1" strike="noStrike">
              <a:solidFill>
                <a:srgbClr val="000000"/>
              </a:solidFill>
              <a:latin typeface="Calibri"/>
            </a:endParaRPr>
          </a:p>
        </p:txBody>
      </p:sp>
      <p:sp>
        <p:nvSpPr>
          <p:cNvPr id="516" name="Straight Connector 8"/>
          <p:cNvSpPr/>
          <p:nvPr/>
        </p:nvSpPr>
        <p:spPr>
          <a:xfrm>
            <a:off x="380880" y="1139760"/>
            <a:ext cx="8520120" cy="3240"/>
          </a:xfrm>
          <a:prstGeom prst="line">
            <a:avLst/>
          </a:prstGeom>
          <a:ln w="25560">
            <a:solidFill>
              <a:srgbClr val="4a7ebb"/>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90440" y="5191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sp>
        <p:nvSpPr>
          <p:cNvPr id="518" name=""/>
          <p:cNvSpPr txBox="1"/>
          <p:nvPr/>
        </p:nvSpPr>
        <p:spPr>
          <a:xfrm>
            <a:off x="457200" y="1736280"/>
            <a:ext cx="7696080" cy="4179960"/>
          </a:xfrm>
          <a:prstGeom prst="rect">
            <a:avLst/>
          </a:prstGeom>
          <a:noFill/>
          <a:ln w="0">
            <a:noFill/>
          </a:ln>
        </p:spPr>
        <p:txBody>
          <a:bodyPr anchor="t">
            <a:normAutofit/>
          </a:bodyPr>
          <a:p>
            <a:pPr lvl="1" marL="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FC896-91D6-40C1-820C-BB86437EE5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20"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1/2019 ROS Meeting</a:t>
            </a:r>
            <a:endParaRPr b="0" lang="en-US" sz="1200" spc="-1" strike="noStrike">
              <a:solidFill>
                <a:srgbClr val="000000"/>
              </a:solidFill>
              <a:latin typeface="Arial"/>
            </a:endParaRPr>
          </a:p>
        </p:txBody>
      </p:sp>
      <p:pic>
        <p:nvPicPr>
          <p:cNvPr id="521" name="Picture 2" descr="question-mark3a.jpg"/>
          <p:cNvPicPr/>
          <p:nvPr/>
        </p:nvPicPr>
        <p:blipFill>
          <a:blip r:embed="rId1"/>
          <a:stretch/>
        </p:blipFill>
        <p:spPr>
          <a:xfrm>
            <a:off x="3236760" y="2206800"/>
            <a:ext cx="2670480" cy="331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6T14:40:13Z</dcterms:created>
  <dc:creator>Williams, Adrian</dc:creator>
  <dc:description/>
  <dc:language>en-US</dc:language>
  <cp:lastModifiedBy>s237448</cp:lastModifiedBy>
  <dcterms:modified xsi:type="dcterms:W3CDTF">2019-07-09T14:21:36Z</dcterms:modified>
  <cp:revision>479</cp:revision>
  <dc:subject/>
  <dc:title>PGDTF Update to RO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isual Markings Removed">
    <vt:lpwstr>No</vt:lpwstr>
  </property>
  <property fmtid="{D5CDD505-2E9C-101B-9397-08002B2CF9AE}" pid="3" name="bjDocumentLabelXML">
    <vt:lpwstr>&lt;?xml version="1.0" encoding="us-ascii"?&gt;&lt;sisl xmlns:xsi="http://www.w3.org/2001/XMLSchema-instance" xmlns:xsd="http://www.w3.org/2001/XMLSchema" sislVersion="0" policy="e9c0b8d7-bdb4-4fd3-b62a-f50327aaefce" origin="autoSelectedSuggestion" xmlns="http://w</vt:lpwstr>
  </property>
  <property fmtid="{D5CDD505-2E9C-101B-9397-08002B2CF9AE}" pid="4" name="bjDocumentLabelXML-0">
    <vt:lpwstr>ww.boldonjames.com/2008/01/sie/internal/label"&gt;&lt;element uid="936e22d5-45a7-4cb7-95ab-1aa8c7c88789" value="" /&gt;&lt;element uid="c64218ab-b8d1-40b6-a478-cb8be1e10ecc" value="" /&gt;&lt;/sisl&gt;</vt:lpwstr>
  </property>
  <property fmtid="{D5CDD505-2E9C-101B-9397-08002B2CF9AE}" pid="5" name="bjDocumentSecurityLabel">
    <vt:lpwstr>Uncategorized</vt:lpwstr>
  </property>
  <property fmtid="{D5CDD505-2E9C-101B-9397-08002B2CF9AE}" pid="6" name="bjSaver">
    <vt:lpwstr>2/FXmrNaN+biOnBF1Lp+9MxCcP/kNde0</vt:lpwstr>
  </property>
  <property fmtid="{D5CDD505-2E9C-101B-9397-08002B2CF9AE}" pid="7" name="docIndexRef">
    <vt:lpwstr>d8ebadff-d0da-4cf9-8a05-21e926d3e7c8</vt:lpwstr>
  </property>
</Properties>
</file>