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19C-0003-49D8-BCF0-0358EBD1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836-BEB6-46AE-B6EA-894D7CA2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C8E-16FB-4B81-8F6E-6803ADB2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26B-A134-4FB3-908E-E080BAA0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C6D-1F77-40F6-A3A1-E0B52D53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383-AE34-42FD-A091-C2F335F4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C1A-5604-468D-AB94-4F57BC9E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F42-3DFB-4DDE-9C28-ED79065D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C5C-CC34-42F3-9DF1-0B067BDA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4A1-52D7-4013-A0F2-0E36B46F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9D6-135B-4DEC-860C-CCCB1708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911-8BDC-4199-9B40-16B5B14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3A48-DF1F-4B05-A4FE-4AD4A60B2C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3ECB-3BF0-4A5A-AA6B-B932CF1F6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July 10, 201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CD84-75E7-4031-9ED5-221296AB0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xiliary Equipment Power Costs Allo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6A95-0C8D-4232-939D-9ECBF13B36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9040" y="1142640"/>
            <a:ext cx="8305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Generators currently operate auxiliary equipment utilizing power from third service providers and want to recover the costs of electricity as a variable cost in verifiable costs (VC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C Manual states that Heat Rates should be based on Net Output, implying that auxiliary power is supplied by the plant genera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C Manual also states that auxiliary equipment power consumption costs may be recovered with VC, but unclear if this applies to all aux equip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iscussions at RCWG centered around including power costs as a variable cost in O&amp;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CMRR024, Allocation of Auxiliary Power Equipment Power Costs in Variable O&amp;M will be on the August 7, 2019 WMS age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Katie Rich</cp:lastModifiedBy>
  <cp:lastPrinted>2017-03-29T19:57:42Z</cp:lastPrinted>
  <dcterms:modified xsi:type="dcterms:W3CDTF">2019-07-03T15:37:08Z</dcterms:modified>
  <cp:revision>391</cp:revision>
  <dc:subject/>
  <dc:title>PowerPoint Presentation</dc:title>
</cp:coreProperties>
</file>