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D97C-E540-4C31-AB3A-B765C8CF2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AA42-17DF-4AED-8D01-EBC874DE0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413F-4D73-4AD4-B6DA-986C0A8A2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BA76-C74A-46D4-A53C-00C30F202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686B-3E55-4CC4-84B9-1FF81BB83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96FD-F080-4CAB-B661-4519EE4E5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EB65-3CAF-46BD-97FD-7E0348E16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6DDB-780A-4988-8A0A-CBADAA4F5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2F78-C6C3-4EAB-AE46-0B843292C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C26F-5755-4730-981C-94D22EEF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534D-BBC7-4D82-854A-4AFBDA35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3B67-F1FB-49FC-9F14-DDA0401B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3C63-86CB-4823-835D-307637C8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6E60-CED7-4744-8A14-E42FE4C3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67E2-B1EA-46A2-9899-CF758ABD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D70D-7E61-444C-AFFF-9CF92ABA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27C9-499A-4F20-9851-534F9118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4667-84E5-4461-84CB-488D6D78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5B1E-6FE8-4475-91E7-ECC91323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1540-CDED-485E-9858-BFB2E429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9230-C552-4E89-89CB-7087FC57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CB7D-E730-4FD7-95F8-AA3FA35C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CF86-7733-483E-83CE-5ED269FE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33A8-558D-4CBF-9CE9-467810C3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616A-CE23-4A79-847B-E18D9324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175F-FEF9-4649-A099-36CB4664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68264-FAB6-412B-8503-755D50D7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101C5-D4FF-44D3-9EB9-80B63D6D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10EC-869A-4375-8B93-0618D771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8938C-AE4B-4478-AA16-FF0EF044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3477A-6588-4E5D-B34B-1F421893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A9E7-33CD-4EEB-8EE2-C63ABE41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9A711-1894-49D5-97E1-DD6373DF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BC20D-F119-4C9E-A210-EA45D52D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2D651-5E45-4ABB-9507-156F1516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10BED-AF16-488D-9A11-7CFA0282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177DD-BC20-48EA-AAFA-0B50D329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6171-7946-40E8-8B40-1D5F2092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48863-6F9A-47A6-B94D-BAD1D728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AA72D0-8E97-4C65-AB3C-AE01DAF597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41958A-EED2-4E56-AFCE-2E59E4BB790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3BEE86-AFE4-4CF0-8C3C-3ED9E9B99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4F30-6E5E-4D9C-B5E7-26BCCC64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02F7A7-D10C-423D-9233-EC4D563169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11A179-FA9C-4888-A2C9-C2463F0693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63B60F-E6C1-4F2A-8DAE-D48B2639A3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A8E569-45DF-43C6-A655-1535215537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D3D94F-12F3-4A10-A378-8815EF59C0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4613E5-5CD4-4D10-8612-978F6925F5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2F3493-7F6C-4271-962A-F2ACC74204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6B3887-0667-406B-BB33-0022930D8F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A59FEA-E36F-4B9B-A7A2-6C066C1D71E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9A0B-294A-4FB7-B468-4BB475F1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ED7B-60B1-4BC4-877C-1058C640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D2CF-19BC-4106-89BE-4C1BA494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B32A-A020-49EF-851C-CB26CC73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D6F4-45D2-4CAC-B1E8-14272198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9377-334C-414A-B16C-7655F5F03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C723-A6DE-44DA-937D-A8F8CD2F8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E573-6B59-4B22-AAD8-D5F6CBA99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07CE-EC3A-4EE5-977A-EED5E4314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A55E-5AA0-4BB1-A801-0A62395EAA33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6B75-8928-4DDA-ADA7-29CC94CFA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June 4th, 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am Pak (Oncor) –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244440"/>
            <a:ext cx="83818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b6770"/>
                </a:solidFill>
                <a:latin typeface="Arial"/>
              </a:rPr>
              <a:t>2019/2020 Transmission Losses (Actual &amp; Forecaste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Content Placeholder 5" descr=""/>
          <p:cNvPicPr/>
          <p:nvPr/>
        </p:nvPicPr>
        <p:blipFill>
          <a:blip r:embed="rId1"/>
          <a:stretch/>
        </p:blipFill>
        <p:spPr>
          <a:xfrm>
            <a:off x="1085760" y="990720"/>
            <a:ext cx="6972480" cy="5052960"/>
          </a:xfrm>
          <a:prstGeom prst="rect">
            <a:avLst/>
          </a:prstGeom>
          <a:ln w="0">
            <a:noFill/>
          </a:ln>
        </p:spPr>
      </p:pic>
      <p:sp>
        <p:nvSpPr>
          <p:cNvPr id="292" name="Foot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019 PW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CFE3-5421-4EAD-B35A-1FEEC8E6D6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F72C-4F47-466C-85B2-86FEDE6A7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571680" y="1028880"/>
            <a:ext cx="8001000" cy="516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PWG meeting da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iday, November 8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:30 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Ex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Annual Validation Busines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Discussion on BUSIDRRQ and daily settlement data – grey box language from NPRR 8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2019 Accomplishments/ 2020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Weather Sensitivity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1"/>
          <p:cNvSpPr/>
          <p:nvPr/>
        </p:nvSpPr>
        <p:spPr>
          <a:xfrm>
            <a:off x="519120" y="13971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E07F-D9FD-447E-88BF-7632026F8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4343400" y="65689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47D5-2B72-48D1-9F1E-F1BEEC221481}" type="slidenum">
              <a:rPr b="0" lang="en-US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47560" y="244080"/>
            <a:ext cx="59562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2019 Annual Validation Task List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 CHAN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816120"/>
            <a:ext cx="9144000" cy="42544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"/>
          <p:cNvSpPr/>
          <p:nvPr/>
        </p:nvSpPr>
        <p:spPr>
          <a:xfrm>
            <a:off x="76320" y="5070600"/>
            <a:ext cx="8991360" cy="109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DSPs provided the following status on sending 814_20s to change pro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CNP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– 65% comp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ncor &amp; AEP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– sending 814_20s on meter cy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TNMP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sent ~2700 on cycle (94% comple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6"/>
          <p:cNvSpPr/>
          <p:nvPr/>
        </p:nvSpPr>
        <p:spPr>
          <a:xfrm>
            <a:off x="3809880" y="2104920"/>
            <a:ext cx="564696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8 UF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y Rob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019 RM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84582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UFE Basic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FE (Unaccounted For Energy) is computed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FE = Generation – (Load + Los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UFE indicates load/losses are overesti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990720" y="1981080"/>
            <a:ext cx="6022800" cy="2971800"/>
          </a:xfrm>
          <a:prstGeom prst="rect">
            <a:avLst/>
          </a:prstGeom>
          <a:solidFill>
            <a:srgbClr val="ccccff"/>
          </a:solidFill>
          <a:ln w="507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Sources of UFE includ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■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eneration Measurement Err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■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C Tie Inadvertent Energ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■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oad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- Missing/Erroneous Usage D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Backcast Profile Err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Load Profile ID Assignment Err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Thef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■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osses  - Model Err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Loss Calculation Err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0335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 Loss Code Assignment Err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019 PW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C231-CAED-4B32-A604-19C3A429DD4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84582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Average Daily % UFE (sorted low to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019 PW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796A-46D9-40B8-B734-E5907F403F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Content Placeholder 6" descr=""/>
          <p:cNvPicPr/>
          <p:nvPr/>
        </p:nvPicPr>
        <p:blipFill>
          <a:blip r:embed="rId1"/>
          <a:stretch/>
        </p:blipFill>
        <p:spPr>
          <a:xfrm>
            <a:off x="1111320" y="990720"/>
            <a:ext cx="692136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84582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Historical Yearl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04920" y="909720"/>
          <a:ext cx="8534160" cy="5338800"/>
        </p:xfrm>
        <a:graphic>
          <a:graphicData uri="http://schemas.openxmlformats.org/drawingml/2006/table">
            <a:tbl>
              <a:tblPr/>
              <a:tblGrid>
                <a:gridCol w="1371600"/>
                <a:gridCol w="1752480"/>
                <a:gridCol w="1905120"/>
                <a:gridCol w="1798560"/>
                <a:gridCol w="1706400"/>
              </a:tblGrid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c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c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c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of 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c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 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cc8"/>
                    </a:solidFill>
                  </a:tcPr>
                </a:tc>
              </a:tr>
              <a:tr h="33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1,672,7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156,733,4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0.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41.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</a:tr>
              <a:tr h="31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1,344,2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102,693,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0.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42.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</a:tr>
              <a:tr h="31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1,082,5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174,154,0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0.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65.9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</a:tr>
              <a:tr h="31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,304,4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187,975,5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0.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51.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,914,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206,949,8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0.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52.7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</a:tr>
              <a:tr h="31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1,541,0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134,692,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0.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68.0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1,351,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44,857,8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0.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30.8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</a:tr>
              <a:tr h="31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1,756,3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85,406,7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0.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35.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1,453,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31,666,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0.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43.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1,002,7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25,945,8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0.3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26.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-395,3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-$17,061,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-0.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31.7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98,5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2,286,4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0.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38.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</a:tr>
              <a:tr h="303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40,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1,441,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24.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</a:tr>
              <a:tr h="30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644,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11,037,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0.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22.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-452,7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-$20,469,6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-0.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26.5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b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657,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7,209,4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0.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+Body"/>
                        </a:rPr>
                        <a:t>$32.2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5"/>
                    </a:solidFill>
                  </a:tcPr>
                </a:tc>
              </a:tr>
            </a:tbl>
          </a:graphicData>
        </a:graphic>
      </p:graphicFrame>
      <p:sp>
        <p:nvSpPr>
          <p:cNvPr id="276" name="Foot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019 PW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B791-5BEF-4E04-A7BE-FE121422370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84582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Historical UFE Cost, MWH, and Average MC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019 PW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6759-235C-49E9-B646-D5DF3FEA813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5" descr=""/>
          <p:cNvPicPr/>
          <p:nvPr/>
        </p:nvPicPr>
        <p:blipFill>
          <a:blip r:embed="rId1"/>
          <a:stretch/>
        </p:blipFill>
        <p:spPr>
          <a:xfrm>
            <a:off x="1089000" y="990720"/>
            <a:ext cx="69660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84582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Historical UFE as Percent of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019 PW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1FD6-2122-41A2-BB86-526494DC179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Content Placeholder 5" descr=""/>
          <p:cNvPicPr/>
          <p:nvPr/>
        </p:nvPicPr>
        <p:blipFill>
          <a:blip r:embed="rId1"/>
          <a:stretch/>
        </p:blipFill>
        <p:spPr>
          <a:xfrm>
            <a:off x="1089000" y="990720"/>
            <a:ext cx="69660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84582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b6770"/>
                </a:solidFill>
                <a:latin typeface="Arial"/>
              </a:rPr>
              <a:t>2018 Transmission Loss vs. UF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019 PW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A000-4EBD-452B-880C-C3F4292E1F8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Content Placeholder 5" descr=""/>
          <p:cNvPicPr/>
          <p:nvPr/>
        </p:nvPicPr>
        <p:blipFill>
          <a:blip r:embed="rId1"/>
          <a:stretch/>
        </p:blipFill>
        <p:spPr>
          <a:xfrm>
            <a:off x="1089000" y="990720"/>
            <a:ext cx="69660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Wiegand, Sheri</cp:lastModifiedBy>
  <dcterms:modified xsi:type="dcterms:W3CDTF">2019-05-30T14:42:41Z</dcterms:modified>
  <cp:revision>1260</cp:revision>
  <dc:subject/>
  <dc:title>Instructions</dc:title>
</cp:coreProperties>
</file>