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C5201-D198-4D1D-81BD-8EB70B124D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15F75-2769-4CDC-B24D-D31D6B499A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7DD1C-DA13-4F97-924A-E8A6FDD1E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A7B8E-D8C0-45FA-A94C-2FF3552EA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B0FB3-8740-4719-B336-B4F8E925D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238CE-33DA-417A-96F8-EA2302A8D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D5915-7850-4066-8E21-6FD634B04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D14A4-A3E6-457A-9A39-54DC9E904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50196-7E32-442E-8938-6F3E47002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F5E20-8625-4BEF-B98F-F68DE63B9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F9AB3-57F1-49BB-A3CB-2B6A4A68A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99C39-F161-4FA0-9309-D86941F76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EFB46-90F9-49C6-A4DC-B8A9071D8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B8DE4-EC80-40BF-A5D0-640FE7BC7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3B662-2F7F-4278-93CE-17E8DF28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2790C-C144-462E-BE75-26A406DCD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3475C-A353-4388-8DC5-6649FB22D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7E615-6A4B-435C-80D4-212F24A67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70C6B-3501-4BB5-B8B6-2C4B43081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FF3DD-02AF-4164-9DFF-96B1FDB2D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A9ED2-FE54-4489-9E7B-DE488EEAA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5EB7C-13FF-43F8-91AD-BD6FA475D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955B5-6847-43F3-B684-34F3DB03B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1CA0D-41E2-45CB-8880-448D3E6D2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860ED-84F7-4D2F-9E14-4028DB83D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9E85F-F658-4EF2-A10A-03333A35A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C3C6C-0994-481D-8BA9-68D81527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34F6F-2CF3-4471-A6D4-997836155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AF912-8B18-4342-8969-A29C84E8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7A50E-5F0D-44B0-9E23-B199449BA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E4733-A6B1-4F60-8759-55CDBC16B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E73C7-35AB-452A-A9A6-E0A0D7D59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CC0DE2-92AD-44FF-B442-736E5CA0D7B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40A68F-3026-41CC-94C3-1518E28FE2A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FEA2D1-E24E-4B74-992C-BD88E1A756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EE966-46E9-4CBE-89AE-3D63C2C29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3B846B-E7CA-4F85-8A28-9FD2E45E1F1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A7C6AB-41B4-4A5C-942D-6C103DC5624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3AEB2B-232A-42D0-ADA8-6E2410A6C7E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933938-B30F-454B-A951-F314343CDCF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AF42EE-3975-4CF9-8E55-4C44E44C729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3A7494-D35D-4C35-937E-0E415251600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EF309B-390B-4382-9D30-940BCEB7AFE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9BE48A-4DFC-4E1C-AA3A-0B09BEB1FCE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E88D1E-26BE-489C-830D-BF48C1E9251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EEBF2-33F0-4BE9-849A-8C11DC377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9C0A6-9CD4-4CB5-A26F-F4769EF98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70A46-A0B6-4AD5-B430-5AAEEDBEA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4F928-2994-467B-8AA0-FD6A55914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7C6CC-7A59-47D3-8CAC-5B53B54F2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D0BD9-1D9D-4356-8C67-EEEF483ED0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6AEE5-6380-4C08-95D9-D8C31B87C2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61DDB-1A51-4CFF-BD8D-8FFC0E6DC7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7" descr="Copy of Ercot Logo"/>
          <p:cNvPicPr/>
          <p:nvPr/>
        </p:nvPicPr>
        <p:blipFill>
          <a:blip r:embed="rId2"/>
          <a:stretch/>
        </p:blipFill>
        <p:spPr>
          <a:xfrm>
            <a:off x="7315200" y="76320"/>
            <a:ext cx="1752480" cy="941400"/>
          </a:xfrm>
          <a:prstGeom prst="rect">
            <a:avLst/>
          </a:prstGeom>
          <a:ln w="0">
            <a:noFill/>
          </a:ln>
        </p:spPr>
      </p:pic>
      <p:sp>
        <p:nvSpPr>
          <p:cNvPr id="51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2781A-9FA0-47FB-AA62-E25E036C3B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7" descr="Copy of Ercot Logo"/>
          <p:cNvPicPr/>
          <p:nvPr/>
        </p:nvPicPr>
        <p:blipFill>
          <a:blip r:embed="rId2"/>
          <a:stretch/>
        </p:blipFill>
        <p:spPr>
          <a:xfrm>
            <a:off x="7315200" y="76320"/>
            <a:ext cx="1752480" cy="941400"/>
          </a:xfrm>
          <a:prstGeom prst="rect">
            <a:avLst/>
          </a:prstGeom>
          <a:ln w="0">
            <a:noFill/>
          </a:ln>
        </p:spPr>
      </p:pic>
      <p:sp>
        <p:nvSpPr>
          <p:cNvPr id="95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sldNum" idx="10"/>
          </p:nvPr>
        </p:nvSpPr>
        <p:spPr>
          <a:xfrm>
            <a:off x="4343400" y="6568560"/>
            <a:ext cx="45720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A9038-A819-4DC1-920A-869CC99053F3}" type="slidenum"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54000" y="65278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b6770"/>
                </a:solidFill>
                <a:latin typeface="Arial"/>
              </a:rPr>
              <a:t>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1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2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rcot.com/committees/board/tac/cops/pwg/" TargetMode="External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8A9B7-AC86-4663-8993-6BCCDB9642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761760" y="16002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c8c93"/>
                </a:solidFill>
                <a:latin typeface="Arial"/>
                <a:ea typeface="Times New Roman"/>
              </a:rPr>
              <a:t>Profiling Working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8c93"/>
                </a:solidFill>
                <a:latin typeface="Arial"/>
                <a:ea typeface="Times New Roman"/>
              </a:rPr>
              <a:t>Update to 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8c93"/>
                </a:solidFill>
                <a:latin typeface="Arial"/>
                <a:ea typeface="Times New Roman"/>
              </a:rPr>
              <a:t>May 7th, 20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3c8c93"/>
                </a:solidFill>
                <a:latin typeface="Arial"/>
                <a:ea typeface="Times New Roman"/>
              </a:rPr>
              <a:t>Sheri Wiegand (TXU) – Ch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8c93"/>
                </a:solidFill>
                <a:latin typeface="Arial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3c8c93"/>
                </a:solidFill>
                <a:latin typeface="Arial"/>
                <a:ea typeface="Times New Roman"/>
              </a:rPr>
              <a:t>Sam Pak (Oncor) – Vice-Ch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3"/>
          <p:cNvSpPr/>
          <p:nvPr/>
        </p:nvSpPr>
        <p:spPr>
          <a:xfrm>
            <a:off x="4343400" y="6568920"/>
            <a:ext cx="457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A2348-3ACE-4EAA-B230-160912997CD0}" type="slidenum">
              <a:rPr b="0" lang="en-US" sz="11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663200" y="228240"/>
            <a:ext cx="5575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6770"/>
                </a:solidFill>
                <a:latin typeface="Arial"/>
              </a:rPr>
              <a:t>2019 Annual Validation Task List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0" y="1301760"/>
            <a:ext cx="9144000" cy="42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5"/>
          <p:cNvSpPr/>
          <p:nvPr/>
        </p:nvSpPr>
        <p:spPr>
          <a:xfrm>
            <a:off x="6705720" y="3886200"/>
            <a:ext cx="723960" cy="366840"/>
          </a:xfrm>
          <a:prstGeom prst="rect">
            <a:avLst/>
          </a:prstGeom>
          <a:solidFill>
            <a:srgbClr val="ffff00"/>
          </a:solidFill>
          <a:ln w="25560">
            <a:solidFill>
              <a:srgbClr val="007d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"/>
          <p:cNvSpPr/>
          <p:nvPr/>
        </p:nvSpPr>
        <p:spPr>
          <a:xfrm>
            <a:off x="1663560" y="3886200"/>
            <a:ext cx="2222640" cy="366840"/>
          </a:xfrm>
          <a:prstGeom prst="rect">
            <a:avLst/>
          </a:prstGeom>
          <a:solidFill>
            <a:srgbClr val="ffff00"/>
          </a:solidFill>
          <a:ln w="25560">
            <a:solidFill>
              <a:srgbClr val="007d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4343400" y="6568920"/>
            <a:ext cx="457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AAB8F-177D-4849-8850-501C3454BEA0}" type="slidenum">
              <a:rPr b="0" lang="en-US" sz="11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63200" y="228240"/>
            <a:ext cx="5575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6770"/>
                </a:solidFill>
                <a:latin typeface="Arial"/>
              </a:rPr>
              <a:t>Compare of BUS Changes by Profile Typ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Object 2" descr=""/>
          <p:cNvPicPr/>
          <p:nvPr/>
        </p:nvPicPr>
        <p:blipFill>
          <a:blip r:embed="rId1"/>
          <a:stretch/>
        </p:blipFill>
        <p:spPr>
          <a:xfrm>
            <a:off x="1714680" y="878040"/>
            <a:ext cx="5715000" cy="57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42674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6770"/>
                </a:solidFill>
                <a:latin typeface="Arial"/>
              </a:rPr>
              <a:t>BUS Changes by TD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4343400" y="6568920"/>
            <a:ext cx="457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E949B-2404-4D9D-B2EA-F0862F531C2A}" type="slidenum">
              <a:rPr b="0" lang="en-US" sz="11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Object 4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75787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ual Validation Busin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90440" y="11304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FUN FAC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* Count as of 4/22/1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EA3BE-EC0C-47A8-98BD-3FF306524A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295280" y="2057400"/>
          <a:ext cx="6782040" cy="3292560"/>
        </p:xfrm>
        <a:graphic>
          <a:graphicData uri="http://schemas.openxmlformats.org/drawingml/2006/table">
            <a:tbl>
              <a:tblPr/>
              <a:tblGrid>
                <a:gridCol w="4114800"/>
                <a:gridCol w="266724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BUSMEDLF ESI IDs from 20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4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ault BUSMEDLF ESI IDs w/ &lt; 12 months of da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1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BUSLOLF ESI IDs created in 2019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BUSMEDLF ESI IDs created in 2019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D344F-8737-4824-BD05-E1E39011F7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6"/>
          <p:cNvSpPr/>
          <p:nvPr/>
        </p:nvSpPr>
        <p:spPr>
          <a:xfrm>
            <a:off x="571680" y="1028880"/>
            <a:ext cx="8001000" cy="5163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xt PWG meeting dat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iday, May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:30 a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bEx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c8c93"/>
                </a:solidFill>
                <a:uFillTx/>
                <a:latin typeface="Arial"/>
              </a:rPr>
              <a:t>AGE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c8c93"/>
                </a:solidFill>
                <a:latin typeface="Arial"/>
              </a:rPr>
              <a:t>Annual Validation Business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c8c93"/>
                </a:solidFill>
                <a:latin typeface="Arial"/>
              </a:rPr>
              <a:t>Annual UFE Report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61"/>
          <p:cNvSpPr/>
          <p:nvPr/>
        </p:nvSpPr>
        <p:spPr>
          <a:xfrm>
            <a:off x="519120" y="139716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rcot.com/committees/board/tac/cops/pwg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EB1F6-9347-4A83-8D1E-533B63000B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11" descr=""/>
          <p:cNvPicPr/>
          <p:nvPr/>
        </p:nvPicPr>
        <p:blipFill>
          <a:blip r:embed="rId1"/>
          <a:stretch/>
        </p:blipFill>
        <p:spPr>
          <a:xfrm>
            <a:off x="2363760" y="1219320"/>
            <a:ext cx="4416480" cy="39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Basaran, Harika</dc:creator>
  <dc:description/>
  <dc:language>en-US</dc:language>
  <cp:lastModifiedBy>Wiegand, Sheri</cp:lastModifiedBy>
  <dcterms:modified xsi:type="dcterms:W3CDTF">2019-04-25T20:45:48Z</dcterms:modified>
  <cp:revision>1257</cp:revision>
  <dc:subject/>
  <dc:title>Instructions</dc:title>
</cp:coreProperties>
</file>