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C91F-583B-4DEA-92DE-4B3838984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23B0-C2A7-4878-BC34-8580E0CFC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19B5-5E05-4861-8EDB-4C255937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2F3E-6330-4314-8CD8-7738D384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23A3-E13A-4752-AA74-FB2088F7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1148-A48F-4656-B175-1C1BFDC1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7B4C-9EBE-434A-87E4-C7A8E0E0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5463-35BE-452E-9440-BF784AF0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CA1B-F8A8-493F-B8BE-3BAE217E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19ED-1ACA-4104-9CCD-0015BF0C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E602-1CA9-4ECB-8BD4-839E4167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26D6-E8F0-4433-BEBE-0E4FEF5D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B877-DDBE-4247-AB4A-8F86DE9F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75C3-EC48-42CE-A9B2-C32C3ABF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5201-F61E-47DE-89D9-B5DA2064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9A42-815D-465A-BDD1-A1A91D6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6E61-403F-4659-8B80-01A2AA90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73FD-949C-4BF2-B3B3-F6E69AF2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2978-9A1B-4CB6-AE8A-EA76C664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ECB2-DAD5-4FC2-984A-1BB2C1D3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4B78-EF35-4C33-988E-DA57457C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9D03-89B5-4E7C-8BFE-B9B4A097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7BEA-303D-4ED2-B93A-B800344D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E151-0557-4823-B85A-EDE25247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D21D-5275-4F58-93FB-327F9155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A785-5C56-48E2-BCCA-3B9B3EA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CDBA-0F02-4DEE-8F63-7CFEE53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97B6-B316-46AD-97F6-28826EF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57D5-E361-46CB-9F2A-2ECD478C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E5C2-174E-404E-BB62-15847C33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5576-44A8-4196-B5C3-97C39B25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33B6-49E1-4F7D-A175-90285419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D022B-24A8-43B0-8665-09C929E569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7FEB36-B057-439E-A39F-F7B4DCAD87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D3E48-BFEC-402C-B28D-AB554080F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AAD3-5760-4293-80F4-3D06AD60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CF3A4-32FA-43E5-9A9E-CE62078717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E5957-A0A3-4C01-80A9-F49831D5DB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97BE3-5618-4686-B7F9-92B004C82B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4E6845-EB10-42BF-89A0-AFCB434CFE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09972-36FB-4CE0-BF2D-DEA2A6BABF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2D3FF-D0A7-4840-9C92-135B66229E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A8178-0A61-4DE1-B92A-94024A606C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C90B9-FF63-452C-AA72-6820B8369E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BAB9A-733F-4D19-86B6-29F3D96876D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97F4-1980-4779-89F6-B0E3BA6F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9E29-78E3-420F-BAA7-4183D60D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BCDF-85E8-47CC-B35E-13FC9FB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185B-75C3-4B54-B828-8994E4F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C4B9-EA6E-4A4A-A587-11C58612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EE8B-12BB-4789-9949-EED90EE30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662A-8D3C-4B5A-93C6-BE041C44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D111-DC94-47B0-BBC1-60C27241C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F05B-33E9-4A8A-8931-C74774B4F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0F8-7EB8-4CEE-A94F-DBEF19839849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6AB8-7665-458D-932A-6DE59055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May 7th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2AE5-0D1B-4358-A9D0-02219690B5A8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63200" y="228240"/>
            <a:ext cx="5575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19 Annual Validation Task Lis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1301760"/>
            <a:ext cx="9144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6705720" y="3886200"/>
            <a:ext cx="723960" cy="366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7d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1663560" y="3886200"/>
            <a:ext cx="2222640" cy="366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7d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47C4-AE5D-4EAC-ADAD-408EE86E1076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63200" y="228240"/>
            <a:ext cx="5575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Compare of BUS Changes by Profile Ty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ject 2" descr=""/>
          <p:cNvPicPr/>
          <p:nvPr/>
        </p:nvPicPr>
        <p:blipFill>
          <a:blip r:embed="rId1"/>
          <a:stretch/>
        </p:blipFill>
        <p:spPr>
          <a:xfrm>
            <a:off x="1714680" y="878040"/>
            <a:ext cx="57150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42674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BUS Changes by TD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AB75-5E60-4C3D-97A4-DC4B805EAF69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578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Validation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440" y="11304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UN F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Count as of 4/22/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9ECA-6BAF-42F0-A506-858DBA5A9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95280" y="2057400"/>
          <a:ext cx="6782040" cy="3292560"/>
        </p:xfrm>
        <a:graphic>
          <a:graphicData uri="http://schemas.openxmlformats.org/drawingml/2006/table">
            <a:tbl>
              <a:tblPr/>
              <a:tblGrid>
                <a:gridCol w="4114800"/>
                <a:gridCol w="26672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BUSMEDLF ESI IDs from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BUSMEDLF ESI IDs w/ &lt; 12 months of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BUSLOLF ESI IDs created in 2019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BUSMEDLF ESI IDs created in 2019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5A98-207E-4A7E-8402-87EFA927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71680" y="1028880"/>
            <a:ext cx="8001000" cy="51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day, May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:30 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Ex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Busin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UFE Repor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CA9-8B80-4DCC-956F-6F96DF78E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9-04-25T20:45:48Z</dcterms:modified>
  <cp:revision>1257</cp:revision>
  <dc:subject/>
  <dc:title>Instructions</dc:title>
</cp:coreProperties>
</file>