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74A01-EB93-429E-97C3-EB55FA59F39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3ED0E-9A1B-4D23-96B8-11174DAB7F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930E6-69CD-48BF-BD1E-3C8BE6484D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Slide Number Placehold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7D161-5EDE-4554-AB98-D66F8840DD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Slide Number Placehold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62313-5DFC-4E5A-ABCB-04F568EB7B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594F29-63E4-4717-B54F-CD70FDC007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22FF9-0CA0-4150-85A5-137154F3F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470114-BAAD-44C9-8D7A-5E7F18AB91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C12F7C-827F-44EB-85AC-DC2DC905A9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9AA412-3562-40CD-B341-40EE15D113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55E27C-C2C6-4F0D-8ACF-71CCE281B9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9237F6-D6C1-4814-94E5-BABCE02952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ED8966-D369-42F8-9DA1-DFA5FD23C5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5D269D-363C-4A54-AE76-9A425956F9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5D7B6C5-FDF3-4458-B66D-F30E62CAEFD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E572229-D492-4AB2-BB0A-168754801F8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4E120E8-B868-4950-AC39-6D6382E07BA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0A357E-8835-44F2-A512-76331D02BA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4A209B4-0EB9-4AB4-AC17-6E17AB44B1E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A24C25E-DF67-4ECB-9A3C-915E14019C3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13C7464-7618-4321-A634-0D950BAF35F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86C7C58-5EA7-4E6A-9B12-EADAB9B9A3B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A396881-8BB3-4FDE-91D0-BC90FF8F375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9A8D804-1847-42CA-B745-2BAFF432399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5AFAF12-3A6E-4B6A-9A03-9218F9522B2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F09B234-4E62-4C24-B795-F14FED90B53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E9B914B-B4ED-4D0C-8298-67C26BE3455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F20114D-BFDD-40A8-A373-84E80B44ACF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0438B6-594E-4591-A90A-6E99CF517D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AA28A04-19F4-41F2-8BDC-D5ED02A46BC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8F80405-A858-488F-BDD7-0F03AF9AF9E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D8FB891-5521-47FB-8757-55CEEC9997F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C0BB8AE-CF1A-46BB-9A81-8F9E820C478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126D20C-8637-452C-BDD3-8B8F475F300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C2185E8-CC5C-4ED3-B578-84A79113459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DFB6B02-AC86-4639-9A11-CBD60A9A501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DA03EFA-F34D-4CC8-BE3E-E45A0776C9D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7B6FDC1-BF8D-451F-8F70-FC05A0D9E9F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007B13F-5053-43C0-BC51-D9D7540CA6B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D9BCD5-A87A-4690-8950-C6D230C0CA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5D2D3B0-B8C0-4AB8-A046-320075B70D8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CEBBC1B-AD10-40DA-A255-BCFDE44959A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2DCB6EE-89F3-4B4E-BBA3-66AA6F76953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41CEB75-B0CA-4288-A92C-C423A3520C6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51D927F-FB66-441B-9D08-06883ABC8C5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FAC1A25-CF5C-4E7F-8B56-58BA6D2C50A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FA2BF33-2E6D-4E9B-BF7C-744358F076A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6AD2E3C-F7FD-42EC-85E3-84832E4BAAC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CAFF0F3-04A0-41F0-B64D-CC380FA373B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3ECE8E4-7C53-4B60-8362-DF31EDD6411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F5FA32-DA85-41F9-9D5C-AD484A1563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46C6E2C-F6C4-42E7-8378-DBCD495833E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72A0ABA-189E-4E08-AF99-C87D9D8A235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ED97A2C-DCBE-4B67-B552-81682888729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170FB39-B888-4154-A424-B14D83D3CDD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F7B29F9-6AFD-4D63-8C1A-487B32591F2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4C633B-CCC2-47C2-8B52-56F3E2760E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91183D-8809-4DD5-A7A1-DCE7E60FA5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D45C3A-CD60-4ED9-BD74-30807FFDB8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139F4A-403F-4104-B7F3-F8BCE6C8C2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402CD6-7783-41B9-9B74-86F56A8C7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F36CE-0DE2-479B-974F-EF88E0D99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0A6D9-9947-4F91-858A-3B6FED004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F0802C-2DE1-4406-A259-CF649704D8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666A07-E71A-4166-A180-73390431D0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569B20-196E-4ED1-831A-8C8BF580E0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80A03E-F20D-4721-8079-F59BCB7C5C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D8385E-47D0-4085-9DC7-5444C57D82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A4E79C-ADFC-49F6-B16F-684F94D7CE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79FC29-BE07-4FC7-9532-9B6E01721D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A47126-D3DF-4624-8CB1-A19BAE67AA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853EB3-1732-4399-8C6A-D6C46879E0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68631-FF0F-4208-A217-D923E9822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BD14FE-D316-4D07-BF8B-0CF7B9B962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C85C61-AB3E-4361-BDC9-A79D3E5FE0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79206B-60A1-460E-AB1E-9BD0931D6D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FB97D0-0F7A-4A98-8804-581740A9A9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E0A4A5-0481-4CDF-A783-213BE84EE8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867476-3842-4B1F-9F97-03C37E0888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25BAE5-A84A-4F07-9081-69EE2AD9AE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1BE695-220F-403F-AA02-830F53F1C3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38B475-B72F-44D3-8593-6E1BEEBA24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B3013F-4358-4590-9E76-931A447E8A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84E77-7ED2-4969-B24D-83CA31711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464968-057B-41DE-BA3A-79444D6A43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226605-6BA4-40F2-B81C-8B9062C337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C57057-A3C8-4D8F-A0E2-F83F2448CF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82F8B9-EEE5-4C19-9741-F1716A8A97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8D8D0C-5132-4E85-9CFA-DFAF6ECB7C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54E081-16A0-4988-A48D-2F7ECBC80F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FA355E-FD76-4202-846B-8B00931B00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0B3544-2538-4103-913A-4DE6251934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5EFB18-CCF0-433E-B8EE-75E18A1253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D6631EA-E602-4623-86EC-B1DC126B80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53C73-0640-4E37-9ECE-9BEFCCFE5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822BBA-AA3A-46E8-8118-FB5916D143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E4C3DC-1900-42B4-A751-2EE14881DB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634970-2A46-4E59-9886-F84FDD4969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4B2900-8FE7-4034-9B0C-5488A3CC70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0E0F94-789C-4D58-9546-B975818761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23D2DB-5FCA-4F49-AF39-B4FF3CC4DC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11B27E-5B77-4D95-AA20-A17CBE9B66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03547D-5F90-42A0-B2EC-2A38779B93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F464DE-DE79-4B4E-B7C6-D89DBC16DD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FE7B0C-2958-4A13-986F-244E14167F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9EB78-E316-44A2-B880-BF4C5C9EB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19E86BF-BBE2-4EA5-A806-C7C01B50D6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33332D-4865-44DA-9B73-749AB0AE75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7E638C-0675-4B9C-9A33-06111F1722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8E7BA5-AF37-40F0-AB84-B868BD9695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9897DF-F567-4A06-8593-8E851383C9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F5C304-062B-4E30-AB77-74FF6C12AB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31BB58-8BA6-4359-A92F-900230BE9C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2F8DED-D23E-4CCA-B726-BF13753B11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8A7130-EE5B-4D37-80E9-118F67728B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24D054-511B-46D8-8C6F-A63070D3DF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DAC4E-4295-4BA6-A2C3-3B351EF2E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EE7CC9-F273-4202-82DB-4C8D0FA8A7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738C5E-0323-42FA-8FDF-C6ED59D867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8A57E2-879B-4986-B416-460DE9606A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481E920-7414-46A9-9C12-EFF6E2BC972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00DBC7-89CA-4679-A638-7B7631CBFA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4F51DD-2FBA-4EC4-89CC-169C0D5795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7218DE-7AA2-4D5C-B271-918117584F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D0E576-209A-41E2-8A78-C5CE357A12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75C2ED-5B7D-4C2D-86AF-C37B9B74F5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CAB259-B030-4D49-BE42-C41A6207E7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F5339-1CDC-44BA-9991-85E31F290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DB06F5-0E1F-4857-BBA8-AB52993C1E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DC38CB-2C04-4054-AEFB-6542B0CC98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9CA93C-F06B-45AC-9725-ECD2A4A615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BFF2500-0992-4E30-982E-369BE17B6C4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5FCB561-901A-4D46-920A-32E571B9AA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2B0A47-533F-4F2C-A672-AC8BA07D8CD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238B88-D58B-43F1-B2B3-3FC6C8558B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D6CDC9-CCCB-45EF-A706-97BD18B474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17D113-D832-44C5-8EE4-5487331F71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CE7937-C37C-4B3F-9020-9372DAB69D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6AB03-CFB8-4D80-9EFE-5539B774C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1F3578-55C8-43C4-9B7F-18214E48B3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F95ED8-93E4-4A15-8AE2-373B56648E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0DEFD1-94A8-48D0-8C62-11E2CB8C08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8F1DEA-C19B-4709-80CD-111CEF1DE2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DFDE09-323F-4C46-AECD-C44B9BD10F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A10A7A1-FBBE-4A70-9319-C606F48CBB9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C437D8B-C11D-49C3-BC02-D83BC34623F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6D7FC05-DE6F-46C4-813B-180E704ED0C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E7F6B0-F788-4C2C-A283-72394CEF2D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46B91C-764C-435A-A328-193DFA0B560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2E1D4-E927-48AB-8471-B32661835EEE}"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a:t>
            </a:r>
            <a:fld id="{E9BA32F2-DC8D-4CAD-A54C-BE00DF9A252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DD275-EA06-4633-8105-51F0EEA8D8E8}"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792CB-B958-4EF6-81D8-679A8805348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1FE38-C1D3-453B-8D9E-97B8045EA204}"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A4084-8690-404B-B64B-EC398EE76D8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31101-657E-4024-BF5D-9242DE77C374}"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12374-C274-46A0-B066-D29729BA862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B19DC-DBD0-4BC8-A155-96D698A110B0}"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1FA87-A24D-457E-9B96-C57541066A8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26206-7394-4140-A762-F7C4EB9C2961}"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A5714-E613-496F-85BA-256775A7035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15739-77B0-4FE5-A213-02CEE7053D2B}"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5E750-19D4-4999-BFF6-02CBB7388CE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EE938-F23C-4990-9E72-5E3A059D8DC4}"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8989F-669F-4B36-9276-9C37FEF2349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ACB98-3211-416F-8899-CC873C60AF0B}"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7033B-7EF7-47C8-B1AF-4AF8C4D829C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D3069-E80E-4AD0-AC61-163C15FD4876}"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E7028-5E0E-4809-B212-87B9EB50A80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116E3-BEC7-495D-9DF0-3A70D1EFE6BA}"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01D04-F734-4268-9F13-C6EF008EEE0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07C4A-27C6-452B-9270-CF6295D09379}"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B66B2-39DB-4CA9-A8DA-72EB9E248E0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49080" y="1143000"/>
            <a:ext cx="70866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00"/>
                </a:solidFill>
                <a:latin typeface="Times New Roman"/>
                <a:ea typeface="Times New Roman"/>
              </a:rPr>
              <a:t>Planning Geomagnetic Disturbance Task Force (PGDTF)</a:t>
            </a:r>
            <a:br>
              <a:rPr sz="3600"/>
            </a:br>
            <a:r>
              <a:rPr b="0" lang="en-US" sz="3600" spc="-1" strike="noStrike">
                <a:solidFill>
                  <a:srgbClr val="000000"/>
                </a:solidFill>
                <a:latin typeface="Times New Roman"/>
                <a:ea typeface="Times New Roman"/>
              </a:rPr>
              <a:t> Update to ROS</a:t>
            </a:r>
            <a:br>
              <a:rPr sz="3600"/>
            </a:br>
            <a:endParaRPr b="0" lang="en-US" sz="3600" spc="-1" strike="noStrike">
              <a:solidFill>
                <a:srgbClr val="000000"/>
              </a:solidFill>
              <a:latin typeface="Calibri"/>
            </a:endParaRPr>
          </a:p>
        </p:txBody>
      </p:sp>
      <p:sp>
        <p:nvSpPr>
          <p:cNvPr id="500" name="PlaceHolder 2"/>
          <p:cNvSpPr>
            <a:spLocks noGrp="1"/>
          </p:cNvSpPr>
          <p:nvPr>
            <p:ph type="subTitle"/>
          </p:nvPr>
        </p:nvSpPr>
        <p:spPr>
          <a:xfrm>
            <a:off x="1371600" y="2895480"/>
            <a:ext cx="6400800" cy="15242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8989"/>
                </a:solidFill>
                <a:latin typeface="Times New Roman"/>
                <a:ea typeface="Times New Roman"/>
              </a:rPr>
              <a:t>May 02, 2019</a:t>
            </a:r>
            <a:endParaRPr b="0" lang="en-US" sz="22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ea typeface="Times New Roman"/>
              </a:rPr>
              <a:t>Aster Amahatsion </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ea typeface="Times New Roman"/>
              </a:rPr>
              <a:t>2019 PGDTF Chair</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 </a:t>
            </a:r>
            <a:endParaRPr b="0" lang="en-US" sz="3200" spc="-1" strike="noStrike">
              <a:solidFill>
                <a:srgbClr val="000000"/>
              </a:solidFill>
              <a:latin typeface="Calibri"/>
            </a:endParaRPr>
          </a:p>
        </p:txBody>
      </p:sp>
      <p:sp>
        <p:nvSpPr>
          <p:cNvPr id="50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949B6-D919-4CE3-AA26-06CAB2113A0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6840" y="304920"/>
            <a:ext cx="84582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PGDTF Meeting </a:t>
            </a:r>
            <a:br>
              <a:rPr sz="4400"/>
            </a:br>
            <a:endParaRPr b="0" lang="en-US" sz="4400" spc="-1" strike="noStrike">
              <a:solidFill>
                <a:srgbClr val="000000"/>
              </a:solidFill>
              <a:latin typeface="Calibri"/>
            </a:endParaRPr>
          </a:p>
        </p:txBody>
      </p:sp>
      <p:sp>
        <p:nvSpPr>
          <p:cNvPr id="503" name=""/>
          <p:cNvSpPr txBox="1"/>
          <p:nvPr/>
        </p:nvSpPr>
        <p:spPr>
          <a:xfrm>
            <a:off x="340920" y="1266480"/>
            <a:ext cx="8637480" cy="5289480"/>
          </a:xfrm>
          <a:prstGeom prst="rect">
            <a:avLst/>
          </a:prstGeom>
          <a:noFill/>
          <a:ln w="0">
            <a:noFill/>
          </a:ln>
        </p:spPr>
        <p:txBody>
          <a:bodyPr anchor="t">
            <a:normAutofit fontScale="99000"/>
          </a:bodyPr>
          <a:p>
            <a:pPr marL="337680" indent="-337680">
              <a:lnSpc>
                <a:spcPct val="10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meeting was held on April 12</a:t>
            </a:r>
            <a:r>
              <a:rPr b="0" lang="en-US" sz="2000" spc="-1" strike="noStrike" baseline="30000">
                <a:solidFill>
                  <a:srgbClr val="000000"/>
                </a:solidFill>
                <a:latin typeface="Times New Roman"/>
                <a:ea typeface="Times New Roman"/>
              </a:rPr>
              <a:t>th </a:t>
            </a:r>
            <a:r>
              <a:rPr b="0" lang="en-US" sz="2000" spc="-1" strike="noStrike">
                <a:solidFill>
                  <a:srgbClr val="000000"/>
                </a:solidFill>
                <a:latin typeface="Times New Roman"/>
                <a:ea typeface="Times New Roman"/>
              </a:rPr>
              <a:t>,</a:t>
            </a:r>
            <a:r>
              <a:rPr b="0" lang="en-US" sz="2000" spc="-1" strike="noStrike" baseline="30000">
                <a:solidFill>
                  <a:srgbClr val="000000"/>
                </a:solidFill>
                <a:latin typeface="Times New Roman"/>
                <a:ea typeface="Times New Roman"/>
              </a:rPr>
              <a:t> </a:t>
            </a:r>
            <a:r>
              <a:rPr b="0" lang="en-US" sz="2000" spc="-1" strike="noStrike">
                <a:solidFill>
                  <a:srgbClr val="000000"/>
                </a:solidFill>
                <a:latin typeface="Times New Roman"/>
                <a:ea typeface="Times New Roman"/>
              </a:rPr>
              <a:t>2019</a:t>
            </a:r>
            <a:endParaRPr b="0" lang="en-US" sz="2000" spc="-1" strike="noStrike">
              <a:solidFill>
                <a:srgbClr val="000000"/>
              </a:solidFill>
              <a:latin typeface="Calibri"/>
            </a:endParaRPr>
          </a:p>
          <a:p>
            <a:pPr marL="337680" indent="-337680">
              <a:lnSpc>
                <a:spcPct val="10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scussed Federal and State activities regarding GMD</a:t>
            </a:r>
            <a:endParaRPr b="0" lang="en-US" sz="2000" spc="-1" strike="noStrike">
              <a:solidFill>
                <a:srgbClr val="000000"/>
              </a:solidFill>
              <a:latin typeface="Calibri"/>
            </a:endParaRPr>
          </a:p>
          <a:p>
            <a:pPr lvl="1" marL="735480" indent="-28296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n March 26, President Donald Trump signed an executive order aimed at preparing the US to withstand an electromagnetic pulse (EMP) attack. The two types of EMPs refereed in the order are the high-altitude nuclear explosions and geomagnetic disturbances (GMDs) resulting from solar flares.</a:t>
            </a:r>
            <a:endParaRPr b="0" lang="en-US" sz="2000" spc="-1" strike="noStrike">
              <a:solidFill>
                <a:srgbClr val="000000"/>
              </a:solidFill>
              <a:latin typeface="Calibri"/>
            </a:endParaRPr>
          </a:p>
          <a:p>
            <a:pPr marL="337680" indent="-3376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22 SSWG summer peak/min case building</a:t>
            </a:r>
            <a:endParaRPr b="0" lang="en-US" sz="2000" spc="-1" strike="noStrike">
              <a:solidFill>
                <a:srgbClr val="000000"/>
              </a:solidFill>
              <a:latin typeface="Calibri"/>
            </a:endParaRPr>
          </a:p>
          <a:p>
            <a:pPr lvl="1" marL="735480" indent="-282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RCOT presented on the 2019 GIC model building status </a:t>
            </a:r>
            <a:endParaRPr b="0" lang="en-US" sz="2000" spc="-1" strike="noStrike">
              <a:solidFill>
                <a:srgbClr val="000000"/>
              </a:solidFill>
              <a:latin typeface="Calibri"/>
            </a:endParaRPr>
          </a:p>
          <a:p>
            <a:pPr lvl="1" marL="735480" indent="-282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ss 1 GIC Model building, updating the bus and substation data of the GIC modeling data has been concluded on 4/5/19.</a:t>
            </a:r>
            <a:endParaRPr b="0" lang="en-US" sz="2000" spc="-1" strike="noStrike">
              <a:solidFill>
                <a:srgbClr val="000000"/>
              </a:solidFill>
              <a:latin typeface="Calibri"/>
            </a:endParaRPr>
          </a:p>
          <a:p>
            <a:pPr lvl="1" marL="735480" indent="-282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ent through data issues from pass 1 including buses without stations, duplicating stations and buses whose stations don’t exist. </a:t>
            </a:r>
            <a:endParaRPr b="0" lang="en-US" sz="2000" spc="-1" strike="noStrike">
              <a:solidFill>
                <a:srgbClr val="000000"/>
              </a:solidFill>
              <a:latin typeface="Calibri"/>
            </a:endParaRPr>
          </a:p>
          <a:p>
            <a:pPr lvl="1" marL="735480" indent="-282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ss 2 GIC Model building ,updating the transformer table started on 4/15/19 and the template and supporting documents has been posted on MIS</a:t>
            </a:r>
            <a:endParaRPr b="0" lang="en-US" sz="2000" spc="-1" strike="noStrike">
              <a:solidFill>
                <a:srgbClr val="000000"/>
              </a:solidFill>
              <a:latin typeface="Calibri"/>
            </a:endParaRPr>
          </a:p>
          <a:p>
            <a:pPr lvl="1" marL="735480" indent="-28296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35480" indent="-28296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7680" indent="-3376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B3250-4FF7-4F9A-A776-20F3005CBD7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05"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5/02/2019 ROS Meeting</a:t>
            </a:r>
            <a:endParaRPr b="0" lang="en-US" sz="1200" spc="-1" strike="noStrike">
              <a:solidFill>
                <a:srgbClr val="000000"/>
              </a:solidFill>
              <a:latin typeface="Arial"/>
            </a:endParaRPr>
          </a:p>
        </p:txBody>
      </p:sp>
      <p:sp>
        <p:nvSpPr>
          <p:cNvPr id="506" name="Straight Connector 6"/>
          <p:cNvSpPr/>
          <p:nvPr/>
        </p:nvSpPr>
        <p:spPr>
          <a:xfrm>
            <a:off x="457200" y="990720"/>
            <a:ext cx="8521560" cy="2880"/>
          </a:xfrm>
          <a:prstGeom prst="line">
            <a:avLst/>
          </a:prstGeom>
          <a:ln w="25560">
            <a:solidFill>
              <a:srgbClr val="4a7ebb"/>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75960" y="990360"/>
            <a:ext cx="8839080" cy="5365800"/>
          </a:xfrm>
          <a:prstGeom prst="rect">
            <a:avLst/>
          </a:prstGeom>
          <a:noFill/>
          <a:ln w="0">
            <a:noFill/>
          </a:ln>
        </p:spPr>
        <p:txBody>
          <a:bodyPr anchor="t">
            <a:normAutofit/>
          </a:bodyPr>
          <a:p>
            <a:pPr lvl="1" marL="341280" indent="-341280">
              <a:lnSpc>
                <a:spcPct val="10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scussed NERC TPL-007-3, R9 Due in 01/01/2020</a:t>
            </a:r>
            <a:endParaRPr b="0" lang="en-US" sz="2000" spc="-1" strike="noStrike">
              <a:solidFill>
                <a:srgbClr val="000000"/>
              </a:solidFill>
              <a:latin typeface="Calibri"/>
            </a:endParaRPr>
          </a:p>
          <a:p>
            <a:pPr lvl="1" marL="341280" indent="-341280">
              <a:lnSpc>
                <a:spcPct val="100000"/>
              </a:lnSpc>
              <a:spcBef>
                <a:spcPts val="300"/>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RCOT will calculate the GIC flow for the supplemental GMD after the GIC model is built and will post the result in MIS before the end of the year</a:t>
            </a:r>
            <a:endParaRPr b="0" lang="en-US" sz="2000" spc="-1" strike="noStrike">
              <a:solidFill>
                <a:srgbClr val="000000"/>
              </a:solidFill>
              <a:latin typeface="Calibri"/>
            </a:endParaRPr>
          </a:p>
          <a:p>
            <a:pPr lvl="1" marL="341280" indent="-341280">
              <a:lnSpc>
                <a:spcPct val="10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scuss Vulnerability Assessment Event Descriptions</a:t>
            </a:r>
            <a:endParaRPr b="0" lang="en-US" sz="2000" spc="-1" strike="noStrike">
              <a:solidFill>
                <a:srgbClr val="000000"/>
              </a:solidFill>
              <a:latin typeface="Calibri"/>
            </a:endParaRPr>
          </a:p>
          <a:p>
            <a:pPr lvl="1" marL="341280" indent="-341280">
              <a:lnSpc>
                <a:spcPct val="100000"/>
              </a:lnSpc>
              <a:spcBef>
                <a:spcPts val="300"/>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scussed approval of the PGRR070 by ROS, graying of the section 6.11 (2) and drafting the “Assessing GMD Effects on Power Systems” reference document</a:t>
            </a:r>
            <a:endParaRPr b="0" lang="en-US" sz="2000" spc="-1" strike="noStrike">
              <a:solidFill>
                <a:srgbClr val="000000"/>
              </a:solidFill>
              <a:latin typeface="Calibri"/>
            </a:endParaRPr>
          </a:p>
          <a:p>
            <a:pPr lvl="2" marL="399960" indent="-342720">
              <a:lnSpc>
                <a:spcPct val="10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ext PGDTF meeting is postponed from May 7 to May 16, at LCRA (WebEx available)</a:t>
            </a:r>
            <a:endParaRPr b="0" lang="en-US" sz="2000" spc="-1" strike="noStrike">
              <a:solidFill>
                <a:srgbClr val="000000"/>
              </a:solidFill>
              <a:latin typeface="Calibri"/>
            </a:endParaRPr>
          </a:p>
          <a:p>
            <a:pPr lvl="3" marL="45720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ddress is:</a:t>
            </a:r>
            <a:endParaRPr b="0" lang="en-US" sz="2000" spc="-1" strike="noStrike">
              <a:solidFill>
                <a:srgbClr val="000000"/>
              </a:solidFill>
              <a:latin typeface="Calibri"/>
            </a:endParaRPr>
          </a:p>
          <a:p>
            <a:pPr lvl="2" marL="39996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CRA Redbud Center, Room 108 </a:t>
            </a:r>
            <a:endParaRPr b="0" lang="en-US" sz="2000" spc="-1" strike="noStrike">
              <a:solidFill>
                <a:srgbClr val="000000"/>
              </a:solidFill>
              <a:latin typeface="Calibri"/>
            </a:endParaRPr>
          </a:p>
          <a:p>
            <a:pPr lvl="2" marL="39996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601 Lake Austin Blvd</a:t>
            </a:r>
            <a:endParaRPr b="0" lang="en-US" sz="2000" spc="-1" strike="noStrike">
              <a:solidFill>
                <a:srgbClr val="000000"/>
              </a:solidFill>
              <a:latin typeface="Calibri"/>
            </a:endParaRPr>
          </a:p>
          <a:p>
            <a:pPr lvl="2" marL="39996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ustin, Texas 78703</a:t>
            </a:r>
            <a:endParaRPr b="0" lang="en-US" sz="2000" spc="-1" strike="noStrike">
              <a:solidFill>
                <a:srgbClr val="000000"/>
              </a:solidFill>
              <a:latin typeface="Calibri"/>
            </a:endParaRPr>
          </a:p>
          <a:p>
            <a:pPr lvl="1" marL="341280" indent="-341280">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Calibri"/>
            </a:endParaRPr>
          </a:p>
        </p:txBody>
      </p:sp>
      <p:sp>
        <p:nvSpPr>
          <p:cNvPr id="50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5/02/2019 ROS Meeting </a:t>
            </a:r>
            <a:endParaRPr b="0" lang="en-US" sz="1200" spc="-1" strike="noStrike">
              <a:solidFill>
                <a:srgbClr val="000000"/>
              </a:solidFill>
              <a:latin typeface="Arial"/>
            </a:endParaRPr>
          </a:p>
        </p:txBody>
      </p:sp>
      <p:sp>
        <p:nvSpPr>
          <p:cNvPr id="50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E1C08-058A-45F7-B657-62D7F98FFDD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10" name="PlaceHolder 1"/>
          <p:cNvSpPr>
            <a:spLocks noGrp="1"/>
          </p:cNvSpPr>
          <p:nvPr>
            <p:ph type="title"/>
          </p:nvPr>
        </p:nvSpPr>
        <p:spPr>
          <a:xfrm>
            <a:off x="512280" y="228240"/>
            <a:ext cx="8458200" cy="762120"/>
          </a:xfrm>
          <a:prstGeom prst="rect">
            <a:avLst/>
          </a:prstGeom>
          <a:noFill/>
          <a:ln w="0">
            <a:noFill/>
          </a:ln>
        </p:spPr>
        <p:txBody>
          <a:bodyPr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GDTF Meeting </a:t>
            </a:r>
            <a:br>
              <a:rPr sz="4400"/>
            </a:br>
            <a:endParaRPr b="0" lang="en-US" sz="4400" spc="-1" strike="noStrike">
              <a:solidFill>
                <a:srgbClr val="000000"/>
              </a:solidFill>
              <a:latin typeface="Calibri"/>
            </a:endParaRPr>
          </a:p>
        </p:txBody>
      </p:sp>
      <p:sp>
        <p:nvSpPr>
          <p:cNvPr id="511" name="Straight Connector 6"/>
          <p:cNvSpPr/>
          <p:nvPr/>
        </p:nvSpPr>
        <p:spPr>
          <a:xfrm>
            <a:off x="542880" y="762120"/>
            <a:ext cx="8520120" cy="2880"/>
          </a:xfrm>
          <a:prstGeom prst="line">
            <a:avLst/>
          </a:prstGeom>
          <a:ln w="25560">
            <a:solidFill>
              <a:srgbClr val="4a7ebb"/>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90440" y="5191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a:t>
            </a:r>
            <a:endParaRPr b="0" lang="en-US" sz="4400" spc="-1" strike="noStrike">
              <a:solidFill>
                <a:srgbClr val="000000"/>
              </a:solidFill>
              <a:latin typeface="Calibri"/>
            </a:endParaRPr>
          </a:p>
        </p:txBody>
      </p:sp>
      <p:sp>
        <p:nvSpPr>
          <p:cNvPr id="513" name=""/>
          <p:cNvSpPr txBox="1"/>
          <p:nvPr/>
        </p:nvSpPr>
        <p:spPr>
          <a:xfrm>
            <a:off x="457200" y="1736280"/>
            <a:ext cx="7696080" cy="4179960"/>
          </a:xfrm>
          <a:prstGeom prst="rect">
            <a:avLst/>
          </a:prstGeom>
          <a:noFill/>
          <a:ln w="0">
            <a:noFill/>
          </a:ln>
        </p:spPr>
        <p:txBody>
          <a:bodyPr anchor="t">
            <a:normAutofit/>
          </a:bodyPr>
          <a:p>
            <a:pPr lvl="1" marL="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4572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B89AA-3105-45A1-B330-87372A34E9E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15"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5/02/2019 ROS Meeting</a:t>
            </a:r>
            <a:endParaRPr b="0" lang="en-US" sz="1200" spc="-1" strike="noStrike">
              <a:solidFill>
                <a:srgbClr val="000000"/>
              </a:solidFill>
              <a:latin typeface="Arial"/>
            </a:endParaRPr>
          </a:p>
        </p:txBody>
      </p:sp>
      <p:pic>
        <p:nvPicPr>
          <p:cNvPr id="516" name="Picture 2" descr="question-mark3a.jpg"/>
          <p:cNvPicPr/>
          <p:nvPr/>
        </p:nvPicPr>
        <p:blipFill>
          <a:blip r:embed="rId1"/>
          <a:stretch/>
        </p:blipFill>
        <p:spPr>
          <a:xfrm>
            <a:off x="3236760" y="2206800"/>
            <a:ext cx="2670480" cy="331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26T14:40:13Z</dcterms:created>
  <dc:creator>Williams, Adrian</dc:creator>
  <dc:description/>
  <dc:language>en-US</dc:language>
  <cp:lastModifiedBy>Aster Amahatsion</cp:lastModifiedBy>
  <dcterms:modified xsi:type="dcterms:W3CDTF">2019-04-29T15:57:58Z</dcterms:modified>
  <cp:revision>473</cp:revision>
  <dc:subject/>
  <dc:title>PGDTF Update to RO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isual Markings Removed">
    <vt:lpwstr>No</vt:lpwstr>
  </property>
  <property fmtid="{D5CDD505-2E9C-101B-9397-08002B2CF9AE}" pid="3" name="bjDocumentLabelXML">
    <vt:lpwstr>&lt;?xml version="1.0" encoding="us-ascii"?&gt;&lt;sisl xmlns:xsi="http://www.w3.org/2001/XMLSchema-instance" xmlns:xsd="http://www.w3.org/2001/XMLSchema" sislVersion="0" policy="e9c0b8d7-bdb4-4fd3-b62a-f50327aaefce" origin="autoSelectedSuggestion" xmlns="http://w</vt:lpwstr>
  </property>
  <property fmtid="{D5CDD505-2E9C-101B-9397-08002B2CF9AE}" pid="4" name="bjDocumentLabelXML-0">
    <vt:lpwstr>ww.boldonjames.com/2008/01/sie/internal/label"&gt;&lt;element uid="936e22d5-45a7-4cb7-95ab-1aa8c7c88789" value="" /&gt;&lt;element uid="c64218ab-b8d1-40b6-a478-cb8be1e10ecc" value="" /&gt;&lt;/sisl&gt;</vt:lpwstr>
  </property>
  <property fmtid="{D5CDD505-2E9C-101B-9397-08002B2CF9AE}" pid="5" name="bjDocumentSecurityLabel">
    <vt:lpwstr>Uncategorized</vt:lpwstr>
  </property>
  <property fmtid="{D5CDD505-2E9C-101B-9397-08002B2CF9AE}" pid="6" name="bjSaver">
    <vt:lpwstr>2/FXmrNaN+biOnBF1Lp+9MxCcP/kNde0</vt:lpwstr>
  </property>
  <property fmtid="{D5CDD505-2E9C-101B-9397-08002B2CF9AE}" pid="7" name="docIndexRef">
    <vt:lpwstr>d8ebadff-d0da-4cf9-8a05-21e926d3e7c8</vt:lpwstr>
  </property>
</Properties>
</file>