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C764-9CF6-446A-A266-67449CBF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F76-51AA-472D-8351-5701001C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494-932E-4032-8BF5-449B20C4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A0E-E584-437A-BDB4-0A67F30E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159-240B-41D3-B112-88810304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384-DDB7-4CC1-BB4F-7D714C1A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C08-9F91-411D-9D00-8EE458F2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36D-5E21-412F-9FB6-F7C2187F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084-4FB0-4A09-AAF2-0E7F3144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621-8C7E-49CA-94EC-14A72DEA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B2E-256E-4C61-A5AC-72F5479D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BD5-F822-4144-90A1-D816FD46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3532-A95F-4227-AA51-76BD0FBD11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6989-194D-4D9C-8AEB-D4A259F38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34308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April 3, 201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FB0B-270E-4447-A7AD-6A086F268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uxiliary Equipment Power Costs Allo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68EA-8F60-4195-820D-9EE02D65B2E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19040" y="1142640"/>
            <a:ext cx="83059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Generators currently operate auxiliary equipment utilizing power from third service providers and want to recover the costs of electricity as a variable cost in verifiable costs (VC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C Manual states that Heat Rates should be based on Net Output, implying that auxiliary power is supplied by the plant genera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C Manual also states that auxiliary equipment power consumption costs may be recovered with VC, but unclear if this applies to all aux equip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COT presented several options at RCWG to include power co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a variable cost in O&amp;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ption (KWhs) of auxiliary equipment in heat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include in either a) or b) ab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5996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uxiliary Equipment Power Costs Allo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CAC8-F8F0-427C-94E0-6FCFAC4A29A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06440" y="1523520"/>
            <a:ext cx="83059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CWG members discussed the three options presented by ERCOT and seemed to focused discussion on options a) and b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a variable cost in O&amp;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ption (KWhs) of auxiliary equipment in heat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90720" y="3505320"/>
          <a:ext cx="7696080" cy="3017880"/>
        </p:xfrm>
        <a:graphic>
          <a:graphicData uri="http://schemas.openxmlformats.org/drawingml/2006/table">
            <a:tbl>
              <a:tblPr/>
              <a:tblGrid>
                <a:gridCol w="1100160"/>
                <a:gridCol w="3547800"/>
                <a:gridCol w="30481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very of actual power costs in O&amp;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 costs subject to negotiated ra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icult to set a cap on electricity ra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stent with the Heat Rates based on Net Outpu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need to set a cap on power ra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urce may not be able to fully recover its power cos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uxiliary Equipment Power Costs Allo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BFD6-3E50-4679-B0D3-FDE6272AC4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19040" y="1676160"/>
            <a:ext cx="83059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CWG members asked ERCOT to check with the two entities impacted on whether Option b) was accep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th entities impacted stated that they prefer Option a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a variable cost in O&amp;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51"/>
              </a:spcBef>
              <a:buClr>
                <a:srgbClr val="7f7f7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Consumption (KWhs) of auxiliary equipment in heat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CWG will have to continue discussing opt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Ino</cp:lastModifiedBy>
  <cp:lastPrinted>2017-03-29T19:57:42Z</cp:lastPrinted>
  <dcterms:modified xsi:type="dcterms:W3CDTF">2019-04-01T16:13:05Z</dcterms:modified>
  <cp:revision>389</cp:revision>
  <dc:subject/>
  <dc:title>PowerPoint Presentation</dc:title>
</cp:coreProperties>
</file>