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31D-CB5F-42EA-8C92-A2C007AE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059-F5AA-4CF6-82A7-CF1264B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4DB-2456-4D90-9716-AA4F7A2A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503-CEC3-483B-B5D6-99542F99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610-2481-405E-9E07-76B57BC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378-D36C-491F-AF36-A05DCEF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114-BC61-49EC-A042-1E52F76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A5A-837F-4D7E-83ED-240C110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6B4-32A1-472B-8B05-E823E52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B36-43F9-4CA6-AF1C-5071DC1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B09-AB8B-451E-AF83-E0B14700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166-3466-4196-9F12-1557305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F7EF-FEB3-4524-AF79-4B8B2F044B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EB4-2A88-49DA-AAB5-DEA06FF66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pril 3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366A-A8C0-44AC-8806-CD374B257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27BA-0519-4172-8B0B-F219173471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9040" y="114264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enerators currently operate auxiliary equipment utilizing power from third service providers and want to recover the costs of electricity as a variable cost in verifiable costs (V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C Manual states that Heat Rates should be based on Net Output, implying that auxiliary power is supplied by the plant genera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C Manual also states that auxiliary equipment power consumption costs may be recovered with VC, but unclear if this applies to all aux equi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presented several options at RCWG to include power co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include in either a) or b) ab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788-9DA5-4C35-A950-5BD4B16DDD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440" y="152352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members discussed the three options presented by ERCOT and seemed to focused discussion on options a) and b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3505320"/>
          <a:ext cx="7696080" cy="3017880"/>
        </p:xfrm>
        <a:graphic>
          <a:graphicData uri="http://schemas.openxmlformats.org/drawingml/2006/table">
            <a:tbl>
              <a:tblPr/>
              <a:tblGrid>
                <a:gridCol w="1100160"/>
                <a:gridCol w="3547800"/>
                <a:gridCol w="3048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very of actual power costs in O&amp;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costs subject to negotiated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set a cap on electricity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t with the Heat Rates based on Net Outp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need to set a cap on power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 may not be able to fully recover its power co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85FF-898B-40F1-A898-06D6B77A0F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9040" y="167616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members asked ERCOT to check with the two entities impacted on whether Option b) was accep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ntities impacted stated that they prefer Option 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7f7f7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will have to continue discussing op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Ino</cp:lastModifiedBy>
  <cp:lastPrinted>2017-03-29T19:57:42Z</cp:lastPrinted>
  <dcterms:modified xsi:type="dcterms:W3CDTF">2019-04-01T16:13:05Z</dcterms:modified>
  <cp:revision>389</cp:revision>
  <dc:subject/>
  <dc:title>PowerPoint Presentation</dc:title>
</cp:coreProperties>
</file>