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00BA-B36E-459E-8371-7FC553402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2BA-931F-49E4-86E7-8F5A00DDA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73B-230E-4881-AF50-CB94D6FCD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0FB-85A7-4C5D-971C-6A714C2A6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DA2F-8456-48F7-935B-EDDA722A3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51C-95D4-44B0-9A94-83A38828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ED8-81CB-46BF-A0F1-3A07353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0A13D-82E8-4847-B38A-3CC5E9E9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CBB1A-BA61-4881-B907-72F00658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FCBAA-D1F5-481B-ABB5-5505A1E1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5E3CD-E133-4689-B5F2-30343E12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31FC-E503-444E-9539-33D5128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CEBB8-7FA7-4AFA-89C2-45E5432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828EF-7F29-4C3D-8B45-9CE0C850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68732-4D6E-4CD6-99E2-711A8FF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0786-1E55-42C6-A963-C6EDA186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359EA-FED5-48D0-AC3E-FC3D5EE0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E92-1AA3-447D-92C1-D4CFFB08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1F5FA-8FA3-461A-A413-ED53F2B7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37D4B-050C-4729-8608-03F10A26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4988C-4B58-4C81-B71E-8D9621A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E4ACD-F9D5-408B-842C-B4C69560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EB322-4F44-4024-93AD-71289A78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41367-D255-482D-B323-B876C76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698A4-AAAA-4C68-B37C-0346F4E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C631E-37AF-4D57-A4A4-83EECE0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A0A86-3995-4DAE-A32C-056DFE8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5DD06-87E6-4838-9767-23280B91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37F-4CB5-4BD4-878F-6D1EF717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46451-E7A1-4C6A-8BD5-27BB1339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D87E-F5FB-4FA3-A9F2-FD114E45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5F2FF-494B-42F2-83FA-07DBAEA2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2A441-0E22-41E2-9DC7-19BF486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B30B7-5012-4FB1-8341-068CEFCD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9E63F-BB1B-4504-9D63-EC8F32B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303BA-103A-4D2C-B0B5-6EF358D1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8541-6EDE-4BA3-A1A6-AFBA09B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9F58-2F0A-4440-A339-ED330B2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EB3C8-20FB-4347-AED1-2F4ADBB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4526-3C8C-42DF-9261-0E497D4F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FC0AF-A778-4DE8-B9A4-8D5E7DD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24717-79A5-4F1F-BBBC-70D8FABE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1AE47-7A06-47B3-8DF6-F22A85D5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68062-E4CE-494F-9B4A-2AE581E1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64E66-233C-484B-917F-D5CC66AE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BC3D5-07B6-4607-9F94-CC8E48D7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5972A-9A27-4517-B00A-F96F3F5C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56E56-D96A-45C4-9F40-7776CCB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47B87-CFAD-4D03-AAF3-9B26B3EE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48ED6-EB46-4D65-97D9-F09DB28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EB8E-44BD-4CC8-8312-6A4717A8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0DFCF-C633-464A-9F9E-0DB863E2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C5ACB-C398-446C-8573-F12EBA8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55D9A-126F-44B3-A36F-10173927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700B0-BA63-44AE-A030-94E35022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14134-6972-47D1-B796-AB07A3CA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77A3-132F-443A-894C-867DCC13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1089-7290-4B16-ADC1-676BC0EE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36CB-7C03-41BC-8772-BE85E5DB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8AAB-9118-4F64-BC70-16C3EF31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BF50-A737-4B95-A6AE-ED33E56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7F5-D5BB-4292-A19D-8228A821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6137-6E78-4864-9F76-C7B4518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BAAB-EF9C-46B9-BA10-E6223C8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D32A-2DD8-47ED-9ECB-8CDBD092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1B26-412A-46F9-A48E-46A55730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84C0-B5FF-4F63-B42E-EA64CE84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43ED-A34A-4350-A566-1BE7FBB0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97D5-7430-45CC-AA15-23FFE9BF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CDF0-2B23-47CA-A0A7-0BE88915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70E6-A84D-4E2C-8F7B-2D9E4C48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BDE1-77F0-4EE6-985F-B05AEBA9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810-C74C-4D4B-BC33-E38B9709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AB38-EAAA-4A30-9956-316E7F5B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CFE4-29EF-432E-9169-591743EC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F20A-120E-45C7-9AB9-1406731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C8D7-D798-4332-848C-740FCB1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0C59-A79B-4376-9576-BE45C699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C2F9-7874-40F5-A566-15C528EC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C7B7-0DE1-4DAD-9AE6-102FB0B0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8100-0DC2-45C7-B679-CE1BB85B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EC01-9580-4C5A-BE23-E859598A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2DD4-C3B1-4917-8F71-222260FF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8C2-D373-4505-BCFF-D902C99B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47F0-71A4-4DC9-A3CC-83B5968C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FF25-870D-4069-A74D-23E42BC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B808-DC8E-42AE-8325-6120FAA5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CD9F-2268-4D7B-88A8-204710D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A50E-FC86-4B6F-9EC8-D7DE995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B870-B653-4854-BAE8-05E87373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9A67-91AA-4ED6-AA5B-3A85FD1D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3139-0300-4CFD-9EC6-2A4880AF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8F22-63B0-42BE-840F-86087651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210B-AB3B-497C-8047-786D4CCE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233-D199-40AC-B98F-12C5096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3EB4-E885-4114-814B-8CEED5F7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C502B-0676-4E41-9452-FA399FD2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AC87-F0D8-4A77-9689-687DD2D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048C-5BB6-4779-ABE2-979FFD2A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6BBFD-12D5-408E-9499-2FAB8F41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E4055-4DF4-4801-9190-8D66225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9D35-9DCA-4F56-AE51-C1E2EFD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3C05-DC08-4B23-8A8B-EFD91F1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2188-521D-4476-A939-427DCB9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F4427-C2A2-4BD7-837C-AE89ED6E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279-C5E2-44CA-825E-76D573D8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AFF09-FC28-44B0-869F-063D3083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61DA4-59F7-40FF-8029-26FDF641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FBEC1-4573-45BA-A69F-64611E5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16DD-BAE1-42CD-878E-1C66217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2AC5E-FF78-46AF-9F5A-FAB0EFCF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77722-01FA-47F3-87B8-FBBE4F3D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E7505-122B-4C61-A408-B7B29DD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30D0-98B1-45E1-AF3E-F4615B0C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F520C-0E71-42ED-AC94-F5AEA08A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7CD8-C2B0-4DFD-A3E9-700A76E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68C-29AC-4224-9D37-5779CAA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8CEB8-BAB0-4968-84F0-C8F9BDEE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82741-25DF-42A9-AED6-F5EAF09E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769B-EA1C-44C1-9A32-E3BDF97B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DA41C-2CE6-4D48-A924-0539EF42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F9E50-8011-46FC-811E-1E2F3E4C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DB99-F3CF-48C9-83E9-D9A5D67D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D416B-B418-4FE4-9A74-B667947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BF064-AE2B-4110-9DC4-78E0B23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B3C1-D527-4BCC-983B-32C6B66E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8E55-32A9-4831-BC7C-ACBD21A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10A-3858-4757-90AF-FB3FFBB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B0704-A5C1-4DF9-A672-C90B201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34299-353D-470B-BD3D-B668A56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3B01-90D0-4BEA-81B6-BB5B8E8F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0C018-59FF-4FFB-BAF9-E6DB0700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7FB41-EF88-44B0-B363-79102F91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C13B7-B3A3-4084-99C2-EB61CB85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2AB5-CC1B-4167-8C45-E9E3450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8562B-5AED-4D9C-811A-1E9C18E2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6EE60-F775-4E56-B7EF-DA88B9AE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4CEE8-E6D7-44F8-92B7-E2EA7FE2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3BB-D982-4B64-B883-057A4E6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17F29-EE90-442C-AD12-B368528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239B2-94A3-41FC-9E1D-68590F9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2C79-90E8-4667-A921-E5AB346D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43927-1E52-456D-9970-4BA3D29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E9C63-EC51-4FC2-A8C9-AAC6E60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BE71B-0E1D-4D7A-B815-228C9583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8BE3-A9A5-4365-AB2A-92FC6A07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33AA7-9DC0-4BF2-82DD-1862D131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11C56-6E30-45C2-95D8-C5BB038E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560C0-2B3B-4EAB-8F5B-A0347517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E4C4-9B6B-4230-93F5-41DE9876AB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6A2974E7-3114-49B0-BB2C-8C85FB455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9526-883B-4409-A453-5AE6FFA1FE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E276-F3D7-4047-9DA4-9C7A153B4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B811-8166-4017-9F6E-ADBC1195CA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BFE9-E470-4DCC-9682-4CF78E462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8BB-5322-45F6-8635-FE0AE07076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2B6C-D34B-45D4-99FD-3668BB9D9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1F76-20CA-44C8-A64F-28A4A331F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E38F-5F09-432C-B921-2E059B6F2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ED3-918C-4338-B089-470BBF19D5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0B81-C0A2-478F-B5CE-C246AC64D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6D31-7E49-429B-BF6A-7CD5B0B0CD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1C53-E00B-4327-B871-9DEECE1A8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7F6-C534-4699-A29F-0C767BA91A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6938-E2E9-4E69-ADA4-A69BD9509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3DAB-4E58-46A0-83C4-0E0A7681B3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BFE-DCE9-4808-9640-786653118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E1AB-6F7F-4E31-8D23-981B43605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864-0246-49C9-8E96-2525E48B5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069-DA05-4DA6-A7CF-D59E4477B0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A4FA-BBCE-426A-A754-D62548CE1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80B0-47A4-4E7F-87FA-3164DB22A6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0BD-736C-484B-858B-4ADE29D20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908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Geomagnetic Disturbance Task Force (PGDTF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Update to R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rch 7, 201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ter Amahat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9 PGDTF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7D7E-1572-4F51-90E4-CE9488B855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41280" y="1266480"/>
            <a:ext cx="8461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meeting was held on Februar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Federal and State activities regarding G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to the PGDTF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GDTF scope was finalized and submitted to ROS for vo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System Model Procedure Manual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GDTF reviewed the GIC System Model Procedure Manual developed by ERCOT and submitted for ROS vo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Modeling Expectations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presented the GIC Model Expectations draft and the Task Force reviewed the d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BE68-96CD-4B80-B0C3-BE5B5931D8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07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6"/>
          <p:cNvSpPr/>
          <p:nvPr/>
        </p:nvSpPr>
        <p:spPr>
          <a:xfrm>
            <a:off x="457200" y="990720"/>
            <a:ext cx="8521560" cy="2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03440" y="990360"/>
            <a:ext cx="80769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acts of NERC TPL-007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sk force reviewed and commented to PGRR070 by ERCOT to address new requirements and the comments are submitted to ERC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 GIC Flows posted by ERCO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to present the results at the March ROS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ussed Vulnerability Assessment Event Descri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GDTF shared experiences on handling the ERCOT Market no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GDTF asked for extension on dead line to the market notice to ERC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022 SSWG summer peak/min case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nding updated 18SSWG 2022 cases in March, 2019 and ROS approval of the GIC Procedure M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xt PGDTF meeting: March 07 at the Met Center (WebEx avail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9B46-29E9-4989-8456-195BA21CBF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07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1228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traight Connector 8"/>
          <p:cNvSpPr/>
          <p:nvPr/>
        </p:nvSpPr>
        <p:spPr>
          <a:xfrm>
            <a:off x="450720" y="835200"/>
            <a:ext cx="8520120" cy="2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0440" y="519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73628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CCBC-1CFD-4967-9F8D-9367F144C8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07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Aster Amahatsion</cp:lastModifiedBy>
  <dcterms:modified xsi:type="dcterms:W3CDTF">2019-03-01T19:09:27Z</dcterms:modified>
  <cp:revision>442</cp:revision>
  <dc:subject/>
  <dc:title>PGDTF Update to 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sual Markings Removed">
    <vt:lpwstr>No</vt:lpwstr>
  </property>
  <property fmtid="{D5CDD505-2E9C-101B-9397-08002B2CF9AE}" pid="3" name="bjDocumentLabelXML">
    <vt:lpwstr>&lt;?xml version="1.0" encoding="us-ascii"?&gt;&lt;sisl xmlns:xsi="http://www.w3.org/2001/XMLSchema-instance" xmlns:xsd="http://www.w3.org/2001/XMLSchema" sislVersion="0" policy="e9c0b8d7-bdb4-4fd3-b62a-f50327aaefce" origin="autoSelectedSuggestion" xmlns="http://w</vt:lpwstr>
  </property>
  <property fmtid="{D5CDD505-2E9C-101B-9397-08002B2CF9AE}" pid="4" name="bjDocumentLabelXML-0">
    <vt:lpwstr>ww.boldonjames.com/2008/01/sie/internal/label"&gt;&lt;element uid="936e22d5-45a7-4cb7-95ab-1aa8c7c88789" value="" /&gt;&lt;element uid="c64218ab-b8d1-40b6-a478-cb8be1e10ecc" value="" /&gt;&lt;/sisl&gt;</vt:lpwstr>
  </property>
  <property fmtid="{D5CDD505-2E9C-101B-9397-08002B2CF9AE}" pid="5" name="bjDocumentSecurityLabel">
    <vt:lpwstr>Uncategorized</vt:lpwstr>
  </property>
  <property fmtid="{D5CDD505-2E9C-101B-9397-08002B2CF9AE}" pid="6" name="bjSaver">
    <vt:lpwstr>2/FXmrNaN+biOnBF1Lp+9MxCcP/kNde0</vt:lpwstr>
  </property>
  <property fmtid="{D5CDD505-2E9C-101B-9397-08002B2CF9AE}" pid="7" name="docIndexRef">
    <vt:lpwstr>d8ebadff-d0da-4cf9-8a05-21e926d3e7c8</vt:lpwstr>
  </property>
</Properties>
</file>