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40F0-673A-4BD7-AB49-4D0E48949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12FC-ACA3-4E04-BF54-E86D3F54A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A8C6-3656-484E-8B39-2E99A7B1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BC6C-BD9C-4490-B7D9-1F349495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F5C9-8B30-46BC-9185-B060E16A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9A94-BD46-477D-A01F-080D9D00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D259-24E1-48CA-939E-92FC86F4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21E4-6C5C-485B-84C8-C6F76816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3A76-4C62-411C-831A-66A8FB06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FBD1-5F98-4814-9B93-772D6817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81F3-4F6D-4038-8758-3CA440EE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1282-F543-458D-A33E-FCCADAD9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0FB9-23F8-4AD0-BDC8-2768687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CEF7-0C4F-4D91-B4A0-6F598373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F828-1B84-4B4C-820E-94025A29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9DF7-6584-416C-9736-06FC9C67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8976-7FCE-4320-88B3-4072B8F2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3F05-3F25-45F6-BF4E-3DE3D769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1B06-DB9C-43E8-AE92-610A0D52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04221-6A82-4015-81A9-CED2C1BD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EF6D-B5D6-4235-BB53-B56C2E73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16F6-8C9A-47EE-BA38-C39796A8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B28E-3064-40A5-8E9A-B880C42D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9E29-B8FF-461A-A5CA-D29C124E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DB86-3075-4177-AC0B-D4596FD9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2612-CF1B-4574-AB95-4068386F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4B157-A109-4ACC-81FF-EF6C27BB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58B8-D842-4F9B-A642-512F628C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829D-E73E-44A9-BDAA-FFDAB715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A908-E543-45E1-BFB4-455655DA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B9AC-262D-4FF5-B4F3-8542760D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FBF4C-546D-421C-8710-7A5768F2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108D-B0CE-451B-8AB3-9E96482A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3887-0ECF-4443-BD38-E1DFB75A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091F-03A4-4027-A54D-C88024E0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0447-F279-465B-95AE-10BEA78D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9418-9D6F-4DDF-BD77-12C96571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6107-B284-4971-B0C9-34A0437B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E3EF-F415-4DF6-84FA-166B0DEF3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992F-BB87-42E2-9461-3F5BB741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2F16-BF16-4EEE-8750-F01D01AB3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B8F-A848-4C39-B98F-8314AD2CB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4766-D22A-469B-B913-AA51AE240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March 5th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92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vision to Weather Responsiveness Determin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PRR92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TDSPs an additional 30 days to complete investigation and execute revision to load profile for BUSIDRRQ ESI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considered complete with 99% of the requests being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C9E9-45B0-4F19-BBE5-D888348F2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3200400" y="5479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Voting I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BFAB-8C8D-4A6D-816B-8267F44E4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71680" y="1028880"/>
            <a:ext cx="8001000" cy="41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2019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bEx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:3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Busines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35A0-0460-401C-9E28-0938A5988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9-02-26T22:14:53Z</dcterms:modified>
  <cp:revision>1250</cp:revision>
  <dc:subject/>
  <dc:title>Instructions</dc:title>
</cp:coreProperties>
</file>