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D73F-BBA9-46FB-B1F4-ED23D544D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6D0-D729-4049-A357-A60EB1CA6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1CA2-2DD8-4C1A-B3B4-5618C2FDC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A59B-7598-4DED-A25A-81AF0F862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359-30F3-445E-9FE1-FA090D39D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55FA-A082-4EF9-A8EB-EC9031401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7BE-DAD3-4DF8-AE90-3F9DE688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AAC-457C-47B1-890C-A1B53D1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AFF3F-0756-4E55-8D37-7BE65D6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64E69-3CDB-44E9-BA1B-31117D86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CC2E8-A755-4F48-8FE7-F375D62B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A180B-D1CB-45AA-A8EC-0BE87CD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8FDC5-23D3-4301-A273-7560F71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5338F-791E-4703-93B9-E63063F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20154-F0EB-46AF-BD97-54E0B8D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4952D-0902-466B-8704-6FB6ED99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8D2E2-740F-4757-8942-773D24E2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05DD0-1A29-4D0F-B982-9160CC61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170-7C13-46D2-82D7-18722A15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B7676-7838-47EC-A907-67F04A98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9929C-B357-4D40-B212-F20CCCF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6618E-2DB3-493F-9BF1-9F7F7A28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ECCF6-F84A-405F-B36E-892A619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3A3B3-7D99-4BDE-AF39-51457D6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3D02B-3307-42CE-855C-A48C904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F8D43-908E-465A-A17C-36D3D818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6F9AC-5FB5-49E2-803A-2CB611C0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D8F0E-2681-46B0-8087-66ADA0D9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06FB4-E6F8-462A-9BDE-5C541BE2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A53-99D7-4D81-A601-70970175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6E762-4252-4C94-A4B7-C45599D1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EF57F-9AB8-4C53-AAFC-28FF440E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A57B1-EA6B-4EA2-AF38-1EA8619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03252-E645-4C96-94AC-5073AF8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82E28-C7BA-4C14-8264-821313FF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71A72-11D0-42D2-954E-BC416037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95235-2DFE-4F93-846E-FD1B47D5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452C6-B1D9-4628-B741-43E4222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B5C94-1899-4E92-B14F-B61A9292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B88D-CAC7-41B6-98F1-85EA7A7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D460-A49B-4ADF-98FC-7D6D429E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0B94F-EE88-408A-8827-B88C0DB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7A465-50CE-4FB1-B9F5-6B6B9F3A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A73A-FD67-42F4-88ED-13E1854A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63FC0-75A1-45CC-B78C-CDAD77D2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FC30E-E050-4417-9F4B-CD0D4EDE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70EC2-9F59-43DE-A351-1313832D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15E88-38FB-4A5C-8EA5-3E6975A4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0213B-79BD-4D64-AC95-97904E37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262FC-889E-4031-ADFD-4A8C822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6127F-86FA-4355-B653-0D35BA1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3EEB-EB72-45EB-9DA5-3358C565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7ABA0-9FF9-44DE-A67E-9E34DB4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AC254-0A67-472B-A317-1F68D76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F3CB4-41EC-46B3-A907-41759784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66064-0BD2-40C0-BF02-06DD87CA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93FAF-AFEF-408F-99EE-E48D3C1F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EC5B-1B30-46FB-BF8B-2E123E58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1649-5631-46AA-93F3-450DBD0F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913C-92C3-4D37-8E20-12037C24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CF02-797F-4B4A-8F0C-39843318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9BEA-A523-480E-91D7-1FF55ED8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CF2-5DF6-40E0-ACBA-FF6CBF9D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E8F9-C7F3-46DE-BA76-F656DEF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7BC8-9CAE-4C87-98F0-0A3A1E9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7754-1F4C-483B-857F-B25CBCD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038E-6A59-4CC0-A692-F68A8CA2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8E06-CE3C-4940-8A73-5D36AFB6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3E07-4405-4278-AED2-69CBE8FD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EA57-2ED5-49F2-9641-6976363C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013B-1C5C-4708-96D1-6F86C4E5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B145-93C5-45B5-B381-A5896E88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CDB9-25BD-4957-8F6C-2838E513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B5E-9556-4F12-9E4B-9B9EB239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4A75-7F26-40F5-A5B9-29AC698A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86F9-1CED-4C80-8E66-25A5685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D410-7179-45C1-B93F-81E5B12B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67E0-73A6-44D3-8795-D5BBE32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E7FB-A94F-4C56-A11F-015BB01D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AD39-2DAD-49BF-BBB1-9C22BE20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5D40-17A2-412B-9ED1-6B7EF638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665F-98A8-459C-AA42-EA964C69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6AD11-31BA-4C96-99E6-4F9953D5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14D9-6A0B-4C0A-B973-43E3A3E9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09B-CAFF-4388-B72E-007A4A2B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6044-8AC0-4B8C-8BA8-7A82471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6212-C1B9-4029-B771-AB633C04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434F-5C70-49F8-A8B4-4E851B8F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4636-36C6-4999-8843-A146E01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6819-C084-4573-8D6A-24243ADE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8286-FEA0-4BD7-BB74-98A1BF4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3D98-23EB-45D4-A42B-FE651F5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9AFDE-9D3E-4679-90EC-F923D984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F572-B1F8-4B7B-9801-863B9B4A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E29BD-4422-4762-BE19-7F4D54FD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B97-17D7-4BF6-825E-5C4EFC38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85971-C193-4324-BE6A-A5F0C63C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D700-5E65-4ADF-84C4-A30EEC34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B4785-9682-43D3-A5FE-DE9ABD77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B464D-41D4-48FA-9040-26A38F63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B2E2-DC06-4B12-91AF-4E54CEE4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284B-E065-4384-A3DF-AE7CA7C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1147F-3E98-4D04-95B3-E0598D06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5CD6-EE4E-44BB-9DA3-2089EF17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F42F-1256-4763-8E37-F24C4B45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C803-E0EE-4B9C-BC3D-B50A8E65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453-C4BB-457C-A3E2-020376AB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2192-0C83-43B0-B465-2C1D3978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9F15-99CD-40BA-A945-9F733832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D1AAC-C8BA-4077-B260-19DCCA35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F9D0-2038-4F92-8625-680F00FB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0AAE-18D3-40C2-9FD9-9457F0B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A87AC-3912-418F-B46D-EDF2F3A6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6E25-2690-4802-815F-B5AD26F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EE4C9-0E37-404C-BD15-184A6D7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BEBB-5EB2-4948-A2CF-9C8F5E1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13FC-40C3-42DD-A32B-23A0304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717-69D2-4D21-AD1A-B47EC0C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C7087-3D0C-498E-B759-BFC4AD9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8901-1739-4137-BB9B-931D0563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B1AAC-A1F2-4156-AD2D-B67D6C84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9D58-2BCF-4E0B-90DE-B02E22F9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9329-2435-4802-AEBF-BCEE00F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35F9-E354-48A1-813F-E4951798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489E-0D2B-4A88-B10D-7DD320C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2C42-648B-41E1-91E6-4E24B288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63939-22B1-4A6D-911E-2DBD024D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EBFF4-49A6-4E2F-B01B-88F0DB0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506-F919-4FF7-B8DD-356B536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AAC55-EABE-4BD0-A04A-6FF91D24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1980E-7DAB-4024-8898-0517E5A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F3DA-6D2A-495C-BB08-9813206B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8B821-3863-4D37-BD1A-AD29F8DC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7446-ACB2-4B84-83C7-8A36917B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7C49-5A3D-42C8-82B3-AD9E3936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BC87D-B29B-4363-AF80-8F69A20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0D7EF-99B1-417F-AE42-A1B8516D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1E98E-75A6-400B-9AE8-4C10141D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C3D84-DDE1-40B8-A115-0F833F1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C3C-CE54-408D-8ACC-7042AB2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2743A-E5F4-4C2C-9B39-6386B631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668F3-1CF4-40C3-BBD4-98C7824C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5C7F5-37F1-45BE-A5CF-94DD7C3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54047-0A77-4CAE-B0A5-E465A9C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63A75-1D46-4892-8C68-B1676C85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601D-2946-4687-8869-FDEB15BB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92FF6-E38E-4378-A6B4-DE05FB74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D4892-0F1A-4388-B9B6-BB4565C2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AD602-AA79-4BE4-82D1-B4EAD70C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64451-43BC-4F8A-B46E-095DA6A7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96E6-E3FF-45B6-8B83-A2BA187BF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B3F36280-6772-4844-A354-404E87356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BD90-8223-44BE-930F-0CBA99004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F2CB-6D4D-4EB0-8254-ACE5EE204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2677-319A-4530-9D15-96CC2EFC11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E1F7-8BB2-4B69-9667-D388F3E26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997-F8DF-4002-94F9-4E3F754456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F2D-04D6-4851-88CC-274A77E70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6EE9-BF67-4E98-95DD-6295937F39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8F4-2EFD-4E91-9E9A-909B34A44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CC6-C8C4-4E28-B0AD-E65C8295CC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3F9-4DFF-44FF-AA0C-226EB495D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38A-4ED3-4A76-BC04-DD58F68B28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5BED-8C80-4F8E-B1CF-6B786426D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54C-57EB-4129-B375-1C00CDD019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E27-4A6E-4E1A-8BB6-1B1FC124D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33BF-305E-40E5-AC63-EFDB48F50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253B-D2C3-4977-A7C4-27FD7AA1F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A89-A1A1-4FC2-B11B-9C8E64D00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88DE-6634-4923-AD6C-8B62378F2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AD5-446E-4B14-8051-C75CF43E4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1CC8-B777-4A75-9D09-647777FBA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9392-0BB2-4E71-8873-683B232E76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772-1E06-4656-929A-1353CFAA5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4888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bruary 7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ter Amahat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19 PGDTF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DD8A-649A-4E7F-B4A5-52FD8AAEA9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99880" y="133344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meeting was held 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January 15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Federal and State activities regarding G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to the PGDTF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and improved scope under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Vulnerability Assessment Event Descri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issued revised Market Notice on 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your ERCOT Account Manager or ERCOT Client Services with questions regarding this no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EB9D-D018-4040-9CC4-5611AC56FC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/07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1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SE versus PowerWorld Bench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3800" indent="-262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P conducted a comparison and noted differ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800" indent="-262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investigated the differences in line length and determined that the line length is not used in the GIC calc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520" indent="-31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System Model Procedure Manual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3800" indent="-262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developing a draft update with comments provided by the Task F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3800" indent="-262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ROS vote in March, 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520" indent="-31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22 SSWG summer peak/min cas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3800" indent="-262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ding updated 18SSWG 2022 cases in March, 20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520" indent="-31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520" indent="-31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520" indent="-315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/07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1B13-0671-4C73-A4C4-EEFF73544D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440" y="324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1371240"/>
            <a:ext cx="80769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312120" indent="-31212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s of NERC TPL-007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GRR by ERCOT to address new requirements to update R1 – Roles and Responsibilities (due July 1, 201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Force provided initial comments to the draft PGR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GIC Flows posted by ERC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to present the results at the March ROS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396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xt PGDTF meeti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36396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bruary 26 at the Met Center (WebEx avai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D055-4DE1-4184-B106-A98A0FDC75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/07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440" y="519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73628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D7F5-F581-41C3-A066-7FBF89588C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/07/2019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s237448</cp:lastModifiedBy>
  <dcterms:modified xsi:type="dcterms:W3CDTF">2019-02-05T20:01:14Z</dcterms:modified>
  <cp:revision>432</cp:revision>
  <dc:subject/>
  <dc:title>PGDTF Update to 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sual Markings Removed">
    <vt:lpwstr>No</vt:lpwstr>
  </property>
  <property fmtid="{D5CDD505-2E9C-101B-9397-08002B2CF9AE}" pid="3" name="bjDocumentLabelXML">
    <vt:lpwstr>&lt;?xml version="1.0" encoding="us-ascii"?&gt;&lt;sisl xmlns:xsi="http://www.w3.org/2001/XMLSchema-instance" xmlns:xsd="http://www.w3.org/2001/XMLSchema" sislVersion="0" policy="e9c0b8d7-bdb4-4fd3-b62a-f50327aaefce" origin="autoSelectedSuggestion" xmlns="http://w</vt:lpwstr>
  </property>
  <property fmtid="{D5CDD505-2E9C-101B-9397-08002B2CF9AE}" pid="4" name="bjDocumentLabelXML-0">
    <vt:lpwstr>ww.boldonjames.com/2008/01/sie/internal/label"&gt;&lt;element uid="936e22d5-45a7-4cb7-95ab-1aa8c7c88789" value="" /&gt;&lt;element uid="c64218ab-b8d1-40b6-a478-cb8be1e10ecc" value="" /&gt;&lt;/sisl&gt;</vt:lpwstr>
  </property>
  <property fmtid="{D5CDD505-2E9C-101B-9397-08002B2CF9AE}" pid="5" name="bjDocumentSecurityLabel">
    <vt:lpwstr>Uncategorized</vt:lpwstr>
  </property>
  <property fmtid="{D5CDD505-2E9C-101B-9397-08002B2CF9AE}" pid="6" name="bjSaver">
    <vt:lpwstr>2/FXmrNaN+biOnBF1Lp+9MxCcP/kNde0</vt:lpwstr>
  </property>
  <property fmtid="{D5CDD505-2E9C-101B-9397-08002B2CF9AE}" pid="7" name="docIndexRef">
    <vt:lpwstr>88aec45f-d38e-4d92-8b0e-2b60b810bfbc</vt:lpwstr>
  </property>
</Properties>
</file>