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A0A-5281-4B1F-AB64-2E1D50DC8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183-2685-489B-9F3D-F14119FDF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6DF7-5044-441C-A3A2-F874E492B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5F2-42C6-4623-853B-DFF2530C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1EF-ABEE-4076-A28D-70ED847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45617-3CB2-4DA7-8128-1CADF729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9ADD1-2BD2-4548-8CEC-6A698225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03209-D94F-49B8-B7D1-D1657BBE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77A17-B674-45DF-AE65-B34602F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DA542-CB65-482C-A07D-8DA2D67A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776BC-E9BE-4E6D-A90A-0091692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D38EB-C290-426B-9AEC-63EF53B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C8EA2-8605-4883-92B3-DEE91FD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E4C1-E415-4DC1-8CC7-7277CFA0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717AC-4B7A-48AC-A149-0EA28257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A8A-087D-466C-8949-A82F1C2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8A88-6AFC-43EE-A638-7312D8A9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0C28F-4D1A-4BA4-919F-A0DC3E6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BC6C-BC61-4BF1-A8A7-583AF52C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8A3D4-B131-4200-BE4E-93C2FF27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08E9D-C115-42E7-88C2-06BA8D5A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CCD1D-0375-41ED-A008-17A769E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864CE-3028-4128-8BCF-D6C7C42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703E2-CB31-4729-8689-EF3D35F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53BF5-EB4F-49FC-8FF1-DE72FCFE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EC836-EF8F-4255-AFCF-32F019CC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A9E-1A26-4C2C-BD88-8702F907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F362B-7771-4A1E-9D89-CA616DE8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4F699-B634-4F4C-AD54-19F60415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4C8D-CD27-49A3-B96F-1AF972EE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534B5-3C55-467F-8D23-E5630CF7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B55A7-F5ED-4C86-B258-5FCA122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F0D81-0C77-43C3-9631-4AF63E7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C663D-27B3-4078-B7A1-128EF5B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9177B-0550-4DB9-AA8F-7129F02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71EF-61B5-4B89-97EB-D0281E5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A620-1C27-46EC-86EB-1915238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018-7CEF-4D0C-8371-358F7435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DD586-96CD-41AA-B4A4-7EA628B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454D-9993-45E1-84B1-55A864BF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55085-B345-4504-AE1A-1AA6DF90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2DB5E-4195-4F98-9900-ABAF71F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CF757-B139-464F-A6F8-86F9570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F8625-9F0A-49EC-BC8F-C635C73E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3AC92-08EE-4869-B9AA-06992B3B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C6073-8883-483A-A8DC-C3C4935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0F609-75B4-4E31-A61A-711D4FE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B50B6-8690-452E-A513-F37B3B4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FC7F-DF76-4E7F-BBA5-E9E73481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11C9E-872B-4099-9689-FAF97944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55FC0-B805-476F-A87A-6269D91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62241-5DA8-4E07-A9A5-FC8F976A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5F2DC-FD3A-4000-AF36-FFDDDA5D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D4FCD-F8DC-4C3F-85B1-21B85CF7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4F6-D37D-45FD-97F1-7CE9A52B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CECD-F874-4D78-BBE0-C7496D4F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4E6-68B6-4AED-863F-CA90A78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5F19-B85C-46D2-AFF7-B8342F0E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D65-AD04-47F6-AE3A-3DB4822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5B8-7864-4D92-934C-22394C2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7D4D-BF7C-4A1E-8B69-4C35ED2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6695-D699-40CF-9999-4C47594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FB1-8B57-43FF-BBFF-2D581668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F5F-F858-4EEC-8E82-ADD5BC87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5DF-7A45-4EBC-B709-BC533B98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AD87-8A58-4E1A-AC16-AB1C767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5A80-759B-4CDB-A829-AC5B1B4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4A20-94F1-4395-B640-872D40F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AC6A-31D1-4FDC-8595-A80B2038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8B40-5D95-49F9-8BF1-F6D30C9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2B5-6C0E-4501-9B87-C04B9E2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4E67-1A0A-4906-B0CD-3C7012BF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517E-45D3-4920-ACD1-D7E181BE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E0E1-3105-4400-89D5-D976F53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2A10-4402-4488-886E-420DC80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46CD-AD76-4F9E-B9A1-CDD2102C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A150-756A-4038-85EC-EEF10076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A35C-2AFF-4B58-995D-2996B030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3D2D-9541-494A-B483-DEC047BB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F5B4-4622-4671-AA90-A340F0EC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F23B-5F4A-4407-812B-015A4031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852-21E9-4D43-81C2-2D2EE55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FACB-5C9A-45EB-A950-A90A76E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8548-B8E4-4990-8E14-0EBBE066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0309-A7A7-4690-9541-CB9FB3F2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1C6F-318D-4DD7-A4C3-9098574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C9B2-6003-4F85-9DFF-FA382606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D27EE-A2E8-4108-ADB1-5DD9669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9124-8138-4456-94A1-9252C703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1D77-A301-43B2-B99B-E3FEE105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C2FA-B605-43EE-8B90-921552A1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8748-19C7-45C9-8612-BE7E4700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A28-3444-4886-9BEA-5D09382C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6CF5-978B-4D08-9437-7491E2C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4013-4527-4079-B846-340C115B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214C-1E0D-42C7-9DBA-B7D8F60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57692-7253-4026-B0AB-FFB06FC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5F4B-C0A1-4DA0-8814-F10385EF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1992-B7D2-40FA-A822-FA803B2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71A3-B0FB-49B7-AEAD-F5D0E72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83BA-87F4-4FBF-B806-FDE4805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7011-93CA-4E18-9418-15D0CB95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1E27-EF6D-4EE3-B282-9B2EC444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B78-31D4-44B6-8E97-22387E9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AB84-E223-493C-A3A5-6E755C3F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963E0-4687-475C-9465-7B318446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F02E-65FF-4B59-A752-31C99B71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16942-4CD9-4228-8161-40B5EF54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24C5-CA58-4EB6-A732-3ABF5636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ADE6E-FA8C-4DD3-9C3B-A55EFB86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95BD7-3358-472C-9E85-3C5300F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A997C-4634-47F5-9496-FBF77BF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0205-6252-45C5-8822-5EFCD63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B8762-8160-4687-8576-B92C12D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AE2-DCCA-481C-A2F6-9C5FE68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AAE0-037D-4EC4-A690-D8A8F66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0E0E-8122-4975-A2A4-32A69E8B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EA9B-A6F7-4A89-9FAF-81822B6D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DE07-D49E-4B55-ADCF-828C9D3E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1EE0-1C4B-4FE7-A359-2CF70A34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D378-DF61-4129-8FE9-9B6C888C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B18C-E51C-4AE8-BCAA-29BB618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1014-39CE-4B60-93BE-AB25A03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85A75-9A6E-41BB-AF4D-8A08373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3DC9-00DC-48B6-8FE5-D6000BE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232-3CE8-431C-8940-5D80765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24537-F2A3-475A-8253-4CB38B6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A687-444C-4998-8838-F0C6DB2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9F64-54D8-4D1F-B35A-D00685BE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CDED-0CE1-4AFA-80CB-297E7220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B5D51-A281-4C9C-984F-092FE497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3736-E727-4550-8B7A-AC0770A8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59CB-B166-4DC3-B44E-16AFE30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C7FB-4906-41D1-88D5-D95AF71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22375-196B-4D23-909A-D48FE87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8634-A11B-41C1-9E5F-8285C926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CF0-324C-41F6-8087-9E9497D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72CC1-DEEE-4371-AF3B-1C71853A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02F23-7C51-40D8-BB67-AA47F70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BD5F2-7FC8-4254-8374-B06CDEB8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0AA6C-F79B-4358-BAA4-E1D157A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E2F2-8B97-4034-AB47-4A70D1A5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425C-0CA4-4BA0-A6C4-2EB25121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4FAB4-D53E-4A24-8641-EF57069D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3A348-2D7E-4C20-820D-E700A326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8C555-75C4-4129-A508-15F1681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0335F-D9FC-4108-892F-CA6E55DD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78B-8189-4A41-B678-4578CD5127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5B9D155E-4BEE-4170-A017-219516AD2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DA9-65E4-48C2-AB45-3DB040C70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C5CF-781A-476C-8307-FB8A81C7A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44E-E879-4D44-B926-CED951039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FFDF-4436-441D-A459-2DB073ADE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CFF-55E9-4E8A-849F-E1E57E06B3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9A1B-8083-46CA-9361-DD0E3A331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BE6-C6DB-4A48-B71A-5156E3F50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3CC-68F7-4A65-AC36-D33E77528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FB7C-6F3B-44DE-BF2D-9CA564E2BB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6EC7-8C3F-4FED-999D-DFD7F866D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1A5-635B-427F-902F-42111988F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8456-A5EC-4112-9888-C2318E11E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4DAD-73A7-478F-A7C0-47DFB86A8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04D-4B61-421F-989C-5CD73E2AF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976-63B2-4F1A-B4B4-1560F747E0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B64B-9FBB-4E52-99DE-51D5D5278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A1CA-DBB2-4913-A512-B9E997CB0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397-79DE-45AC-92F3-6FA5E1875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754-2318-4A8F-B3DE-621C21723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9BAA-F909-49B0-85F3-C78964176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935-BA57-4403-93A8-B7C7EA536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3C7E-52C0-4D69-BC6D-8D64F59D9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4888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anuary 10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ylan P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18 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2FCD-E144-496E-840F-ABFEEE30D0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99880" y="133344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meeting was held 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December 1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Federal and State activities regarding G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C TPL-007-2 approved by FER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to the PGDTF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 of the current scop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and improved scope under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Vulnerability Assessment Event Descri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 notice from ERCOT in January,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GIC Flows posted by ERC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to present the results at the February ROS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2E2-45CA-4785-BF8B-F486152470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SE versus PowerWorld Bench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P conducted a comparison and noted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to investig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System Model Procedure Manu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developing a draft update to include a “modeling expectations” document and validation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dule with expected ROS approval in March,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22 SSWG summer peak/min cas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ding updated 18SSWG 2022 cases in March,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CC98-BCD6-4E94-A9A3-231D0131F9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440" y="324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oming PGDTF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1523520"/>
            <a:ext cx="80769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s of NERC TPL-007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Scope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System Model Procedure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22 GIC System Model cas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MD Vulnerability Event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9 ERCOT GMD Vulnerabilit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C84-5858-49CE-84AC-D774DB7157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440" y="519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73628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15D-26DB-42AB-8215-51871D7CC9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dcterms:modified xsi:type="dcterms:W3CDTF">2019-01-03T23:40:28Z</dcterms:modified>
  <cp:revision>421</cp:revision>
  <dc:subject/>
  <dc:title>PGDTF Update to ROS</dc:title>
</cp:coreProperties>
</file>