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7179-79A7-4B5A-9BDB-9C614EE38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BFEF-DBE8-4761-8158-CACCE7D3F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66FB-D4CC-4AC0-8D67-50726708EE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6DF-265B-4D37-BF20-BFB0BB33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DB60-EFEB-46A5-BDF4-3FE44742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0CAC8-5A4C-4177-8C53-A9085E33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DE8975-ADCC-4230-A7AB-8B2EA9A0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B4040-9D16-4178-A6F5-615404A85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7DAC9-16E9-47F7-8709-88C85AD4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9D4B1-8447-4036-8AD5-25E1516A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299D-647C-408E-8E44-78B5BE2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3ABB5F-AF4E-4A14-B4AD-7699DB4E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542CE-B62D-4501-A45D-4DF4CC71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0F2CE-CE93-401A-ABDE-C5057FD3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00E9B-4432-4EBF-9D19-147E190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3EE1-4216-4C7A-8AF4-CC6BE4C4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2915E-5BC1-4CE4-B9DF-7DF6E61A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B07557-0F2B-4FBC-9B04-8F1F31B53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79461-9D3F-45D9-AE9D-A6260962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08DBE-DE25-4537-A9CC-3B8B9688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1750A-D766-45E6-B56A-D5C10B906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8CD97-CC26-461B-AE57-F243B8D2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B21EF0-9E40-4D2E-9522-5A053B26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6FC89-D32D-4D9A-BED3-CCC0F2D2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989C79-DDBA-4F2D-BA01-0376F450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EC721-1E31-4F24-B4CE-23EA11CE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E2ED-D68F-427D-9DCA-59C5C0B5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287C2B-BF64-49DA-BBB8-BB5AAA9D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9F537-D9A9-409F-839F-395AB82C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107F-53DC-4192-B970-13AC5729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6CB84-4824-40E6-A7FE-7CDB6615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5B3062-CF2E-4780-BBED-542FAC4A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15B3D-EA77-4398-9EBE-B8B291C1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4E544A-C95A-499C-B012-D1567EA1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C1FF-E4BC-4562-AA9C-68B6EC2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F789E-84E3-4138-A2FC-C05CA52B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E3FEB-A7B0-4EB0-867E-B3D77FB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3347-7C4F-49E9-B4F7-EE03E2481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4480A-97EB-4F62-8BEE-57D24703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9BF0-7601-4B29-A5DB-70B916F27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F257E-1AD0-4B0C-A005-00EE6CA2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8B3126-2754-48BF-A6AE-2198C3070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B524A-02AB-4CD6-8F1E-FFC4DA96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13D7D-F5AF-4FD6-9AAE-DAED9ED7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4835D-D0C1-4B13-BF99-86411B6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F1436-7389-4A36-AE2E-6CCB61D5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EE115-4A71-4A8D-80F5-311AE511F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8CA16-5F22-425A-B611-E3747D08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321D-3228-4EE4-8A2F-FAC4880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D2F94-0E43-45FB-A997-F293750D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1310-6C9E-4D06-B848-BB89DF0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365D22-A6DA-4084-A093-4994484E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6311D-0917-4280-8AD1-47B271DC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FEB81-816E-4588-A422-FDB0ECD1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9465F-D601-49DF-B10C-E0991C06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2B65-E567-4473-B0FF-DB0F98E6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706E-7964-4FB5-887C-EAB4BC9D4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7F7-E4F9-4482-9958-BD7FA4415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D7A4-1ED5-440F-ACC5-8AEF2F63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E62B-835F-48C8-9306-FF2B521D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16D-E43A-4E74-B041-CDFCF4E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5A2C-B023-470D-9352-B3E77491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9ED4-C74E-490D-93AA-0D177917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AE84-7A94-49E5-BCDF-9858E794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A92C-8782-45B3-992B-B6B2752E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8276D-DAC0-4050-9395-D48C004B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3F826-8AF8-4E8A-A649-A4A04CF3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A1CE1-5E55-44E3-AE71-AC92C990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42BF5-DBF2-496A-976E-B264E0B06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ADF56-C7DC-43A5-B6E1-BA2D8CCE4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0D1C-8D7C-4ED6-A577-470D1637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5C752-1511-402A-A5C8-8F0E4912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F407A-732E-418C-9CF7-5F00457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65CEA-CAA2-4C5A-A729-F0F221FD9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DD83F-A9CC-4052-8C4E-98C37214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36FA7-53A0-49C0-B448-04BB3559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01099-EE53-4005-ADBE-C491DBC3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9AB0-0CD5-493B-9F65-8BCFC4A0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1DED-388C-4C73-8D6F-FB7913FA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0F2FE-99E8-49A8-AFB9-ACEC642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928A3-5FD2-4A4E-AFBD-84914F81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D215-FB3C-4396-BD8B-D49FC9A9E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055B9-9E1F-4798-8778-A41FA02D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401E-4640-4D37-AF5B-A50FA3B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97EE9-EAF1-41DE-B9C1-B66CD9DA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24507-7A73-4B38-92F7-7065E3A7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C4B7-7239-4B51-8204-5A93ACBE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AD27-9CEB-4D81-8D72-31A7FF57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48A14-4E68-4A1F-BA1F-25A2E8D8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B198-6565-43B7-AB1E-C8C03B554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038A-2BBC-4D0D-9CDE-CE66E0D1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CCAF3-A684-41C5-81BC-3E3CED46A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D14-39EA-4104-8DD6-329FD6651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CC69F-1261-4E9A-99AE-B640196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83F8B-6FAE-42E6-8330-37ECA9E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3928D-BE02-48B2-9487-61FF58F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B7FEC-4029-41C1-9E65-27C1C4829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04F3-538B-4411-8616-AC01F8A9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54538-E0EA-47DF-B6F3-54B9B5E7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3E32A-FE90-4FE6-9F0A-E9CCD140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941DB-E246-4995-B87F-CA4AF03E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5926B-3FE1-4E58-8CF8-8DA7F0D2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E180D-A7D5-4F4D-A281-2EA0E8CA3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BAB-9474-4A79-9A51-ED7020C8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FA1C4-6966-42B1-A7AF-733FBA43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9F2A9-32AD-4ADB-8808-2D4DA801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49DD-9BBB-4A0B-B380-BB18D7748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4AFF2-6836-4CF7-B4C7-74D00FA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66F57-5FED-4C94-98B0-BEFAC8B8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5F452-B430-4E77-8D20-5DBD8882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ADCD8-08E4-4CEB-BC08-63B75154E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4A012-C5E7-495C-850A-D155886E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3BAF2-D801-4048-9C79-2F33ADB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EE23D-46F3-46F5-989B-08E44290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DDAB-579A-4943-B971-DCC83583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5E638-97CD-4A24-82E6-8C4B1CD8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49F9A-E4A2-42BD-A279-17C49276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20DD-FC58-4D39-91DA-27E9A4FCD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3FDBE-A75B-4F4F-943A-45F37C3E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92FED-9AAB-4169-9D68-73F0015A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89D08-BDC6-4997-8385-2EC051C3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01917-A972-4E43-B831-206DC0FC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7811B-B4C2-40A9-A9A3-A8B87B24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AE8D-787B-4BD0-9A56-7B57E55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86A26-0534-4D56-99EA-940ACC2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9EA3-162D-4DD0-8CA9-F95BFCC4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C5A78-6928-4D7A-9B32-D2927C15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7F3D5-3D10-4CBD-96D3-54C8C280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2EE8-A753-4BE4-804F-F058A360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87E00-DC6A-4E8E-B087-E82AEC36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F2D7E-516D-443A-B903-35C712D87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A8C8E-41D2-4C3C-80FF-8A56C8FEF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A3EB71-F597-4E3D-A600-7AEC6F0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FFC49-019B-4481-9B1E-8AE0A917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F01B3-7023-473F-A679-FA3D9A24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3967A-FE17-4299-9F70-3AF121E5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FAC-B1EB-4D00-BBC2-DCFE7C78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8AD7C-844C-4F24-99BA-0811DFA8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2492F-FEE5-44D7-B665-BCECAE64F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57272-654B-4CAD-889B-C393FDE2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6F28F-7152-4262-858C-2D27C56B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74BE8-6A7C-4114-8E62-F30B3AD7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06514E-C7C2-495C-AEEC-2F44E6DEB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8703C-B14B-45F3-9284-F19F07AB9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357B9C-2D2C-4AC6-9A00-3080D0E9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C39C0-B5C4-477E-93EF-00127B40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562FD-0A00-48D8-9D9A-01B900BF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59B8-5EB7-4E85-A442-66C1F26AD6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       </a:t>
            </a:r>
            <a:fld id="{5DE62272-038A-4333-84A8-C3F2FDB2BE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A72B-7E9A-412C-9A47-DB48E049A2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1D8C-2E70-4419-AD35-A91A6A79C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DBE7-8AF6-45C3-AF79-2EF46D264F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EF2E-D3A5-4332-8A3B-4260051E1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FB64-9E6B-4C27-988D-4D9DDEFBC6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5CB-5237-4774-BE5D-07C81CF7C2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7B26-FAF6-47A4-8B4A-CD1913B96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F4C3-C423-4C81-B698-89D4E6C56F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3B51-DD61-4FF6-AFCC-559A4DFAD5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7397-7631-41F3-8118-7DB540E38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E798-EEB9-4E25-AE08-DBE70E5B19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0AF88-35ED-4EB9-B1A1-429807E31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4974-3932-4B3E-AD19-77E1B8A5F5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5612A-5024-4BB4-8D51-12D046CAC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A91C-17EF-4E02-B751-D6DB1FDA48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C24AE-3E18-4F2D-A8C7-9A84B2B79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6DC2-808B-4F6E-A6AD-C88A66C0AA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F04E-C9C2-40FB-8C0F-869DC01886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BE84-DA5B-4FDC-8CD9-7DA13FA163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C56A-6241-41AA-A9A2-787559E2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E038-6D79-4149-8B9B-467DEEE968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7/9/2015 ROS Mee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BD1C-5B05-4307-8651-69FACBC1D5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84888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lanning Geomagnetic Disturbance Task Force (PGDTF)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ovember 8, 20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Dylan Pre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PGDTF Ch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2EA0-CBBD-4A05-8DB5-6257C29A512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75960"/>
          </a:xfrm>
          <a:prstGeom prst="rect">
            <a:avLst/>
          </a:prstGeom>
          <a:noFill/>
          <a:ln w="0">
            <a:noFill/>
          </a:ln>
        </p:spPr>
        <p:txBody>
          <a:bodyPr tIns="30240" bIns="30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04560" y="120960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siness meeting was held on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October 10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th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Federal and State activities regarding G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as A&amp;M magnetometer project update expected in Nove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Vulnerability Assessment Event Descri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SP sharing –&gt; CenterPoint Energy presented their approa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ssion deadline to ERCOT is December 31,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l GIC Flows posted by ERC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liminary GIC flows posted by ERCOT on July 16, 20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SPs and REs provided comments to the preliminary GIC flow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ket notice to REs and TSPs on October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-&gt; final GIC flows pos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eets NERC TPL-007-1 R5 (due by Jan 1, 2019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808-53B2-4622-8733-75357E85B71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8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GDTF Mee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049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 update under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velopment of a “modeling expectations” doc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22 SSWG summer peak/min cas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pdate the GIC System models for the GMD Vulnerability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of the ERCOT GMD Vulnerability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 the PGDTF Sco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34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8/2018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764-5684-4FE8-9AB1-343E8770B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90440" y="324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coming PGDTF 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17120" y="1447920"/>
            <a:ext cx="769644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MD Vulnerability Event Descri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Scope up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C System Model Procedure Manu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22 GIC System Model case bui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COT GMD Vulnerabilit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061B-B24C-4D33-8950-D2FD23CDBB2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8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0440" y="519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736280"/>
            <a:ext cx="769608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DEF5-CFA7-4B56-8818-A2829D76DB1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8/2018 ROS Me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2" descr="question-mark3a.jpg"/>
          <p:cNvPicPr/>
          <p:nvPr/>
        </p:nvPicPr>
        <p:blipFill>
          <a:blip r:embed="rId1"/>
          <a:stretch/>
        </p:blipFill>
        <p:spPr>
          <a:xfrm>
            <a:off x="3236760" y="2206800"/>
            <a:ext cx="2670480" cy="33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dpreas</cp:lastModifiedBy>
  <dcterms:modified xsi:type="dcterms:W3CDTF">2018-11-01T17:36:01Z</dcterms:modified>
  <cp:revision>409</cp:revision>
  <dc:subject/>
  <dc:title>PGDTF Update to ROS</dc:title>
</cp:coreProperties>
</file>