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6CDD-87CA-40E6-84F4-FBE909B3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C671-0DE4-4882-8EC9-3AA7EE60C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B6F6-A96A-4049-B977-444ED20B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B8CB-632E-454F-B5E8-4A8383C5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89A2-4C56-489C-8A79-FD4AE657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BE9C-C8C2-4793-B8F8-C37812F9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92B-D983-4403-9F09-01A96833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F125-E61B-42F7-B4C2-74825F5C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6897-FBD9-4A42-82E4-B30E7175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E84A-68B7-45A8-BEA7-1E2B926C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8409-D611-44E0-B5DD-1E12911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3570-D5C5-4A39-9D4E-5353BDD3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7E33-3F28-4783-AF58-0CF6CC8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ABAC-75ED-4AA8-B93E-0EDB5D47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F3EC-7A85-4C81-9825-65D7767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60B3-710B-4F59-9730-612794C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938F-832F-4BA6-A3D2-1A9DAC5A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87F-6CAB-4D45-85CC-961C7BAE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99D8-C511-4E1C-82B5-2C6234B4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F94E-C874-4828-A2BB-6885D6FE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55BD-1FDC-435E-ABB7-9341294B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9D47-1696-4D8A-8072-1E705BB8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6A38-E63D-4395-B88C-A1A89AB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43FD-38C1-4843-818F-6ABBBF0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D2CF-8A8D-466A-916F-6E30AA6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BD57-07A0-4020-80D3-DA78E1AD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B87F-AFBC-48F1-8A10-BA376DAD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249C-13DE-4483-9672-364D862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18AD-C152-4376-ABC1-4108634F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D32A-415E-44A1-B09E-02C5D43C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00D2-D1B5-4B8C-A92B-794BB54C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FC56-556C-4D10-A2DB-69FD9A45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71BE-2E71-4D0F-9733-4EFF0207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573A-3A25-4B96-861A-63C7A75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EF50-1778-429A-B299-3C986D0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0F22-CEF5-4687-9085-8ADFD7F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CCB2-F26A-4CF5-BF16-C14C705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1D1F-821D-46CB-9EB0-6C04915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553-BFBA-421C-97AB-37735B10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9EE6-CC68-490B-BE79-CCA4F881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86D6-15CF-4068-81BB-D8006C0F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0A52-4E97-4043-A9BD-0081F511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5FAE-1B99-484A-ACB8-88E492864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October 16th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54EE-B20F-411F-A4F7-134B645D7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73160" y="1090440"/>
            <a:ext cx="879768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1295280" y="5516640"/>
            <a:ext cx="6115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8 Annual Validation process is complete.  All TDSPs have submitted 99% of required 814_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LPGRR065 &amp; NPRR881 Process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Content Placeholder 6" descr=""/>
          <p:cNvPicPr/>
          <p:nvPr/>
        </p:nvPicPr>
        <p:blipFill>
          <a:blip r:embed="rId1"/>
          <a:stretch/>
        </p:blipFill>
        <p:spPr>
          <a:xfrm>
            <a:off x="480960" y="3200400"/>
            <a:ext cx="7218360" cy="143820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CCB-583C-48EA-9F7C-E45C735D6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457200" y="5715000"/>
            <a:ext cx="8229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sions are expected to be approved by the Board at the December meeting.  If approved, the revisions will be effective 1/1/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extBox 7" descr=""/>
          <p:cNvPicPr/>
          <p:nvPr/>
        </p:nvPicPr>
        <p:blipFill>
          <a:blip r:embed="rId2"/>
          <a:stretch/>
        </p:blipFill>
        <p:spPr>
          <a:xfrm>
            <a:off x="347760" y="1163520"/>
            <a:ext cx="83390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15984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Understanding DG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564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DRR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ofiles and DG behind the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gain visibility into unregistered DG including those that self-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pulation is minimal of any BUSIDRRQ ESIs with DG that do not already have a RID reporting excess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n-BUSIDRR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ofiles with 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o gain an understanding on TDSP processes on the designation of DG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and TDSPs will clarify a list of questions to understand the TDSP processes in the designation of DG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.e. Is the DG profile assigned only if the customer intends to inject surplus back onto the gr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 DG profile assigned if an interconnection agreement is made with the customer at the premi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ADF-3AF7-4EDF-8B60-A40B8CB2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571680" y="1028880"/>
            <a:ext cx="8001000" cy="508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ember 4th,  1:00 PM (after 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Update of WS/NW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of DG load profile questions for the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Plan for 2019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2018 Accomplishments/2019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65CF-23AA-4C36-BB4F-7AEF1858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DAA7-DA02-45A8-9AF4-5232CCDA6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8-10-12T20:56:41Z</dcterms:modified>
  <cp:revision>1311</cp:revision>
  <dc:subject/>
  <dc:title>Instructions</dc:title>
</cp:coreProperties>
</file>