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076-4093-43E1-82CB-F7C94833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4E13-C90B-4819-9384-CDBEED1B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29E7-1449-433B-914D-C6D6366D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8299-3D8B-4B4D-8F5B-BECB827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3611-ACD9-4477-9530-45542C55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7135-5DA9-4E7F-92EF-0CAF03A0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AE8D-98BD-4B27-A21A-2E7163B2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2A99-8811-4779-A5E1-6CA9055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B75E-C49B-4B15-ACEF-E83B110B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5210-FE95-4AE7-BD22-F19BC58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D1F0-823B-42B6-B896-F69EC2FF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E614-0E37-48BE-9A3D-F353F990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F999-8D25-4C48-8035-8978EE1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10C8-72D0-473C-9D1F-C3111FF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228D-5308-4753-85C0-A68596B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8F36-2EC9-4482-AD6D-F7398EE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0E7-AEA7-402A-B372-D4B41D7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25C-BB37-4B48-886E-5ABABFC0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E91-98A3-41A6-93EA-452874F7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F10C-B7FC-4708-9A29-B8775678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ADE1-CF49-4A2B-8D9E-CC2810E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14B2-7DFD-40CD-B3FD-1347AFC9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1F3E-4903-42E7-BBFA-A088F8F5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D9CD-2EA4-4029-97A5-2742F1A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BE94-57E3-4351-A3A9-8FD26BEA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B3B9-7086-417C-8859-3F018E0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630E-EAA3-4FF1-9CD8-27F3D99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5DAC-9AF3-4249-B3D1-717B70E8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C0A8-2C44-44DF-9210-781BA48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764A-B26E-4CD7-8503-026DEE7A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2845-0D5E-4D36-BAE9-D94A0776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3050-EA72-456E-AB97-D594A776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D91E-B851-4935-8566-BB67E3BA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DEE7-2E27-4EF1-A66B-329CD25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56FA-5671-4DD4-9B63-96BED94C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C8BA-B86A-4C4B-B65A-E9B314F1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2015-A47D-467F-A0F6-0E2982D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E510-BFBD-4D33-AA77-9802213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190-E734-4AE4-A397-CC8486A4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0A5-3332-4F35-AF0B-C8996417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AD6F-BA1F-4788-99C4-237F0348B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911-213A-45B9-B73F-8326BC46F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96B-1D91-4599-9698-485F4410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August 14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Proposed LPGRR &amp; NPRR Process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Content Placeholder 6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7218360" cy="14382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59C-A700-4E2C-9BF5-5F141516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ments have been filed by Citigroup and ARM for RMS consid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57200" y="1219320"/>
            <a:ext cx="8229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oposed revisions to Annual Validation proces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SIs reviewed an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dential ESIs reviewed every 3 years  (all TDSPs to process same ye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oposed revision to the Business default profile from BUSMED to BUS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571680" y="1028880"/>
            <a:ext cx="8001000" cy="460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nt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WG meeting da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2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9:3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utstanding issues on proposed NPRR and LPG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f issues have been resolved on NPRR and LPGRR, next meeting will be October 9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WebEx only, 9:30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F5A-A204-461B-AA8D-0CD494352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5598-E7C8-494E-9CEE-D9EAC1F7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8-08-13T21:03:33Z</dcterms:modified>
  <cp:revision>1302</cp:revision>
  <dc:subject/>
  <dc:title>Instructions</dc:title>
</cp:coreProperties>
</file>